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37663"/>
  <p:custShowLst>
    <p:custShow name="Session 1" id="0">
      <p:sldLst>
        <p:sld r:id="rId6"/>
        <p:sld r:id="rId7"/>
        <p:sld r:id="rId8"/>
        <p:sld r:id="rId10"/>
        <p:sld r:id="rId11"/>
        <p:sld r:id="rId12"/>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971880" y="-360"/>
            <a:ext cx="303840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73920"/>
            <a:ext cx="3038400" cy="461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971880" y="8773920"/>
            <a:ext cx="30384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1EF0-4426-4297-A8AC-8EABD514BE4E}" type="slidenum">
              <a:rPr b="1" lang="en-GB"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9520" cy="3463920"/>
          </a:xfrm>
          <a:prstGeom prst="rect">
            <a:avLst/>
          </a:prstGeom>
          <a:ln w="0">
            <a:noFill/>
          </a:ln>
        </p:spPr>
      </p:sp>
      <p:sp>
        <p:nvSpPr>
          <p:cNvPr id="347"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l Armazón conceptual por Entender las Causas de Desnutrició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causas subyacentes:-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adecuada seguridad de comida de c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adecuado cuidado del ni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Falta de agua, latrinas y servicios publicos del salu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Causas inmediatas: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ieta inadecu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la infecció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5560" y="692280"/>
            <a:ext cx="4619520" cy="3463920"/>
          </a:xfrm>
          <a:prstGeom prst="rect">
            <a:avLst/>
          </a:prstGeom>
          <a:ln w="0">
            <a:noFill/>
          </a:ln>
        </p:spPr>
      </p:sp>
      <p:sp>
        <p:nvSpPr>
          <p:cNvPr id="349"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serum retinol is valid at a population level but does not diagnose levels accurately unless liver stores are depleted and in influenced by the presence of infection.  Retinol decreases during infections due to the acute phase respo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5560" y="692280"/>
            <a:ext cx="4619520" cy="3463920"/>
          </a:xfrm>
          <a:prstGeom prst="rect">
            <a:avLst/>
          </a:prstGeom>
          <a:ln w="0">
            <a:noFill/>
          </a:ln>
        </p:spPr>
      </p:sp>
      <p:sp>
        <p:nvSpPr>
          <p:cNvPr id="333"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Nutrition</a:t>
            </a:r>
            <a:r>
              <a:rPr b="1" lang="en-GB" sz="2400" spc="-1" strike="noStrike">
                <a:solidFill>
                  <a:srgbClr val="ffffff"/>
                </a:solidFill>
                <a:latin typeface="Arial"/>
              </a:rPr>
              <a:t>	</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comida y Nutrición</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s las personas y animales necesitan la comida para vivir, crecen y son salud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contiene tipos diferentes de nutr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contiene que ciertos nutrientes llamados el macro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gr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 hidrato de carbo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proteí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también contiene que los nutrientes llamados el micro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vitam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e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a dieta buena es hecho a de comidas que contienen todos estos tipos de nutrientes–el macronutrients y micronutr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9520" cy="3463920"/>
          </a:xfrm>
          <a:prstGeom prst="rect">
            <a:avLst/>
          </a:prstGeom>
          <a:ln w="0">
            <a:noFill/>
          </a:ln>
        </p:spPr>
      </p:sp>
      <p:sp>
        <p:nvSpPr>
          <p:cNvPr id="335"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s Requisitos nutri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 las personas para ser saludable y productivo ellos necesitan una cierta cantidad de nutrientes.  Esto se llama su requisito nutri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antidad de energía que las personas reciben de su comida es moderado en el kilo las calorías (k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media persona necesita aproximadamente 2100 kcal cada d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20% de esta energía deben venir de la gr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 lo menos 10% de esta energía deben venir de la proteí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personas también necesitan ciertas cantidades de vitaminas y mine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 ejemplo la media persona debe tener 12 mg del B vitamina niacin por lo menos, 28 mg de vitamina C, y 22 mg de hierro cada dí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95560" y="692280"/>
            <a:ext cx="4619520" cy="3463920"/>
          </a:xfrm>
          <a:prstGeom prst="rect">
            <a:avLst/>
          </a:prstGeom>
          <a:ln w="0">
            <a:noFill/>
          </a:ln>
        </p:spPr>
      </p:sp>
      <p:sp>
        <p:nvSpPr>
          <p:cNvPr id="337"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s deficiencias nutri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deficiencias nutritivas ocurren cuando la cantidad o calidad de comida no son suficientes satisfacer un necesidades de las perso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Energía de proteína (PEM) puede llevar a la delgadez aguda (gastando) o una término reducción larga en el crecimiento del niño (impidiendo el crecimiento de). Cuando el PEM es severo que puede llevar a Marasmo o Kwashiorkor.  Normalmente este tipo de desnutrición se causa por una deficiencia en macronutrients y " micronutrients. </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Micronutrient puede ocurrir aun cuando la persona está consiguiendo bastante energía y ellos no están delgados o calzón.  Normalmente se causa por una deficiencia en uno o un número pequeño de micronutrients específic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5560" y="692280"/>
            <a:ext cx="4619520" cy="3463920"/>
          </a:xfrm>
          <a:prstGeom prst="rect">
            <a:avLst/>
          </a:prstGeom>
          <a:ln w="0">
            <a:noFill/>
          </a:ln>
        </p:spPr>
      </p:sp>
      <p:sp>
        <p:nvSpPr>
          <p:cNvPr id="339"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s deficiencias nutri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deficiencias nutritivas ocurren cuando la cantidad o calidad de comida no son suficientes satisfacer un necesidades de las perso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Energía de proteína (PEM) puede llevar a la delgadez aguda (gastando) o una término reducción larga en el crecimiento del niño (impidiendo el crecimiento de). Cuando el PEM es severo que puede llevar a Marasmo o Kwashiorkor.  Normalmente este tipo de desnutrición se causa por una deficiencia en macronutrients y " micronutrients. </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Micronutrient puede ocurrir aun cuando la persona está consiguiendo bastante energía y ellos no están delgados o calzón.  Normalmente se causa por una deficiencia en uno o un número pequeño de micronutrients específi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5560" y="692280"/>
            <a:ext cx="4619520" cy="3463920"/>
          </a:xfrm>
          <a:prstGeom prst="rect">
            <a:avLst/>
          </a:prstGeom>
          <a:ln w="0">
            <a:noFill/>
          </a:ln>
        </p:spPr>
      </p:sp>
      <p:sp>
        <p:nvSpPr>
          <p:cNvPr id="341"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icronutrient Deficiencia Enfermeda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enfermedades como la anemia, escorbuto y la pelagra se causa por las deficiencias en el micronutrients.  Ellos pueden ser muy serios y las personas pueden morirse como resu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ted no puede coger estas enfermedades de ser casi alguien que es afectado pero usted los conseguirá si su succión nutriente no es sufi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as personas en el mundo padecen las deficiencias del micronutrient y la anemia es el más comú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 importante poder descubrir y medir cuántas personas tienen estos problemas para que puedan darse las personas la información adelante cómo intentar y mejorar su situación, y pueden adaptarse salud y programas de la nutrición intentar y ayud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95560" y="692280"/>
            <a:ext cx="4619520" cy="3463920"/>
          </a:xfrm>
          <a:prstGeom prst="rect">
            <a:avLst/>
          </a:prstGeom>
          <a:ln w="0">
            <a:noFill/>
          </a:ln>
        </p:spPr>
      </p:sp>
      <p:sp>
        <p:nvSpPr>
          <p:cNvPr id="343"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sessments/Surveys nutri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 diseñan las valoraciones de la nutrición para averiguar sobre los problemas de la nutrición.  Ellos pueden involucrar a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ntrando fuera sobre dónde la comida se obtiene, quién tiene el acceso a la comida y quién no hace, y cómo se u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sando y midiendo a las personas para ver si ellos son la deuda demasiado delgada o demasiado corta a la falta de comi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rando a las personas para ver si ellos tienen señales de deficiencias nutr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estras tomando de orina o sangre para probar cuántas personas de los nutrientes tien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5560" y="692280"/>
            <a:ext cx="4619520" cy="3463920"/>
          </a:xfrm>
          <a:prstGeom prst="rect">
            <a:avLst/>
          </a:prstGeom>
          <a:ln w="0">
            <a:noFill/>
          </a:ln>
        </p:spPr>
      </p:sp>
      <p:sp>
        <p:nvSpPr>
          <p:cNvPr id="345"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s Problemas de Micronutrient evaluando</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o el personal de salud y miembros de equipos del estudio deben poder reconocer las deficiencias nutritivas bás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ede ser muy difícil de reconocer las señales de un poco de deficiencias que son una razón por qué a veces es necesario coleccionar las muestras de sangre u orina por pro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odas las personas que son deficientes mostrarán las señales clín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valoraciones de la nutrición pueden llevarse a cabo como la parte de cuidado de salud rutinario o durante los estudios.  Ellos pueden ayudar entender el estando debajo de y causas inmediatas de desnutrició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81680" y="6400800"/>
            <a:ext cx="1676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6400800" y="6324480"/>
            <a:ext cx="26668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
            <a:hlinkClick r:id="" action="ppaction://hlinkshowjump?jump=nextslide"/>
          </p:cNvPr>
          <p:cNvSpPr/>
          <p:nvPr/>
        </p:nvSpPr>
        <p:spPr>
          <a:xfrm>
            <a:off x="8153280" y="60199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7.xml"/><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320" y="6480"/>
            <a:ext cx="921996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0"/>
            <a:ext cx="3556080" cy="6851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2280" y="1371600"/>
            <a:ext cx="7051680" cy="1752480"/>
          </a:xfrm>
          <a:custGeom>
            <a:avLst/>
            <a:gdLst/>
            <a:ahLst/>
            <a:rect l="l" t="t" r="r" b="b"/>
            <a:pathLst>
              <a:path w="4368" h="1104">
                <a:moveTo>
                  <a:pt x="552" y="0"/>
                </a:moveTo>
                <a:lnTo>
                  <a:pt x="496" y="2"/>
                </a:lnTo>
                <a:lnTo>
                  <a:pt x="442" y="12"/>
                </a:lnTo>
                <a:lnTo>
                  <a:pt x="388" y="24"/>
                </a:lnTo>
                <a:lnTo>
                  <a:pt x="338" y="44"/>
                </a:lnTo>
                <a:lnTo>
                  <a:pt x="290" y="66"/>
                </a:lnTo>
                <a:lnTo>
                  <a:pt x="244" y="94"/>
                </a:lnTo>
                <a:lnTo>
                  <a:pt x="202" y="126"/>
                </a:lnTo>
                <a:lnTo>
                  <a:pt x="162" y="162"/>
                </a:lnTo>
                <a:lnTo>
                  <a:pt x="126" y="202"/>
                </a:lnTo>
                <a:lnTo>
                  <a:pt x="94" y="244"/>
                </a:lnTo>
                <a:lnTo>
                  <a:pt x="66" y="290"/>
                </a:lnTo>
                <a:lnTo>
                  <a:pt x="44" y="338"/>
                </a:lnTo>
                <a:lnTo>
                  <a:pt x="24" y="388"/>
                </a:lnTo>
                <a:lnTo>
                  <a:pt x="12" y="442"/>
                </a:lnTo>
                <a:lnTo>
                  <a:pt x="2" y="496"/>
                </a:lnTo>
                <a:lnTo>
                  <a:pt x="0" y="552"/>
                </a:lnTo>
                <a:lnTo>
                  <a:pt x="2" y="608"/>
                </a:lnTo>
                <a:lnTo>
                  <a:pt x="12" y="664"/>
                </a:lnTo>
                <a:lnTo>
                  <a:pt x="24" y="716"/>
                </a:lnTo>
                <a:lnTo>
                  <a:pt x="44" y="766"/>
                </a:lnTo>
                <a:lnTo>
                  <a:pt x="66" y="814"/>
                </a:lnTo>
                <a:lnTo>
                  <a:pt x="94" y="860"/>
                </a:lnTo>
                <a:lnTo>
                  <a:pt x="126" y="902"/>
                </a:lnTo>
                <a:lnTo>
                  <a:pt x="162" y="942"/>
                </a:lnTo>
                <a:lnTo>
                  <a:pt x="202" y="978"/>
                </a:lnTo>
                <a:lnTo>
                  <a:pt x="244" y="1010"/>
                </a:lnTo>
                <a:lnTo>
                  <a:pt x="290" y="1038"/>
                </a:lnTo>
                <a:lnTo>
                  <a:pt x="338" y="1060"/>
                </a:lnTo>
                <a:lnTo>
                  <a:pt x="388" y="1080"/>
                </a:lnTo>
                <a:lnTo>
                  <a:pt x="442" y="1092"/>
                </a:lnTo>
                <a:lnTo>
                  <a:pt x="496" y="1102"/>
                </a:lnTo>
                <a:lnTo>
                  <a:pt x="552" y="1104"/>
                </a:lnTo>
                <a:lnTo>
                  <a:pt x="3816" y="1104"/>
                </a:lnTo>
                <a:lnTo>
                  <a:pt x="3872" y="1102"/>
                </a:lnTo>
                <a:lnTo>
                  <a:pt x="3928" y="1092"/>
                </a:lnTo>
                <a:lnTo>
                  <a:pt x="3980" y="1080"/>
                </a:lnTo>
                <a:lnTo>
                  <a:pt x="4030" y="1060"/>
                </a:lnTo>
                <a:lnTo>
                  <a:pt x="4078" y="1038"/>
                </a:lnTo>
                <a:lnTo>
                  <a:pt x="4124" y="1010"/>
                </a:lnTo>
                <a:lnTo>
                  <a:pt x="4166" y="978"/>
                </a:lnTo>
                <a:lnTo>
                  <a:pt x="4206" y="942"/>
                </a:lnTo>
                <a:lnTo>
                  <a:pt x="4242" y="902"/>
                </a:lnTo>
                <a:lnTo>
                  <a:pt x="4274" y="860"/>
                </a:lnTo>
                <a:lnTo>
                  <a:pt x="4302" y="814"/>
                </a:lnTo>
                <a:lnTo>
                  <a:pt x="4324" y="766"/>
                </a:lnTo>
                <a:lnTo>
                  <a:pt x="4344" y="716"/>
                </a:lnTo>
                <a:lnTo>
                  <a:pt x="4356" y="664"/>
                </a:lnTo>
                <a:lnTo>
                  <a:pt x="4366" y="608"/>
                </a:lnTo>
                <a:lnTo>
                  <a:pt x="4368" y="552"/>
                </a:lnTo>
                <a:lnTo>
                  <a:pt x="4366" y="496"/>
                </a:lnTo>
                <a:lnTo>
                  <a:pt x="4356" y="442"/>
                </a:lnTo>
                <a:lnTo>
                  <a:pt x="4344" y="388"/>
                </a:lnTo>
                <a:lnTo>
                  <a:pt x="4324" y="338"/>
                </a:lnTo>
                <a:lnTo>
                  <a:pt x="4302" y="290"/>
                </a:lnTo>
                <a:lnTo>
                  <a:pt x="4274" y="244"/>
                </a:lnTo>
                <a:lnTo>
                  <a:pt x="4242" y="202"/>
                </a:lnTo>
                <a:lnTo>
                  <a:pt x="4206" y="162"/>
                </a:lnTo>
                <a:lnTo>
                  <a:pt x="4166" y="126"/>
                </a:lnTo>
                <a:lnTo>
                  <a:pt x="4124" y="94"/>
                </a:lnTo>
                <a:lnTo>
                  <a:pt x="4078" y="66"/>
                </a:lnTo>
                <a:lnTo>
                  <a:pt x="4030" y="44"/>
                </a:lnTo>
                <a:lnTo>
                  <a:pt x="3980" y="24"/>
                </a:lnTo>
                <a:lnTo>
                  <a:pt x="3928" y="12"/>
                </a:lnTo>
                <a:lnTo>
                  <a:pt x="3872" y="2"/>
                </a:lnTo>
                <a:lnTo>
                  <a:pt x="3816" y="0"/>
                </a:lnTo>
                <a:lnTo>
                  <a:pt x="55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3680" y="1495440"/>
            <a:ext cx="6356160" cy="155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70840" y="1555920"/>
            <a:ext cx="386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cronutrient Malnutrition </a:t>
            </a:r>
            <a:endParaRPr b="0" lang="en-US" sz="2400" spc="-1" strike="noStrike">
              <a:solidFill>
                <a:srgbClr val="000000"/>
              </a:solidFill>
              <a:latin typeface="Times New Roman"/>
            </a:endParaRPr>
          </a:p>
        </p:txBody>
      </p:sp>
      <p:sp>
        <p:nvSpPr>
          <p:cNvPr id="54" name=""/>
          <p:cNvSpPr/>
          <p:nvPr/>
        </p:nvSpPr>
        <p:spPr>
          <a:xfrm>
            <a:off x="4765680" y="1555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55" name=""/>
          <p:cNvSpPr/>
          <p:nvPr/>
        </p:nvSpPr>
        <p:spPr>
          <a:xfrm>
            <a:off x="5059800" y="1555920"/>
            <a:ext cx="1559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tection, </a:t>
            </a:r>
            <a:endParaRPr b="0" lang="en-US" sz="2400" spc="-1" strike="noStrike">
              <a:solidFill>
                <a:srgbClr val="000000"/>
              </a:solidFill>
              <a:latin typeface="Times New Roman"/>
            </a:endParaRPr>
          </a:p>
        </p:txBody>
      </p:sp>
      <p:sp>
        <p:nvSpPr>
          <p:cNvPr id="56" name=""/>
          <p:cNvSpPr/>
          <p:nvPr/>
        </p:nvSpPr>
        <p:spPr>
          <a:xfrm>
            <a:off x="1414080" y="1920960"/>
            <a:ext cx="460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ment and Intervention: </a:t>
            </a:r>
            <a:endParaRPr b="0" lang="en-US" sz="2400" spc="-1" strike="noStrike">
              <a:solidFill>
                <a:srgbClr val="000000"/>
              </a:solidFill>
              <a:latin typeface="Times New Roman"/>
            </a:endParaRPr>
          </a:p>
        </p:txBody>
      </p:sp>
      <p:sp>
        <p:nvSpPr>
          <p:cNvPr id="57" name=""/>
          <p:cNvSpPr/>
          <p:nvPr/>
        </p:nvSpPr>
        <p:spPr>
          <a:xfrm>
            <a:off x="1238040" y="2292480"/>
            <a:ext cx="48805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Training Package for Field Sta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58" name=""/>
          <p:cNvSpPr/>
          <p:nvPr/>
        </p:nvSpPr>
        <p:spPr>
          <a:xfrm>
            <a:off x="2641680" y="26510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1040" y="3933720"/>
            <a:ext cx="2714760" cy="13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57600" y="3987720"/>
            <a:ext cx="1436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piled by the </a:t>
            </a:r>
            <a:endParaRPr b="0" lang="en-US" sz="1400" spc="-1" strike="noStrike">
              <a:solidFill>
                <a:srgbClr val="000000"/>
              </a:solidFill>
              <a:latin typeface="Times New Roman"/>
            </a:endParaRPr>
          </a:p>
        </p:txBody>
      </p:sp>
      <p:sp>
        <p:nvSpPr>
          <p:cNvPr id="61" name=""/>
          <p:cNvSpPr/>
          <p:nvPr/>
        </p:nvSpPr>
        <p:spPr>
          <a:xfrm>
            <a:off x="658440" y="4200480"/>
            <a:ext cx="205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stitute of Child Health </a:t>
            </a:r>
            <a:endParaRPr b="0" lang="en-US" sz="1400" spc="-1" strike="noStrike">
              <a:solidFill>
                <a:srgbClr val="000000"/>
              </a:solidFill>
              <a:latin typeface="Times New Roman"/>
            </a:endParaRPr>
          </a:p>
        </p:txBody>
      </p:sp>
      <p:sp>
        <p:nvSpPr>
          <p:cNvPr id="62" name=""/>
          <p:cNvSpPr/>
          <p:nvPr/>
        </p:nvSpPr>
        <p:spPr>
          <a:xfrm>
            <a:off x="1168560" y="4435560"/>
            <a:ext cx="97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UNHCR</a:t>
            </a:r>
            <a:endParaRPr b="0" lang="en-US" sz="1400" spc="-1" strike="noStrike">
              <a:solidFill>
                <a:srgbClr val="000000"/>
              </a:solidFill>
              <a:latin typeface="Times New Roman"/>
            </a:endParaRPr>
          </a:p>
        </p:txBody>
      </p:sp>
      <p:graphicFrame>
        <p:nvGraphicFramePr>
          <p:cNvPr id="63" name=""/>
          <p:cNvGraphicFramePr/>
          <p:nvPr/>
        </p:nvGraphicFramePr>
        <p:xfrm>
          <a:off x="266760" y="6254640"/>
          <a:ext cx="425520" cy="420840"/>
        </p:xfrm>
        <a:graphic>
          <a:graphicData uri="http://schemas.openxmlformats.org/presentationml/2006/ole">
            <p:oleObj r:id="rId1" spid="">
              <p:embed/>
              <p:pic>
                <p:nvPicPr>
                  <p:cNvPr id="64" name="" descr=""/>
                  <p:cNvPicPr/>
                  <p:nvPr/>
                </p:nvPicPr>
                <p:blipFill>
                  <a:blip r:embed="rId2"/>
                  <a:stretch/>
                </p:blipFill>
                <p:spPr>
                  <a:xfrm>
                    <a:off x="266760" y="6254640"/>
                    <a:ext cx="425520" cy="420840"/>
                  </a:xfrm>
                  <a:prstGeom prst="rect">
                    <a:avLst/>
                  </a:prstGeom>
                  <a:ln w="0">
                    <a:noFill/>
                  </a:ln>
                </p:spPr>
              </p:pic>
            </p:oleObj>
          </a:graphicData>
        </a:graphic>
      </p:graphicFrame>
      <p:graphicFrame>
        <p:nvGraphicFramePr>
          <p:cNvPr id="65" name=""/>
          <p:cNvGraphicFramePr/>
          <p:nvPr/>
        </p:nvGraphicFramePr>
        <p:xfrm>
          <a:off x="882720" y="6254640"/>
          <a:ext cx="423720" cy="412920"/>
        </p:xfrm>
        <a:graphic>
          <a:graphicData uri="http://schemas.openxmlformats.org/presentationml/2006/ole">
            <p:oleObj r:id="rId3" spid="">
              <p:embed/>
              <p:pic>
                <p:nvPicPr>
                  <p:cNvPr id="66" name="" descr=""/>
                  <p:cNvPicPr/>
                  <p:nvPr/>
                </p:nvPicPr>
                <p:blipFill>
                  <a:blip r:embed="rId4"/>
                  <a:stretch/>
                </p:blipFill>
                <p:spPr>
                  <a:xfrm>
                    <a:off x="882720" y="6254640"/>
                    <a:ext cx="423720" cy="412920"/>
                  </a:xfrm>
                  <a:prstGeom prst="rect">
                    <a:avLst/>
                  </a:prstGeom>
                  <a:ln w="0">
                    <a:noFill/>
                  </a:ln>
                </p:spPr>
              </p:pic>
            </p:oleObj>
          </a:graphicData>
        </a:graphic>
      </p:graphicFrame>
      <p:sp>
        <p:nvSpPr>
          <p:cNvPr id="67" name=""/>
          <p:cNvSpPr/>
          <p:nvPr/>
        </p:nvSpPr>
        <p:spPr>
          <a:xfrm>
            <a:off x="4419720" y="40384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outs for Group Training</a:t>
            </a:r>
            <a:endParaRPr b="0" lang="en-US" sz="2400" spc="-1" strike="noStrike">
              <a:solidFill>
                <a:srgbClr val="000000"/>
              </a:solidFill>
              <a:latin typeface="Times New Roman"/>
            </a:endParaRPr>
          </a:p>
        </p:txBody>
      </p:sp>
      <p:sp>
        <p:nvSpPr>
          <p:cNvPr id="68" name=""/>
          <p:cNvSpPr/>
          <p:nvPr/>
        </p:nvSpPr>
        <p:spPr>
          <a:xfrm>
            <a:off x="16002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sion 1 2003</a:t>
            </a:r>
            <a:endParaRPr b="0" lang="en-US" sz="1400" spc="-1" strike="noStrike">
              <a:solidFill>
                <a:srgbClr val="000000"/>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uses of Malnutrition</a:t>
            </a:r>
            <a:endParaRPr b="0" lang="en-US" sz="2400" spc="-1" strike="noStrike">
              <a:solidFill>
                <a:srgbClr val="000000"/>
              </a:solidFill>
              <a:latin typeface="Times New Roman"/>
            </a:endParaRPr>
          </a:p>
        </p:txBody>
      </p:sp>
      <p:graphicFrame>
        <p:nvGraphicFramePr>
          <p:cNvPr id="117" name=""/>
          <p:cNvGraphicFramePr/>
          <p:nvPr/>
        </p:nvGraphicFramePr>
        <p:xfrm>
          <a:off x="992160" y="1219320"/>
          <a:ext cx="7159680" cy="4876560"/>
        </p:xfrm>
        <a:graphic>
          <a:graphicData uri="http://schemas.openxmlformats.org/presentationml/2006/ole">
            <p:oleObj r:id="rId1" spid="">
              <p:embed/>
              <p:pic>
                <p:nvPicPr>
                  <p:cNvPr id="118" name="" descr=""/>
                  <p:cNvPicPr/>
                  <p:nvPr/>
                </p:nvPicPr>
                <p:blipFill>
                  <a:blip r:embed="rId2"/>
                  <a:stretch/>
                </p:blipFill>
                <p:spPr>
                  <a:xfrm>
                    <a:off x="992160" y="1219320"/>
                    <a:ext cx="7159680" cy="4876560"/>
                  </a:xfrm>
                  <a:prstGeom prst="rect">
                    <a:avLst/>
                  </a:prstGeom>
                  <a:ln w="0">
                    <a:noFill/>
                  </a:ln>
                </p:spPr>
              </p:pic>
            </p:oleObj>
          </a:graphicData>
        </a:graphic>
      </p:graphicFrame>
      <p:sp>
        <p:nvSpPr>
          <p:cNvPr id="11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2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AFEF-2EB1-43DC-9DFD-E65288B720A4}"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utrient Deficiency Diseases</a:t>
            </a:r>
            <a:endParaRPr b="0" lang="en-US" sz="2400" spc="-1" strike="noStrike">
              <a:solidFill>
                <a:srgbClr val="000000"/>
              </a:solidFill>
              <a:latin typeface="Times New Roman"/>
            </a:endParaRPr>
          </a:p>
        </p:txBody>
      </p:sp>
      <p:sp>
        <p:nvSpPr>
          <p:cNvPr id="12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24"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2000" spc="-1" strike="noStrike">
                <a:solidFill>
                  <a:srgbClr val="000000"/>
                </a:solidFill>
                <a:latin typeface="Arial"/>
                <a:ea typeface="Times New Roman"/>
              </a:rPr>
              <a:t>We are going to look at the following diseases that are caused by nutritional deficiencie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i="1" lang="en-GB" sz="2000" spc="-1" strike="noStrike">
                <a:solidFill>
                  <a:srgbClr val="000000"/>
                </a:solidFill>
                <a:latin typeface="Arial"/>
                <a:ea typeface="Times New Roman"/>
              </a:rPr>
              <a:t>Disease</a:t>
            </a:r>
            <a:r>
              <a:rPr b="1" lang="en-GB" sz="2000" spc="-1" strike="noStrike">
                <a:solidFill>
                  <a:srgbClr val="000000"/>
                </a:solidFill>
                <a:latin typeface="Arial"/>
                <a:ea typeface="Times New Roman"/>
              </a:rPr>
              <a:t>:</a:t>
            </a: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i="1" lang="en-GB" sz="2000" spc="-1" strike="noStrike">
                <a:solidFill>
                  <a:srgbClr val="000000"/>
                </a:solidFill>
                <a:latin typeface="Arial"/>
                <a:ea typeface="Times New Roman"/>
              </a:rPr>
              <a:t>Deficient Nutrient:</a:t>
            </a:r>
            <a:endParaRPr b="0" lang="en-US" sz="20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naemi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iro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Xeropthalmi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A</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odine deficiency disorder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iodine</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iberi</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hiamine</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Pellagr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niaci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curvy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C</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riboflavinosi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riboflavi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icket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D</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1800" spc="-1" strike="noStrike">
                <a:solidFill>
                  <a:srgbClr val="000000"/>
                </a:solidFill>
                <a:latin typeface="Arial"/>
                <a:ea typeface="Times New Roman"/>
              </a:rPr>
              <a:t>For each disease we will look at how people get it, how it affects them, how we can recognise it, and what can be done about it.</a:t>
            </a: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83AC-8312-4035-915A-4E76F7EDD7E1}"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1 </a:t>
            </a: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2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lood contains:</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d blood cell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ite blood cell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lasma</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latelets</a:t>
            </a:r>
            <a:endParaRPr b="0" lang="en-US" sz="1800" spc="-1" strike="noStrike">
              <a:solidFill>
                <a:srgbClr val="000000"/>
              </a:solidFill>
              <a:latin typeface="Times New Roman"/>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aemoglobin is found in red blood cells and gives them their colour.  It carries most of the oxygen in the body.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emia is a fall in the level of haemoglobin below the normal (reference) leve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people become anaemic they don’t get enough oxygen to their body and they can become weak and short of breath.</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3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2CB4-FDE7-40C2-94E8-EA50905B2DB3}"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2 </a:t>
            </a:r>
            <a:endParaRPr b="0" lang="en-US" sz="2400" spc="-1" strike="noStrike">
              <a:solidFill>
                <a:srgbClr val="000000"/>
              </a:solidFill>
              <a:latin typeface="Times New Roman"/>
            </a:endParaRPr>
          </a:p>
        </p:txBody>
      </p:sp>
      <p:sp>
        <p:nvSpPr>
          <p:cNvPr id="13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emia can be caused by: </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ss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reased </a:t>
            </a:r>
            <a:r>
              <a:rPr b="1" i="1" lang="en-GB" sz="2000" spc="-1" strike="noStrike">
                <a:solidFill>
                  <a:srgbClr val="000000"/>
                </a:solidFill>
                <a:latin typeface="Arial"/>
              </a:rPr>
              <a:t>production</a:t>
            </a:r>
            <a:r>
              <a:rPr b="1" lang="en-GB" sz="2000" spc="-1" strike="noStrike">
                <a:solidFill>
                  <a:srgbClr val="000000"/>
                </a:solidFill>
                <a:latin typeface="Arial"/>
              </a:rPr>
              <a:t>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a:t>
            </a:r>
            <a:r>
              <a:rPr b="1" i="1" lang="en-GB" sz="2000" spc="-1" strike="noStrike">
                <a:solidFill>
                  <a:srgbClr val="000000"/>
                </a:solidFill>
                <a:latin typeface="Arial"/>
              </a:rPr>
              <a:t>destruction</a:t>
            </a:r>
            <a:r>
              <a:rPr b="1" lang="en-GB" sz="2000" spc="-1" strike="noStrike">
                <a:solidFill>
                  <a:srgbClr val="000000"/>
                </a:solidFill>
                <a:latin typeface="Arial"/>
              </a:rPr>
              <a:t>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Children, pregnant women, and adolescents are the most likely to suffer from anaemia.</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3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2F9E-1CA4-46C0-905D-912344CB96C3}"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3</a:t>
            </a:r>
            <a:endParaRPr b="0" lang="en-US" sz="2400" spc="-1" strike="noStrike">
              <a:solidFill>
                <a:srgbClr val="000000"/>
              </a:solidFill>
              <a:latin typeface="Times New Roman"/>
            </a:endParaRPr>
          </a:p>
        </p:txBody>
      </p:sp>
      <p:sp>
        <p:nvSpPr>
          <p:cNvPr id="13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od loss can occur </a:t>
            </a:r>
            <a:r>
              <a:rPr b="1" i="1" lang="en-GB" sz="2000" spc="-1" strike="noStrike">
                <a:solidFill>
                  <a:srgbClr val="000000"/>
                </a:solidFill>
                <a:latin typeface="Arial"/>
              </a:rPr>
              <a:t>suddenly</a:t>
            </a:r>
            <a:r>
              <a:rPr b="1" lang="en-GB" sz="2000" spc="-1" strike="noStrike">
                <a:solidFill>
                  <a:srgbClr val="000000"/>
                </a:solidFill>
                <a:latin typeface="Arial"/>
              </a:rPr>
              <a:t> due to child birth or an accident </a:t>
            </a:r>
            <a:r>
              <a:rPr b="1" lang="en-GB" sz="2000" spc="-1" strike="noStrike" u="sng">
                <a:solidFill>
                  <a:srgbClr val="000000"/>
                </a:solidFill>
                <a:uFillTx/>
                <a:latin typeface="Arial"/>
              </a:rPr>
              <a:t>or</a:t>
            </a:r>
            <a:r>
              <a:rPr b="1" lang="en-GB" sz="2000" spc="-1" strike="noStrike">
                <a:solidFill>
                  <a:srgbClr val="000000"/>
                </a:solidFill>
                <a:latin typeface="Arial"/>
              </a:rPr>
              <a:t> </a:t>
            </a:r>
            <a:r>
              <a:rPr b="1" i="1" lang="en-GB" sz="2000" spc="-1" strike="noStrike">
                <a:solidFill>
                  <a:srgbClr val="000000"/>
                </a:solidFill>
                <a:latin typeface="Arial"/>
              </a:rPr>
              <a:t>over a long time</a:t>
            </a:r>
            <a:r>
              <a:rPr b="1" lang="en-GB" sz="2000" spc="-1" strike="noStrike">
                <a:solidFill>
                  <a:srgbClr val="000000"/>
                </a:solidFill>
                <a:latin typeface="Arial"/>
              </a:rPr>
              <a:t> such as through menstrua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can also happen due to parasite infections such as hookworm or schistosomiasis (bilharz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reased production of red blood cells can occur for several reasons including:</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tritional deficiencies</a:t>
            </a:r>
            <a:endParaRPr b="0" lang="en-US" sz="18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ections such as TB and HIV</a:t>
            </a:r>
            <a:endParaRPr b="0" lang="en-US" sz="18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destruction of red blood cells can happen due to sickle cell disease, malaria infection and other cause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4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12DE-668B-4E59-B1B2-79310098B58D}"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4</a:t>
            </a:r>
            <a:endParaRPr b="0" lang="en-US" sz="2400" spc="-1" strike="noStrike">
              <a:solidFill>
                <a:srgbClr val="000000"/>
              </a:solidFill>
              <a:latin typeface="Times New Roman"/>
            </a:endParaRPr>
          </a:p>
        </p:txBody>
      </p:sp>
      <p:sp>
        <p:nvSpPr>
          <p:cNvPr id="14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body needs many different nutrients to make blood. Deficiency in any of these can cause anaemia:</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ost common nutrient deficiencies that  cause anaemia are: </a:t>
            </a:r>
            <a:endParaRPr b="0" lang="en-US" sz="20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on</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ate</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tamin B12</a:t>
            </a: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important nutrients for preventing anaemia include: protein,vitamins A, C, and E, copper, riboflavin, and pyridoxine (Vitamin B6)</a:t>
            </a:r>
            <a:endParaRPr b="0" lang="en-US" sz="2000" spc="-1" strike="noStrike">
              <a:solidFill>
                <a:srgbClr val="000000"/>
              </a:solidFill>
              <a:latin typeface="Times New Roman"/>
            </a:endParaRPr>
          </a:p>
        </p:txBody>
      </p:sp>
      <p:sp>
        <p:nvSpPr>
          <p:cNvPr id="14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4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552A-2B91-42E5-93AD-4608B07C935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5</a:t>
            </a:r>
            <a:endParaRPr b="0" lang="en-US" sz="2400" spc="-1" strike="noStrike">
              <a:solidFill>
                <a:srgbClr val="000000"/>
              </a:solidFill>
              <a:latin typeface="Times New Roman"/>
            </a:endParaRPr>
          </a:p>
        </p:txBody>
      </p:sp>
      <p:sp>
        <p:nvSpPr>
          <p:cNvPr id="14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ods that are rich in iron include:</a:t>
            </a:r>
            <a:endParaRPr b="0" lang="en-US" sz="20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t</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tified cereal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nded food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hew nut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ntils</a:t>
            </a:r>
            <a:endParaRPr b="0" lang="en-US" sz="1800" spc="-1" strike="noStrike">
              <a:solidFill>
                <a:srgbClr val="000000"/>
              </a:solidFill>
              <a:latin typeface="Times New Roman"/>
            </a:endParaRPr>
          </a:p>
          <a:p>
            <a:pPr lvl="1" marL="863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rinking tea with food can reduce the amount of iron that is absorbed by the body and lead to an increased risk of anaemia. </a:t>
            </a:r>
            <a:endParaRPr b="0" lang="en-US" sz="1800" spc="-1" strike="noStrike">
              <a:solidFill>
                <a:srgbClr val="000000"/>
              </a:solidFill>
              <a:latin typeface="Times New Roman"/>
            </a:endParaRPr>
          </a:p>
        </p:txBody>
      </p:sp>
      <p:sp>
        <p:nvSpPr>
          <p:cNvPr id="14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5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BD1B-2FE5-4389-A3E6-BF55C9E0CA2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6</a:t>
            </a:r>
            <a:endParaRPr b="0" lang="en-US" sz="2400" spc="-1" strike="noStrike">
              <a:solidFill>
                <a:srgbClr val="000000"/>
              </a:solidFill>
              <a:latin typeface="Times New Roman"/>
            </a:endParaRPr>
          </a:p>
        </p:txBody>
      </p:sp>
      <p:sp>
        <p:nvSpPr>
          <p:cNvPr id="15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aemia can cause the following problem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igu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intnes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dach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likely to get infecti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aired childhood developmen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d maternal morbidity and mortalit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d work capacit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d incidence of low birth weigh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5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EC47-FCC5-4451-8C00-7899188E858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7</a:t>
            </a:r>
            <a:endParaRPr b="0" lang="en-US" sz="2400" spc="-1" strike="noStrike">
              <a:solidFill>
                <a:srgbClr val="000000"/>
              </a:solidFill>
              <a:latin typeface="Times New Roman"/>
            </a:endParaRPr>
          </a:p>
        </p:txBody>
      </p:sp>
      <p:sp>
        <p:nvSpPr>
          <p:cNvPr id="158" name="PlaceHolder 1"/>
          <p:cNvSpPr>
            <a:spLocks noGrp="1"/>
          </p:cNvSpPr>
          <p:nvPr>
            <p:ph/>
          </p:nvPr>
        </p:nvSpPr>
        <p:spPr>
          <a:xfrm>
            <a:off x="685440" y="990720"/>
            <a:ext cx="7924680" cy="57909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emia can be detected by testing the blood or by observing how someone looks (clinical signs).  Pallor (pale colour) is the main sign to look for.  It can affect th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junctiva</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ngue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ms of the hands</a:t>
            </a:r>
            <a:endParaRPr b="0" lang="en-US" sz="1800" spc="-1" strike="noStrike">
              <a:solidFill>
                <a:srgbClr val="000000"/>
              </a:solidFill>
              <a:latin typeface="Times New Roman"/>
            </a:endParaRPr>
          </a:p>
          <a:p>
            <a:pPr lvl="3" marL="860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60" name=""/>
          <p:cNvSpPr/>
          <p:nvPr/>
        </p:nvSpPr>
        <p:spPr>
          <a:xfrm>
            <a:off x="8077320" y="3124080"/>
            <a:ext cx="6858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a:hlinkClick r:id="rId1" action="ppaction://hlinksldjump"/>
          </p:cNvPr>
          <p:cNvSpPr/>
          <p:nvPr/>
        </p:nvSpPr>
        <p:spPr>
          <a:xfrm>
            <a:off x="7467480" y="31240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
        <p:nvSpPr>
          <p:cNvPr id="162" name="">
            <a:hlinkClick r:id="" action="ppaction://hlinkshowjump?jump=nextslide"/>
          </p:cNvPr>
          <p:cNvSpPr/>
          <p:nvPr/>
        </p:nvSpPr>
        <p:spPr>
          <a:xfrm>
            <a:off x="815328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63" name="j0281284" descr="">
            <a:hlinkClick r:id="rId2" action="ppaction://hlinksldjump"/>
          </p:cNvPr>
          <p:cNvPicPr/>
          <p:nvPr/>
        </p:nvPicPr>
        <p:blipFill>
          <a:blip r:embed="rId3"/>
          <a:stretch/>
        </p:blipFill>
        <p:spPr>
          <a:xfrm>
            <a:off x="7848720" y="2743200"/>
            <a:ext cx="836640" cy="392040"/>
          </a:xfrm>
          <a:prstGeom prst="rect">
            <a:avLst/>
          </a:prstGeom>
          <a:ln w="0">
            <a:noFill/>
          </a:ln>
        </p:spPr>
      </p:pic>
      <p:sp>
        <p:nvSpPr>
          <p:cNvPr id="16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8B58-1A9A-44EB-9A6B-568B24526C8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8</a:t>
            </a:r>
            <a:endParaRPr b="0" lang="en-US" sz="2400" spc="-1" strike="noStrike">
              <a:solidFill>
                <a:srgbClr val="000000"/>
              </a:solidFill>
              <a:latin typeface="Times New Roman"/>
            </a:endParaRPr>
          </a:p>
        </p:txBody>
      </p:sp>
      <p:sp>
        <p:nvSpPr>
          <p:cNvPr id="167" name="PlaceHolder 1"/>
          <p:cNvSpPr>
            <a:spLocks noGrp="1"/>
          </p:cNvSpPr>
          <p:nvPr>
            <p:ph/>
          </p:nvPr>
        </p:nvSpPr>
        <p:spPr>
          <a:xfrm>
            <a:off x="685440" y="990720"/>
            <a:ext cx="7924680" cy="5790960"/>
          </a:xfrm>
          <a:prstGeom prst="rect">
            <a:avLst/>
          </a:prstGeom>
          <a:noFill/>
          <a:ln w="0">
            <a:noFill/>
          </a:ln>
        </p:spPr>
        <p:txBody>
          <a:bodyPr lIns="90000" rIns="90000" tIns="46800" bIns="46800" anchor="t">
            <a:normAutofit/>
          </a:bodyPr>
          <a:p>
            <a:pPr lvl="3" marL="8604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lood can be tested for anaemia using different methods which look at the colour of the blood, the number of blood cells, or use a chemical which reacts with the haemoglobin.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For example:</a:t>
            </a:r>
            <a:endParaRPr b="0" lang="en-US" sz="2000" spc="-1" strike="noStrike">
              <a:solidFill>
                <a:srgbClr val="000000"/>
              </a:solidFill>
              <a:latin typeface="Times New Roman"/>
            </a:endParaRPr>
          </a:p>
          <a:p>
            <a:pPr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hli tube method</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vibond comparator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our chart e.g. WHO colour scale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Haematocrit</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mocue</a:t>
            </a: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69" name=""/>
          <p:cNvSpPr/>
          <p:nvPr/>
        </p:nvSpPr>
        <p:spPr>
          <a:xfrm>
            <a:off x="8077320" y="3124080"/>
            <a:ext cx="6858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a:hlinkClick r:id="" action="ppaction://hlinkshowjump?jump=nextslide"/>
          </p:cNvPr>
          <p:cNvSpPr/>
          <p:nvPr/>
        </p:nvSpPr>
        <p:spPr>
          <a:xfrm>
            <a:off x="815328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A396-0CA1-4E3F-BCC7-45B57A05EED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ents</a:t>
            </a:r>
            <a:endParaRPr b="0" lang="en-US" sz="2400" spc="-1" strike="noStrike">
              <a:solidFill>
                <a:srgbClr val="000000"/>
              </a:solidFill>
              <a:latin typeface="Times New Roman"/>
            </a:endParaRPr>
          </a:p>
        </p:txBody>
      </p:sp>
      <p:sp>
        <p:nvSpPr>
          <p:cNvPr id="71" name="PlaceHolder 1"/>
          <p:cNvSpPr>
            <a:spLocks noGrp="1"/>
          </p:cNvSpPr>
          <p:nvPr>
            <p:ph/>
          </p:nvPr>
        </p:nvSpPr>
        <p:spPr>
          <a:xfrm>
            <a:off x="533520" y="1066680"/>
            <a:ext cx="3047760" cy="5029200"/>
          </a:xfrm>
          <a:prstGeom prst="rect">
            <a:avLst/>
          </a:prstGeom>
          <a:noFill/>
          <a:ln w="0">
            <a:noFill/>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1: </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portant </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utrition Concepts</a:t>
            </a:r>
            <a:endParaRPr b="0" lang="en-US" sz="16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Food and Nutrition</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Nutritional Requirement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Nutritional Deficienci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 Micronutrient Deficiency Disease</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 Nutritional Assessments</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 Causes of Malnutrition</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3962520" y="1219320"/>
            <a:ext cx="2209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429000" y="1066680"/>
            <a:ext cx="2819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cronutrien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ficiency Diseases</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Anaemi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Vitamin A Deficienc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Iodine Deficiency Disorder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 Beriberi</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 Ariboflavinosi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 Pellagr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 Scurv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 Ricke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172200" y="1066680"/>
            <a:ext cx="28954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3:</a:t>
            </a:r>
            <a:endParaRPr b="0" lang="en-US" sz="16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tection </a:t>
            </a:r>
            <a:endParaRPr b="0" lang="en-US" sz="16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nd Prevention</a:t>
            </a:r>
            <a:endParaRPr b="0" lang="en-US" sz="16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Detection of Deficiencies</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Intervention </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971800" y="1143000"/>
            <a:ext cx="0" cy="4419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a:hlinkClick r:id="rId1" action="ppaction://hlinksldjump"/>
          </p:cNvPr>
          <p:cNvSpPr/>
          <p:nvPr/>
        </p:nvSpPr>
        <p:spPr>
          <a:xfrm>
            <a:off x="533520" y="1066680"/>
            <a:ext cx="2249280" cy="990720"/>
          </a:xfrm>
          <a:custGeom>
            <a:avLst/>
            <a:gdLst>
              <a:gd name="textAreaLeft" fmla="*/ 64080 w 2249280"/>
              <a:gd name="textAreaRight" fmla="*/ 2185200 w 2249280"/>
              <a:gd name="textAreaTop" fmla="*/ 64080 h 990720"/>
              <a:gd name="textAreaBottom" fmla="*/ 926640 h 990720"/>
            </a:gdLst>
            <a:ahLst/>
            <a:rect l="textAreaLeft" t="textAreaTop" r="textAreaRight" b="textAreaBottom"/>
            <a:pathLst>
              <a:path w="49030" h="21600">
                <a:moveTo>
                  <a:pt x="0" y="0"/>
                </a:moveTo>
                <a:lnTo>
                  <a:pt x="49030" y="0"/>
                </a:lnTo>
                <a:lnTo>
                  <a:pt x="49030" y="21600"/>
                </a:lnTo>
                <a:lnTo>
                  <a:pt x="0" y="21600"/>
                </a:lnTo>
                <a:close/>
              </a:path>
              <a:path fill="lightenLess" w="49030" h="21600">
                <a:moveTo>
                  <a:pt x="0" y="0"/>
                </a:moveTo>
                <a:lnTo>
                  <a:pt x="49030" y="0"/>
                </a:lnTo>
                <a:lnTo>
                  <a:pt x="47630" y="1400"/>
                </a:lnTo>
                <a:lnTo>
                  <a:pt x="1400" y="1400"/>
                </a:lnTo>
                <a:close/>
              </a:path>
              <a:path fill="darken" w="49030" h="21600">
                <a:moveTo>
                  <a:pt x="49030" y="0"/>
                </a:moveTo>
                <a:lnTo>
                  <a:pt x="49030" y="21600"/>
                </a:lnTo>
                <a:lnTo>
                  <a:pt x="47630" y="20200"/>
                </a:lnTo>
                <a:lnTo>
                  <a:pt x="47630" y="1400"/>
                </a:lnTo>
                <a:close/>
              </a:path>
              <a:path fill="darkenLess" w="49030" h="21600">
                <a:moveTo>
                  <a:pt x="49030" y="21600"/>
                </a:moveTo>
                <a:lnTo>
                  <a:pt x="0" y="21600"/>
                </a:lnTo>
                <a:lnTo>
                  <a:pt x="1400" y="20200"/>
                </a:lnTo>
                <a:lnTo>
                  <a:pt x="47630" y="20200"/>
                </a:lnTo>
                <a:close/>
              </a:path>
              <a:path fill="lighten" w="49030"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a:hlinkClick r:id="rId2" action="ppaction://hlinksldjump"/>
          </p:cNvPr>
          <p:cNvSpPr/>
          <p:nvPr/>
        </p:nvSpPr>
        <p:spPr>
          <a:xfrm>
            <a:off x="3429000" y="1066680"/>
            <a:ext cx="2249640" cy="990720"/>
          </a:xfrm>
          <a:custGeom>
            <a:avLst/>
            <a:gdLst>
              <a:gd name="textAreaLeft" fmla="*/ 64080 w 2249640"/>
              <a:gd name="textAreaRight" fmla="*/ 2185560 w 2249640"/>
              <a:gd name="textAreaTop" fmla="*/ 64080 h 990720"/>
              <a:gd name="textAreaBottom" fmla="*/ 926640 h 990720"/>
            </a:gdLst>
            <a:ahLst/>
            <a:rect l="textAreaLeft" t="textAreaTop" r="textAreaRight" b="textAreaBottom"/>
            <a:pathLst>
              <a:path w="49037" h="21600">
                <a:moveTo>
                  <a:pt x="0" y="0"/>
                </a:moveTo>
                <a:lnTo>
                  <a:pt x="49037" y="0"/>
                </a:lnTo>
                <a:lnTo>
                  <a:pt x="49037" y="21600"/>
                </a:lnTo>
                <a:lnTo>
                  <a:pt x="0" y="21600"/>
                </a:lnTo>
                <a:close/>
              </a:path>
              <a:path fill="lightenLess" w="49037" h="21600">
                <a:moveTo>
                  <a:pt x="0" y="0"/>
                </a:moveTo>
                <a:lnTo>
                  <a:pt x="49037" y="0"/>
                </a:lnTo>
                <a:lnTo>
                  <a:pt x="47637" y="1400"/>
                </a:lnTo>
                <a:lnTo>
                  <a:pt x="1400" y="1400"/>
                </a:lnTo>
                <a:close/>
              </a:path>
              <a:path fill="darken" w="49037" h="21600">
                <a:moveTo>
                  <a:pt x="49037" y="0"/>
                </a:moveTo>
                <a:lnTo>
                  <a:pt x="49037" y="21600"/>
                </a:lnTo>
                <a:lnTo>
                  <a:pt x="47637" y="20200"/>
                </a:lnTo>
                <a:lnTo>
                  <a:pt x="47637" y="1400"/>
                </a:lnTo>
                <a:close/>
              </a:path>
              <a:path fill="darkenLess" w="49037" h="21600">
                <a:moveTo>
                  <a:pt x="49037" y="21600"/>
                </a:moveTo>
                <a:lnTo>
                  <a:pt x="0" y="21600"/>
                </a:lnTo>
                <a:lnTo>
                  <a:pt x="1400" y="20200"/>
                </a:lnTo>
                <a:lnTo>
                  <a:pt x="47637" y="20200"/>
                </a:lnTo>
                <a:close/>
              </a:path>
              <a:path fill="lighten" w="49037"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a:hlinkClick r:id="rId3" action="ppaction://hlinksldjump"/>
          </p:cNvPr>
          <p:cNvSpPr/>
          <p:nvPr/>
        </p:nvSpPr>
        <p:spPr>
          <a:xfrm>
            <a:off x="6172200" y="1066680"/>
            <a:ext cx="2249640" cy="990720"/>
          </a:xfrm>
          <a:custGeom>
            <a:avLst/>
            <a:gdLst>
              <a:gd name="textAreaLeft" fmla="*/ 64080 w 2249640"/>
              <a:gd name="textAreaRight" fmla="*/ 2185560 w 2249640"/>
              <a:gd name="textAreaTop" fmla="*/ 64080 h 990720"/>
              <a:gd name="textAreaBottom" fmla="*/ 926640 h 990720"/>
            </a:gdLst>
            <a:ahLst/>
            <a:rect l="textAreaLeft" t="textAreaTop" r="textAreaRight" b="textAreaBottom"/>
            <a:pathLst>
              <a:path w="49037" h="21600">
                <a:moveTo>
                  <a:pt x="0" y="0"/>
                </a:moveTo>
                <a:lnTo>
                  <a:pt x="49037" y="0"/>
                </a:lnTo>
                <a:lnTo>
                  <a:pt x="49037" y="21600"/>
                </a:lnTo>
                <a:lnTo>
                  <a:pt x="0" y="21600"/>
                </a:lnTo>
                <a:close/>
              </a:path>
              <a:path fill="lightenLess" w="49037" h="21600">
                <a:moveTo>
                  <a:pt x="0" y="0"/>
                </a:moveTo>
                <a:lnTo>
                  <a:pt x="49037" y="0"/>
                </a:lnTo>
                <a:lnTo>
                  <a:pt x="47637" y="1400"/>
                </a:lnTo>
                <a:lnTo>
                  <a:pt x="1400" y="1400"/>
                </a:lnTo>
                <a:close/>
              </a:path>
              <a:path fill="darken" w="49037" h="21600">
                <a:moveTo>
                  <a:pt x="49037" y="0"/>
                </a:moveTo>
                <a:lnTo>
                  <a:pt x="49037" y="21600"/>
                </a:lnTo>
                <a:lnTo>
                  <a:pt x="47637" y="20200"/>
                </a:lnTo>
                <a:lnTo>
                  <a:pt x="47637" y="1400"/>
                </a:lnTo>
                <a:close/>
              </a:path>
              <a:path fill="darkenLess" w="49037" h="21600">
                <a:moveTo>
                  <a:pt x="49037" y="21600"/>
                </a:moveTo>
                <a:lnTo>
                  <a:pt x="0" y="21600"/>
                </a:lnTo>
                <a:lnTo>
                  <a:pt x="1400" y="20200"/>
                </a:lnTo>
                <a:lnTo>
                  <a:pt x="47637" y="20200"/>
                </a:lnTo>
                <a:close/>
              </a:path>
              <a:path fill="lighten" w="49037"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582E-BF80-498E-9D96-CCD349E9B9C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1</a:t>
            </a:r>
            <a:endParaRPr b="0" lang="en-US" sz="2400" spc="-1" strike="noStrike">
              <a:solidFill>
                <a:srgbClr val="000000"/>
              </a:solidFill>
              <a:latin typeface="Times New Roman"/>
            </a:endParaRPr>
          </a:p>
        </p:txBody>
      </p:sp>
      <p:sp>
        <p:nvSpPr>
          <p:cNvPr id="174"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is requir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good vision, especially at nigh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wth and developmen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ction against infections (measles and diarrhoea)</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in present in food in two form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pre-formed vitamin A in foods from animal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pro-vitamin A in some plant food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ood sources of vitamin A include liver and some fish, red palm oil, carrots, paw paw, and some is also found in yellow maize.  Fortified blended foods e.g CSB or WSB also contain vitamin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supplements are often given to children in capsules.</a:t>
            </a:r>
            <a:endParaRPr b="0" lang="en-US" sz="2000" spc="-1" strike="noStrike">
              <a:solidFill>
                <a:srgbClr val="000000"/>
              </a:solidFill>
              <a:latin typeface="Times New Roman"/>
            </a:endParaRPr>
          </a:p>
        </p:txBody>
      </p:sp>
      <p:sp>
        <p:nvSpPr>
          <p:cNvPr id="17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76"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0</a:t>
            </a:r>
            <a:endParaRPr b="0" lang="en-US" sz="9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2</a:t>
            </a:r>
            <a:endParaRPr b="0" lang="en-US" sz="2400" spc="-1" strike="noStrike">
              <a:solidFill>
                <a:srgbClr val="000000"/>
              </a:solidFill>
              <a:latin typeface="Times New Roman"/>
            </a:endParaRPr>
          </a:p>
        </p:txBody>
      </p:sp>
      <p:sp>
        <p:nvSpPr>
          <p:cNvPr id="17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ciency in vitamin A can lead to blindness and increased chance of dying from infectious dise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People with a diet lacking in vitamin A rich foo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population group most at risk is pre-school childre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upplementation with vitamin A capsules can reduce the number of children who die by 23%.</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egnant and lactating women are also at risk of deficienc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8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1</a:t>
            </a:r>
            <a:endParaRPr b="0" lang="en-US" sz="9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3</a:t>
            </a:r>
            <a:endParaRPr b="0" lang="en-US" sz="2400" spc="-1" strike="noStrike">
              <a:solidFill>
                <a:srgbClr val="000000"/>
              </a:solidFill>
              <a:latin typeface="Times New Roman"/>
            </a:endParaRPr>
          </a:p>
        </p:txBody>
      </p:sp>
      <p:sp>
        <p:nvSpPr>
          <p:cNvPr id="18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o find out if someone is deficient we can:</a:t>
            </a:r>
            <a:endParaRPr b="0" lang="en-US" sz="2000" spc="-1" strike="noStrike">
              <a:solidFill>
                <a:srgbClr val="000000"/>
              </a:solidFill>
              <a:latin typeface="Times New Roman"/>
            </a:endParaRPr>
          </a:p>
          <a:p>
            <a:pPr lvl="1" marL="735480" indent="-28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ok for clinical signs in their eyes</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a blood sample to test in the laboratory</a:t>
            </a:r>
            <a:endParaRPr b="0" lang="en-US" sz="1800" spc="-1" strike="noStrike">
              <a:solidFill>
                <a:srgbClr val="000000"/>
              </a:solidFill>
              <a:latin typeface="Times New Roman"/>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ye signs of vitamin A deficiency are called Xeropthalmia.  They are classified like thi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Night Blindness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N</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itot’s Spots</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1B</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rneal Xerosis</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2</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rneal Ulceration / Keratomalacia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3</a:t>
            </a:r>
            <a:endParaRPr b="0" lang="en-US" sz="1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se signs can be looked for in survey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Careful</a:t>
            </a:r>
            <a:r>
              <a:rPr b="1" lang="en-GB" sz="2000" spc="-1" strike="noStrike">
                <a:solidFill>
                  <a:srgbClr val="000000"/>
                </a:solidFill>
                <a:latin typeface="Arial"/>
                <a:ea typeface="Times New Roman"/>
              </a:rPr>
              <a:t> examination and identification is essential.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186" name="j0281284" descr="">
            <a:hlinkClick r:id="rId1" action="ppaction://hlinksldjump"/>
          </p:cNvPr>
          <p:cNvPicPr/>
          <p:nvPr/>
        </p:nvPicPr>
        <p:blipFill>
          <a:blip r:embed="rId2"/>
          <a:stretch/>
        </p:blipFill>
        <p:spPr>
          <a:xfrm>
            <a:off x="8062920" y="3844800"/>
            <a:ext cx="836640" cy="392400"/>
          </a:xfrm>
          <a:prstGeom prst="rect">
            <a:avLst/>
          </a:prstGeom>
          <a:ln w="0">
            <a:noFill/>
          </a:ln>
        </p:spPr>
      </p:pic>
      <p:sp>
        <p:nvSpPr>
          <p:cNvPr id="187" name=""/>
          <p:cNvSpPr/>
          <p:nvPr/>
        </p:nvSpPr>
        <p:spPr>
          <a:xfrm>
            <a:off x="8839080" y="6400800"/>
            <a:ext cx="304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686800" y="6553080"/>
            <a:ext cx="380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2</a:t>
            </a:r>
            <a:endParaRPr b="0" lang="en-US" sz="900" spc="-1" strike="noStrike">
              <a:solidFill>
                <a:srgbClr val="000000"/>
              </a:solidFill>
              <a:latin typeface="Times New Roman"/>
            </a:endParaRPr>
          </a:p>
        </p:txBody>
      </p:sp>
      <p:sp>
        <p:nvSpPr>
          <p:cNvPr id="189" name="">
            <a:hlinkClick r:id="rId3" action="ppaction://hlinksldjump"/>
          </p:cNvPr>
          <p:cNvSpPr/>
          <p:nvPr/>
        </p:nvSpPr>
        <p:spPr>
          <a:xfrm>
            <a:off x="7620120" y="434340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1</a:t>
            </a:r>
            <a:endParaRPr b="0" lang="en-US" sz="2400" spc="-1" strike="noStrike">
              <a:solidFill>
                <a:srgbClr val="000000"/>
              </a:solidFill>
              <a:latin typeface="Times New Roman"/>
            </a:endParaRPr>
          </a:p>
        </p:txBody>
      </p:sp>
      <p:sp>
        <p:nvSpPr>
          <p:cNvPr id="1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odine is a chemical that is found in small amounts in soil and food.</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eople take in iodine in their diets and it is used by the body to make thyroid hormones.  People and animals therefore need to have iodine in their food to be healthy.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there is not enough iodine in the diet people ge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Iodine Deficiency Disorders (IDD)</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odine deficiency can result in a number of health problems.  These include: </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oitre</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retinism</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duced mental and physical development</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creased perinatal and neonatal mortality</a:t>
            </a: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9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9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3</a:t>
            </a:r>
            <a:endParaRPr b="0" lang="en-US" sz="9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2</a:t>
            </a:r>
            <a:endParaRPr b="0" lang="en-US" sz="2400" spc="-1" strike="noStrike">
              <a:solidFill>
                <a:srgbClr val="000000"/>
              </a:solidFill>
              <a:latin typeface="Times New Roman"/>
            </a:endParaRPr>
          </a:p>
        </p:txBody>
      </p:sp>
      <p:sp>
        <p:nvSpPr>
          <p:cNvPr id="197"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avoid iodine deficiency people ca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iodinated salt  - Salt can have iodine added to it.  If this is done properly and people use it makes people will have a sufficient supply of iodine through their die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 severe cases oil containing iodine can also be given in a capsule or injected</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find out if someone is deficient in iodine we ca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ook at their neck to see if they have goitr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asure how much iodine is in their urin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asure levels of thyroid hormones in their blood</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9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4</a:t>
            </a:r>
            <a:endParaRPr b="0" lang="en-US" sz="9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3</a:t>
            </a:r>
            <a:endParaRPr b="0" lang="en-US" sz="2400" spc="-1" strike="noStrike">
              <a:solidFill>
                <a:srgbClr val="000000"/>
              </a:solidFill>
              <a:latin typeface="Times New Roman"/>
            </a:endParaRPr>
          </a:p>
        </p:txBody>
      </p:sp>
      <p:sp>
        <p:nvSpPr>
          <p:cNvPr id="20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When looking for goitre we classify what we see as:</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2000" spc="-1" strike="noStrike">
                <a:solidFill>
                  <a:srgbClr val="000000"/>
                </a:solidFill>
                <a:latin typeface="Arial"/>
                <a:ea typeface="Times New Roman"/>
              </a:rPr>
              <a:t>Grade 0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o Goit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rade 1</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Palpable Goit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rade 2</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Visible Goitr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Grade 1 goitre cannot be seen but it can be fel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Grade 2 goitre can be seen without feeling the neck </a:t>
            </a:r>
            <a:endParaRPr b="0" lang="en-US" sz="18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0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AC34-7493-4B5B-9D27-E282783DA335}"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pic>
        <p:nvPicPr>
          <p:cNvPr id="205" name="j0281284" descr="">
            <a:hlinkClick r:id="rId1" action="ppaction://hlinksldjump"/>
          </p:cNvPr>
          <p:cNvPicPr/>
          <p:nvPr/>
        </p:nvPicPr>
        <p:blipFill>
          <a:blip r:embed="rId2"/>
          <a:stretch/>
        </p:blipFill>
        <p:spPr>
          <a:xfrm>
            <a:off x="7910640" y="2057400"/>
            <a:ext cx="836640" cy="392040"/>
          </a:xfrm>
          <a:prstGeom prst="rect">
            <a:avLst/>
          </a:prstGeom>
          <a:ln w="0">
            <a:noFill/>
          </a:ln>
        </p:spPr>
      </p:pic>
      <p:sp>
        <p:nvSpPr>
          <p:cNvPr id="206" name="">
            <a:hlinkClick r:id="rId3" action="ppaction://hlinksldjump"/>
          </p:cNvPr>
          <p:cNvSpPr/>
          <p:nvPr/>
        </p:nvSpPr>
        <p:spPr>
          <a:xfrm>
            <a:off x="7391520" y="25909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iberi 1</a:t>
            </a:r>
            <a:endParaRPr b="0" lang="en-US" sz="2400" spc="-1" strike="noStrike">
              <a:solidFill>
                <a:srgbClr val="000000"/>
              </a:solidFill>
              <a:latin typeface="Times New Roman"/>
            </a:endParaRPr>
          </a:p>
        </p:txBody>
      </p:sp>
      <p:sp>
        <p:nvSpPr>
          <p:cNvPr id="20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i="1" lang="en-GB" sz="2000" spc="-1" strike="noStrike">
                <a:solidFill>
                  <a:srgbClr val="000000"/>
                </a:solidFill>
                <a:latin typeface="Arial"/>
              </a:rPr>
              <a:t>Thiamine</a:t>
            </a:r>
            <a:r>
              <a:rPr b="1" lang="en-GB" sz="2000" spc="-1" strike="noStrike">
                <a:solidFill>
                  <a:srgbClr val="000000"/>
                </a:solidFill>
                <a:latin typeface="Arial"/>
              </a:rPr>
              <a:t> is also called Vitamin B1</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iamine is needed in the diet for the metabolism of energ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ood sources of thiamine include nuts, beans, meat and un-milled cereal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igns of deficiency manifests after 2 - 3 months of a deficient diet</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 Deficiency in the diet leads to </a:t>
            </a:r>
            <a:r>
              <a:rPr b="1" i="1" lang="en-GB" sz="2000" spc="-1" strike="noStrike">
                <a:solidFill>
                  <a:srgbClr val="000000"/>
                </a:solidFill>
                <a:latin typeface="Arial"/>
                <a:ea typeface="Times New Roman"/>
              </a:rPr>
              <a:t>Beriberi</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pulation reliant on a diet of polished white ric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fants breastfed by women deficient in thiamine</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1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870A-081B-486A-92D9-23E8BE8132E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iberi 2</a:t>
            </a:r>
            <a:endParaRPr b="0" lang="en-US" sz="2400" spc="-1" strike="noStrike">
              <a:solidFill>
                <a:srgbClr val="000000"/>
              </a:solidFill>
              <a:latin typeface="Times New Roman"/>
            </a:endParaRPr>
          </a:p>
        </p:txBody>
      </p:sp>
      <p:sp>
        <p:nvSpPr>
          <p:cNvPr id="21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re are three main types of beriberi:</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fantile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ry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et beriberi</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inical signs of beriberi includ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rist and foot drop (dry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edema (wet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haracteristic cry in babies (aphonic or infantile beriber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16" name="j0281284" descr="">
            <a:hlinkClick r:id="rId1" action="ppaction://hlinksldjump"/>
          </p:cNvPr>
          <p:cNvPicPr/>
          <p:nvPr/>
        </p:nvPicPr>
        <p:blipFill>
          <a:blip r:embed="rId2"/>
          <a:stretch/>
        </p:blipFill>
        <p:spPr>
          <a:xfrm>
            <a:off x="7910640" y="2438280"/>
            <a:ext cx="836640" cy="392400"/>
          </a:xfrm>
          <a:prstGeom prst="rect">
            <a:avLst/>
          </a:prstGeom>
          <a:ln w="0">
            <a:noFill/>
          </a:ln>
        </p:spPr>
      </p:pic>
      <p:sp>
        <p:nvSpPr>
          <p:cNvPr id="21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980D-B986-4FE6-99F4-F2D5A23BAC2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18" name="">
            <a:hlinkClick r:id="rId3" action="ppaction://hlinksldjump"/>
          </p:cNvPr>
          <p:cNvSpPr/>
          <p:nvPr/>
        </p:nvSpPr>
        <p:spPr>
          <a:xfrm>
            <a:off x="7315200" y="297180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iboflavinosis</a:t>
            </a:r>
            <a:endParaRPr b="0" lang="en-US" sz="2400" spc="-1" strike="noStrike">
              <a:solidFill>
                <a:srgbClr val="000000"/>
              </a:solidFill>
              <a:latin typeface="Times New Roman"/>
            </a:endParaRPr>
          </a:p>
        </p:txBody>
      </p:sp>
      <p:sp>
        <p:nvSpPr>
          <p:cNvPr id="22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Riboflavin</a:t>
            </a:r>
            <a:r>
              <a:rPr b="1" lang="en-GB" sz="2000" spc="-1" strike="noStrike">
                <a:solidFill>
                  <a:srgbClr val="000000"/>
                </a:solidFill>
                <a:latin typeface="Arial"/>
                <a:ea typeface="Arial"/>
              </a:rPr>
              <a:t> is also called Vitamin B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ts main use is in the metabolism of energ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iboflavin is found in many foods – good sources include pulses, eggs and liv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people don’t have enough vitamin B2 they develop </a:t>
            </a:r>
            <a:r>
              <a:rPr b="1" i="1" lang="en-GB" sz="2000" spc="-1" strike="noStrike">
                <a:solidFill>
                  <a:srgbClr val="000000"/>
                </a:solidFill>
                <a:latin typeface="Arial"/>
                <a:ea typeface="Arial"/>
              </a:rPr>
              <a:t>Ariboflavinosi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pulation with a diet deficient in riboflavin - particularly common in rice eating populat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Clinical signs of deficienc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hiny and dry cracked lips (Cheilosi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issures on the corner of mouth (angular stomatitis)</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2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23" name="j0281284" descr="">
            <a:hlinkClick r:id="rId1" action="ppaction://hlinksldjump"/>
          </p:cNvPr>
          <p:cNvPicPr/>
          <p:nvPr/>
        </p:nvPicPr>
        <p:blipFill>
          <a:blip r:embed="rId2"/>
          <a:stretch/>
        </p:blipFill>
        <p:spPr>
          <a:xfrm>
            <a:off x="8062920" y="4865760"/>
            <a:ext cx="836640" cy="392040"/>
          </a:xfrm>
          <a:prstGeom prst="rect">
            <a:avLst/>
          </a:prstGeom>
          <a:ln w="0">
            <a:noFill/>
          </a:ln>
        </p:spPr>
      </p:pic>
      <p:sp>
        <p:nvSpPr>
          <p:cNvPr id="22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08B2-6335-48CC-92C5-338E1467A458}"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25" name="">
            <a:hlinkClick r:id="rId3" action="ppaction://hlinksldjump"/>
          </p:cNvPr>
          <p:cNvSpPr/>
          <p:nvPr/>
        </p:nvSpPr>
        <p:spPr>
          <a:xfrm>
            <a:off x="7543800" y="53341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llagra 1</a:t>
            </a:r>
            <a:endParaRPr b="0" lang="en-US" sz="2400" spc="-1" strike="noStrike">
              <a:solidFill>
                <a:srgbClr val="000000"/>
              </a:solidFill>
              <a:latin typeface="Times New Roman"/>
            </a:endParaRPr>
          </a:p>
        </p:txBody>
      </p:sp>
      <p:sp>
        <p:nvSpPr>
          <p:cNvPr id="228"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Niacin</a:t>
            </a:r>
            <a:r>
              <a:rPr b="1" i="1" lang="en-GB" sz="2000" spc="-1" strike="noStrike">
                <a:solidFill>
                  <a:srgbClr val="000000"/>
                </a:solidFill>
                <a:latin typeface="Arial"/>
                <a:ea typeface="Arial"/>
              </a:rPr>
              <a:t> </a:t>
            </a:r>
            <a:r>
              <a:rPr b="1" lang="en-GB" sz="2000" spc="-1" strike="noStrike">
                <a:solidFill>
                  <a:srgbClr val="000000"/>
                </a:solidFill>
                <a:latin typeface="Arial"/>
                <a:ea typeface="Arial"/>
              </a:rPr>
              <a:t>is a B vitamin needed for:</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abolism of carbohydrates, proteins and fatty acids</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enerating energy from the food we eat</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th</a:t>
            </a: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iacin is found in many types of food including cereals, pulses, nuts, and meat.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iacin can also be made in the body from the amino acid Tryptophan.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owever, the niacin in maize cannot be used by the body unless it is specially treate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f people don’t have enough niacin in their diet they develop a disease called </a:t>
            </a:r>
            <a:r>
              <a:rPr b="1" i="1" lang="en-GB" sz="2000" spc="-1" strike="noStrike">
                <a:solidFill>
                  <a:srgbClr val="000000"/>
                </a:solidFill>
                <a:latin typeface="Arial"/>
                <a:ea typeface="Arial"/>
              </a:rPr>
              <a:t>Pellagr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3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F178-9D49-4760-B901-DCD740F3FEA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od and Nutrition</a:t>
            </a: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8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8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ll people and animals need food to live, grow and be health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contains different types of nutrient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contains certain nutrients called macronutrien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a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arbohydra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tei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also contains nutrients called micronutrien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Vitami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ineral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good diet is made up of foods that contain all these types of nutrients – macronutrients and micronutrients.</a:t>
            </a:r>
            <a:endParaRPr b="0" lang="en-US" sz="1800" spc="-1" strike="noStrike">
              <a:solidFill>
                <a:srgbClr val="000000"/>
              </a:solidFill>
              <a:latin typeface="Times New Roman"/>
            </a:endParaRPr>
          </a:p>
        </p:txBody>
      </p:sp>
      <p:sp>
        <p:nvSpPr>
          <p:cNvPr id="8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8D25-AFAE-4758-A04D-CEC315C6EE5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llagra 2</a:t>
            </a:r>
            <a:endParaRPr b="0" lang="en-US" sz="2400" spc="-1" strike="noStrike">
              <a:solidFill>
                <a:srgbClr val="000000"/>
              </a:solidFill>
              <a:latin typeface="Times New Roman"/>
            </a:endParaRPr>
          </a:p>
        </p:txBody>
      </p:sp>
      <p:sp>
        <p:nvSpPr>
          <p:cNvPr id="23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pulations with a diet of maize that is low in meat and dairy products</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inical Signs of </a:t>
            </a:r>
            <a:r>
              <a:rPr b="1" i="1" lang="en-GB" sz="2000" spc="-1" strike="noStrike">
                <a:solidFill>
                  <a:srgbClr val="000000"/>
                </a:solidFill>
                <a:latin typeface="Arial"/>
                <a:ea typeface="Times New Roman"/>
              </a:rPr>
              <a:t>Pellagra</a:t>
            </a:r>
            <a:r>
              <a:rPr b="1" lang="en-GB" sz="2000" spc="-1" strike="noStrike">
                <a:solidFill>
                  <a:srgbClr val="000000"/>
                </a:solidFill>
                <a:latin typeface="Arial"/>
                <a:ea typeface="Times New Roman"/>
              </a:rPr>
              <a: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ilateral dermatitis on skin exposed to the su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genta (purplish) tongu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iarrhoe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ementia (mental problem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35" name="j0281284" descr="">
            <a:hlinkClick r:id="rId1" action="ppaction://hlinksldjump"/>
          </p:cNvPr>
          <p:cNvPicPr/>
          <p:nvPr/>
        </p:nvPicPr>
        <p:blipFill>
          <a:blip r:embed="rId2"/>
          <a:stretch/>
        </p:blipFill>
        <p:spPr>
          <a:xfrm>
            <a:off x="8062920" y="3809880"/>
            <a:ext cx="836640" cy="392400"/>
          </a:xfrm>
          <a:prstGeom prst="rect">
            <a:avLst/>
          </a:prstGeom>
          <a:ln w="0">
            <a:noFill/>
          </a:ln>
        </p:spPr>
      </p:pic>
      <p:sp>
        <p:nvSpPr>
          <p:cNvPr id="236"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77D4-EDA6-4937-AD22-88609DECAA5D}"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37" name="">
            <a:hlinkClick r:id="rId3" action="ppaction://hlinksldjump"/>
          </p:cNvPr>
          <p:cNvSpPr/>
          <p:nvPr/>
        </p:nvSpPr>
        <p:spPr>
          <a:xfrm>
            <a:off x="7467480" y="4267080"/>
            <a:ext cx="1676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1</a:t>
            </a:r>
            <a:endParaRPr b="0" lang="en-US" sz="2400" spc="-1" strike="noStrike">
              <a:solidFill>
                <a:srgbClr val="000000"/>
              </a:solidFill>
              <a:latin typeface="Times New Roman"/>
            </a:endParaRPr>
          </a:p>
        </p:txBody>
      </p:sp>
      <p:sp>
        <p:nvSpPr>
          <p:cNvPr id="240" name="PlaceHolder 1"/>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Vitamin C</a:t>
            </a:r>
            <a:r>
              <a:rPr b="1" lang="en-GB" sz="2000" spc="-1" strike="noStrike">
                <a:solidFill>
                  <a:srgbClr val="000000"/>
                </a:solidFill>
                <a:latin typeface="Arial"/>
                <a:ea typeface="Arial"/>
              </a:rPr>
              <a:t> is sometimes called ascorbic acid</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t is required for: </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ation of strong gums and skin</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ormal growth of bones and blood capillaries</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bsorption of iro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Vitamin C is found in fresh fruits and vegetables such as oranges, paw-paw, tomatoes and potatoes.  It is also found in fortified blended foods.  </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hen people don’t have enough vitamin C in their diet they get</a:t>
            </a: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Scurvy. </a:t>
            </a:r>
            <a:endParaRPr b="0" lang="en-US" sz="20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24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42"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1844-4841-4311-848D-238D3C6353B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2</a:t>
            </a:r>
            <a:endParaRPr b="0" lang="en-US" sz="2400" spc="-1" strike="noStrike">
              <a:solidFill>
                <a:srgbClr val="000000"/>
              </a:solidFill>
              <a:latin typeface="Times New Roman"/>
            </a:endParaRPr>
          </a:p>
        </p:txBody>
      </p:sp>
      <p:sp>
        <p:nvSpPr>
          <p:cNvPr id="24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People with a diet lacking fresh fruit and vegetables are vulnerable to developing scurvy</a:t>
            </a: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find out if someone is deficient we can look for </a:t>
            </a:r>
            <a:r>
              <a:rPr b="1" i="1" lang="en-GB" sz="2000" spc="-1" strike="noStrike">
                <a:solidFill>
                  <a:srgbClr val="000000"/>
                </a:solidFill>
                <a:latin typeface="Arial"/>
                <a:ea typeface="Times New Roman"/>
              </a:rPr>
              <a:t>clinical signs </a:t>
            </a:r>
            <a:r>
              <a:rPr b="1" lang="en-GB" sz="2000" spc="-1" strike="noStrike">
                <a:solidFill>
                  <a:srgbClr val="000000"/>
                </a:solidFill>
                <a:latin typeface="Arial"/>
                <a:ea typeface="Times New Roman"/>
              </a:rPr>
              <a:t>of scurvy or take a blood or urine sample to test in the laboratory</a:t>
            </a:r>
            <a:endParaRPr b="0" lang="en-US" sz="2000" spc="-1" strike="noStrike">
              <a:solidFill>
                <a:srgbClr val="000000"/>
              </a:solidFill>
              <a:latin typeface="Times New Roman"/>
            </a:endParaRPr>
          </a:p>
        </p:txBody>
      </p:sp>
      <p:sp>
        <p:nvSpPr>
          <p:cNvPr id="24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4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F74E-5345-4D86-84F0-81D5C6B701F8}"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3</a:t>
            </a:r>
            <a:endParaRPr b="0" lang="en-US" sz="2400" spc="-1" strike="noStrike">
              <a:solidFill>
                <a:srgbClr val="000000"/>
              </a:solidFill>
              <a:latin typeface="Times New Roman"/>
            </a:endParaRPr>
          </a:p>
        </p:txBody>
      </p:sp>
      <p:sp>
        <p:nvSpPr>
          <p:cNvPr id="25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The clinical signs of scurvy are different in infants and other age groups</a:t>
            </a:r>
            <a:endParaRPr b="0" lang="en-US" sz="20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In adults and adolescents you may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leeding gums (inter-dental papilla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eri-follicular haemorrhages (bleeding around base of the hair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ilateral pain on squatting</a:t>
            </a:r>
            <a:endParaRPr b="0" lang="en-US" sz="1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In infants you may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leeding gums (inter-dental papillae / teeth eruptio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luctance to move due to joint pain</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52" name="j0281284" descr="">
            <a:hlinkClick r:id="rId1" action="ppaction://hlinksldjump"/>
          </p:cNvPr>
          <p:cNvPicPr/>
          <p:nvPr/>
        </p:nvPicPr>
        <p:blipFill>
          <a:blip r:embed="rId2"/>
          <a:stretch/>
        </p:blipFill>
        <p:spPr>
          <a:xfrm>
            <a:off x="8062920" y="3722760"/>
            <a:ext cx="836640" cy="392040"/>
          </a:xfrm>
          <a:prstGeom prst="rect">
            <a:avLst/>
          </a:prstGeom>
          <a:ln w="0">
            <a:noFill/>
          </a:ln>
        </p:spPr>
      </p:pic>
      <p:sp>
        <p:nvSpPr>
          <p:cNvPr id="25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4046-FFA5-4844-BF76-E7F20DD27975}"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54" name="">
            <a:hlinkClick r:id="rId3" action="ppaction://hlinksldjump"/>
          </p:cNvPr>
          <p:cNvSpPr/>
          <p:nvPr/>
        </p:nvSpPr>
        <p:spPr>
          <a:xfrm>
            <a:off x="7620120" y="41911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D Deficiency (Rickets) 1</a:t>
            </a:r>
            <a:endParaRPr b="0" lang="en-US" sz="2400" spc="-1" strike="noStrike">
              <a:solidFill>
                <a:srgbClr val="000000"/>
              </a:solidFill>
              <a:latin typeface="Times New Roman"/>
            </a:endParaRPr>
          </a:p>
        </p:txBody>
      </p:sp>
      <p:sp>
        <p:nvSpPr>
          <p:cNvPr id="257"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000" spc="-1" strike="noStrike">
                <a:solidFill>
                  <a:srgbClr val="000000"/>
                </a:solidFill>
                <a:latin typeface="Arial"/>
              </a:rPr>
              <a:t>Vitamin D</a:t>
            </a:r>
            <a:r>
              <a:rPr b="1" lang="en-GB" sz="2000" spc="-1" strike="noStrike">
                <a:solidFill>
                  <a:srgbClr val="000000"/>
                </a:solidFill>
                <a:latin typeface="Arial"/>
              </a:rPr>
              <a:t> is important for the growth of bon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tamin D is naturally made in the skin when people are exposed to sunligh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tamin D from the diet is also important, especially when people don’t have much sunligh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richest food sources are from some types of fish.</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5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B2C7-A55A-489F-9A05-234665BDB74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D Deficiency (Rickets) 2</a:t>
            </a:r>
            <a:endParaRPr b="0" lang="en-US" sz="2400" spc="-1" strike="noStrike">
              <a:solidFill>
                <a:srgbClr val="000000"/>
              </a:solidFill>
              <a:latin typeface="Times New Roman"/>
            </a:endParaRPr>
          </a:p>
        </p:txBody>
      </p:sp>
      <p:sp>
        <p:nvSpPr>
          <p:cNvPr id="26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children don’t have enough vitamin D they develop </a:t>
            </a:r>
            <a:r>
              <a:rPr b="1" i="1" lang="en-GB" sz="2000" spc="-1" strike="noStrike">
                <a:solidFill>
                  <a:srgbClr val="000000"/>
                </a:solidFill>
                <a:latin typeface="Arial"/>
              </a:rPr>
              <a:t>rickets</a:t>
            </a:r>
            <a:r>
              <a:rPr b="1" lang="en-GB"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women, vitamin D deficiency can contribute to another disease of the bones called </a:t>
            </a:r>
            <a:r>
              <a:rPr b="1" i="1" lang="en-GB" sz="2000" spc="-1" strike="noStrike">
                <a:solidFill>
                  <a:srgbClr val="000000"/>
                </a:solidFill>
                <a:latin typeface="Arial"/>
              </a:rPr>
              <a:t>osteomalac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main clinical signs of rickets are malformations of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bon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w legs or knock kne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seoto-chondral beading</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64" name="j0281284" descr="">
            <a:hlinkClick r:id="rId1" action="ppaction://hlinksldjump"/>
          </p:cNvPr>
          <p:cNvPicPr/>
          <p:nvPr/>
        </p:nvPicPr>
        <p:blipFill>
          <a:blip r:embed="rId2"/>
          <a:stretch/>
        </p:blipFill>
        <p:spPr>
          <a:xfrm>
            <a:off x="8077320" y="4267080"/>
            <a:ext cx="836640" cy="392400"/>
          </a:xfrm>
          <a:prstGeom prst="rect">
            <a:avLst/>
          </a:prstGeom>
          <a:ln w="0">
            <a:noFill/>
          </a:ln>
        </p:spPr>
      </p:pic>
      <p:sp>
        <p:nvSpPr>
          <p:cNvPr id="26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CCD0-DBA0-41CD-BD4A-8CD94080564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66" name="">
            <a:hlinkClick r:id="rId3" action="ppaction://hlinksldjump"/>
          </p:cNvPr>
          <p:cNvSpPr/>
          <p:nvPr/>
        </p:nvSpPr>
        <p:spPr>
          <a:xfrm>
            <a:off x="7620120" y="472428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ion of Deficiencies</a:t>
            </a:r>
            <a:endParaRPr b="0" lang="en-US" sz="2400" spc="-1" strike="noStrike">
              <a:solidFill>
                <a:srgbClr val="000000"/>
              </a:solidFill>
              <a:latin typeface="Times New Roman"/>
            </a:endParaRPr>
          </a:p>
        </p:txBody>
      </p:sp>
      <p:sp>
        <p:nvSpPr>
          <p:cNvPr id="26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5000"/>
          </a:bodyPr>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2000" spc="-1" strike="noStrike">
                <a:solidFill>
                  <a:srgbClr val="000000"/>
                </a:solidFill>
                <a:latin typeface="Arial"/>
              </a:rPr>
              <a:t>Micronutrient deficiencies can be detected using a number of different approaches:</a:t>
            </a: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Health and nutrition surveillanc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basket monitoring (on-site distribution monitoring)</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outine nutrition surveys</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pecialised surveys and outbreak investigations</a:t>
            </a:r>
            <a:endParaRPr b="0" lang="en-US" sz="18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Each of these has advantages and disadvantages in different situations.  If a problem is suspected it may be necessary to obtain expert advice on how to confirm the problem and what to do about it.</a:t>
            </a: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Micronutrient deficiencies can be difficult to detect and measure reliably!</a:t>
            </a: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842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42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7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6921-6FFE-4136-B4D4-F470B782108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1</a:t>
            </a:r>
            <a:endParaRPr b="0" lang="en-US" sz="2400" spc="-1" strike="noStrike">
              <a:solidFill>
                <a:srgbClr val="000000"/>
              </a:solidFill>
              <a:latin typeface="Times New Roman"/>
            </a:endParaRPr>
          </a:p>
        </p:txBody>
      </p:sp>
      <p:sp>
        <p:nvSpPr>
          <p:cNvPr id="27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914400" y="1066680"/>
            <a:ext cx="7086600" cy="538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re are several possible approaches to tackling micronutrient deficiencies:</a:t>
            </a:r>
            <a:endParaRPr b="0" lang="en-US" sz="20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dding a nutrient rich food or increasing t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ize of the general ration</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viding fresh food items </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moting the production of vegetables and fruit</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viding fortified food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istributing nutrient supplement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on-food public health intervention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come generation and improving market access</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motion of exclusive breastfeeding and appropriate complementary infant feeding practice</a:t>
            </a:r>
            <a:endParaRPr b="0" lang="en-US" sz="1800" spc="-1" strike="noStrike">
              <a:solidFill>
                <a:srgbClr val="000000"/>
              </a:solidFill>
              <a:latin typeface="Times New Roman"/>
            </a:endParaRPr>
          </a:p>
        </p:txBody>
      </p:sp>
      <p:sp>
        <p:nvSpPr>
          <p:cNvPr id="27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7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6FFF-4111-495F-84FC-1BEDEC6B606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2</a:t>
            </a:r>
            <a:endParaRPr b="0" lang="en-US" sz="2400" spc="-1" strike="noStrike">
              <a:solidFill>
                <a:srgbClr val="000000"/>
              </a:solidFill>
              <a:latin typeface="Times New Roman"/>
            </a:endParaRPr>
          </a:p>
        </p:txBody>
      </p:sp>
      <p:sp>
        <p:nvSpPr>
          <p:cNvPr id="28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14400" y="1143000"/>
            <a:ext cx="7086600" cy="795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 Adding a nutrient rich food or increasing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ize of the general ratio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Where populations are receiving a general food ration, it may be possible to change or add items to combat particular deficiencies.  Improving the general food aid ration has been done in response to specific outbreaks, e.g. inclusion of ground nuts instead of pulses where niacin deficiency was a known problem.</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If no nutrient rich foods are available to include in the general ration, increasing the cereal allocation may allow beneficiaries the opportunity to trade the excess and diversify their diet.  For this to happen they need access to marke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8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E1BC-2A04-442D-9BFB-1EED7FABD46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3</a:t>
            </a:r>
            <a:endParaRPr b="0" lang="en-US" sz="2400" spc="-1" strike="noStrike">
              <a:solidFill>
                <a:srgbClr val="000000"/>
              </a:solidFill>
              <a:latin typeface="Times New Roman"/>
            </a:endParaRPr>
          </a:p>
        </p:txBody>
      </p:sp>
      <p:sp>
        <p:nvSpPr>
          <p:cNvPr id="28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914400" y="1143000"/>
            <a:ext cx="7086600" cy="625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Education of the population about food processing and consumption may be very important in ensuring the best use of the available foo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People should understand the importance of different nutrients, which foods contain them and how to prepare the foods to preserve, as far as possible, the nutritional val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8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4801-F8AC-4220-8C2E-F913D548A5D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Requirements</a:t>
            </a:r>
            <a:endParaRPr b="0" lang="en-US" sz="2400" spc="-1" strike="noStrike">
              <a:solidFill>
                <a:srgbClr val="000000"/>
              </a:solidFill>
              <a:latin typeface="Times New Roman"/>
            </a:endParaRPr>
          </a:p>
        </p:txBody>
      </p:sp>
      <p:sp>
        <p:nvSpPr>
          <p:cNvPr id="8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88"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For people to be healthy and productive they need a certain amount of nutrients.  This is called their nutritional requireme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amount of energy that people get from their food is measured in kilo calories (kcal).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average person needs about 2100 kcal each da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7-20 % of this energy should come from f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least 10 % of this energy should come from protei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eople also need certain amounts of vitamins and mineral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 example the average person should have at least 12 mg of the B vitamin niacin, 28 mg of vitamin C, and 22 mg of iron each day.</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9E40-D627-4B03-ADAF-077AD02808F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4</a:t>
            </a:r>
            <a:endParaRPr b="0" lang="en-US" sz="2400" spc="-1" strike="noStrike">
              <a:solidFill>
                <a:srgbClr val="000000"/>
              </a:solidFill>
              <a:latin typeface="Times New Roman"/>
            </a:endParaRPr>
          </a:p>
        </p:txBody>
      </p:sp>
      <p:sp>
        <p:nvSpPr>
          <p:cNvPr id="2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914400" y="1143000"/>
            <a:ext cx="7086600" cy="21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viding fresh food item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Fresh food items which are micronutrient-rich can be purchased locally and distributed as a complementary part of the general ration.  However, the difficulty of transporting and storing fresh foods is a major constrain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9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9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2F8-5474-4BAB-A6DB-5B68E29AA3E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5</a:t>
            </a:r>
            <a:endParaRPr b="0" lang="en-US" sz="2400" spc="-1" strike="noStrike">
              <a:solidFill>
                <a:srgbClr val="000000"/>
              </a:solidFill>
              <a:latin typeface="Times New Roman"/>
            </a:endParaRPr>
          </a:p>
        </p:txBody>
      </p:sp>
      <p:sp>
        <p:nvSpPr>
          <p:cNvPr id="29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4400" y="1143000"/>
            <a:ext cx="7086600" cy="353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moting the production of vegetables and frui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The distribution of seeds, tools and other agricultural inputs may allow populations to grow vegetables and fruit or livestock for home consumption or for sal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ccess to land may be a major constraint, particularly in refugee camps or in areas which are insecure e.g. due to land mines.  Water may also be a limiting facto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0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FA3F-DB6B-41C3-A7A4-0BDD0D203F2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6</a:t>
            </a:r>
            <a:endParaRPr b="0" lang="en-US" sz="2400" spc="-1" strike="noStrike">
              <a:solidFill>
                <a:srgbClr val="000000"/>
              </a:solidFill>
              <a:latin typeface="Times New Roman"/>
            </a:endParaRPr>
          </a:p>
        </p:txBody>
      </p:sp>
      <p:sp>
        <p:nvSpPr>
          <p:cNvPr id="30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914400" y="1143000"/>
            <a:ext cx="7086600" cy="299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viding fortified food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Fortified commodities such as vitamin A fortified oil and iodised salt are provided routinely in WFP rations and fortified blended foods are often include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ereals such as wheat flour can also be fortified with calcium, iron, thiamine and niacin</a:t>
            </a:r>
            <a:r>
              <a:rPr b="1" i="1" lang="en-GB"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0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72B4-022E-4DB1-8B90-DA927B9D7F5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7</a:t>
            </a:r>
            <a:endParaRPr b="0" lang="en-US" sz="2400" spc="-1" strike="noStrike">
              <a:solidFill>
                <a:srgbClr val="000000"/>
              </a:solidFill>
              <a:latin typeface="Times New Roman"/>
            </a:endParaRPr>
          </a:p>
        </p:txBody>
      </p:sp>
      <p:sp>
        <p:nvSpPr>
          <p:cNvPr id="31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12" name=""/>
          <p:cNvSpPr/>
          <p:nvPr/>
        </p:nvSpPr>
        <p:spPr>
          <a:xfrm>
            <a:off x="914400" y="1143000"/>
            <a:ext cx="7086600" cy="34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istributing nutrient supplement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The following micronutrient supplements may be routinely distribu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Vitamin A supplements to young children every 6 months.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ron and folate to pregnant women through MCH programmes, and possibly through emergency supplementary feeding programmes.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ulti-vitamins to severely malnourished individuals in therapeutic feeding programmes.</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E6FD-07D6-47D1-8FAE-B806C08372B8}"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8</a:t>
            </a:r>
            <a:endParaRPr b="0" lang="en-US" sz="2400" spc="-1" strike="noStrike">
              <a:solidFill>
                <a:srgbClr val="000000"/>
              </a:solidFill>
              <a:latin typeface="Times New Roman"/>
            </a:endParaRPr>
          </a:p>
        </p:txBody>
      </p:sp>
      <p:sp>
        <p:nvSpPr>
          <p:cNvPr id="31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18" name=""/>
          <p:cNvSpPr/>
          <p:nvPr/>
        </p:nvSpPr>
        <p:spPr>
          <a:xfrm>
            <a:off x="914400" y="1143000"/>
            <a:ext cx="7086600" cy="500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n-food public health interven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ood health is very important in maintaining good nutrition.  Below are some examples of public health interventions that may be important:</a:t>
            </a:r>
            <a:endParaRPr b="0" lang="en-US" sz="2000" spc="-1" strike="noStrike">
              <a:solidFill>
                <a:srgbClr val="000000"/>
              </a:solidFill>
              <a:latin typeface="Times New Roman"/>
            </a:endParaRPr>
          </a:p>
          <a:p>
            <a:pPr marL="457200" indent="-45720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Vaccination against measles is important in control of xeropthalm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Water, sanitation and hygiene promotion to control diarrhoe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De-worming to control anaemia due to intestinal parasites such as hookworm or schistosomiasi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Malaria control (e.g. bednets, vector control, etc.) to combat anaem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Health and nutrition promotion activities e.g. sun exposure as protective factor against rickets</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A4D4-C7C0-43FC-B73B-980C79BAFE6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9</a:t>
            </a:r>
            <a:endParaRPr b="0" lang="en-US" sz="2400" spc="-1" strike="noStrike">
              <a:solidFill>
                <a:srgbClr val="000000"/>
              </a:solidFill>
              <a:latin typeface="Times New Roman"/>
            </a:endParaRPr>
          </a:p>
        </p:txBody>
      </p:sp>
      <p:sp>
        <p:nvSpPr>
          <p:cNvPr id="32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24" name=""/>
          <p:cNvSpPr/>
          <p:nvPr/>
        </p:nvSpPr>
        <p:spPr>
          <a:xfrm>
            <a:off x="914400" y="1143000"/>
            <a:ext cx="7086600" cy="265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come generation and market acces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Income generation schemes can help to improve dietary intake of micronutrients through increasing the purchasing power of beneficiaries and therefore their diet diversity.  Micro-credit, enterprise development and improving market access may help in the process.  However, the most vulnerable households and individuals may be the ones least likely to benefit.</a:t>
            </a:r>
            <a:endParaRPr b="0" lang="en-US" sz="1800" spc="-1" strike="noStrike">
              <a:solidFill>
                <a:srgbClr val="000000"/>
              </a:solidFill>
              <a:latin typeface="Times New Roman"/>
            </a:endParaRPr>
          </a:p>
        </p:txBody>
      </p:sp>
      <p:sp>
        <p:nvSpPr>
          <p:cNvPr id="32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9260-8D07-4640-9DE3-2B5D1D49420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10</a:t>
            </a:r>
            <a:endParaRPr b="0" lang="en-US" sz="2400" spc="-1" strike="noStrike">
              <a:solidFill>
                <a:srgbClr val="000000"/>
              </a:solidFill>
              <a:latin typeface="Times New Roman"/>
            </a:endParaRPr>
          </a:p>
        </p:txBody>
      </p:sp>
      <p:sp>
        <p:nvSpPr>
          <p:cNvPr id="32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30" name=""/>
          <p:cNvSpPr/>
          <p:nvPr/>
        </p:nvSpPr>
        <p:spPr>
          <a:xfrm>
            <a:off x="914400" y="1143000"/>
            <a:ext cx="7086600" cy="40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motion of exclusive breastfeeding and appropriate complementary infant feeding practic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Exclusive breastfeeding up to about 6 months of age, followed by the introduction of complementary foods with continued breastfeeding are very important for the nutritional status and health of children.  Complementary foods for infants should be rich in energy and nutrients as the growing child requires these for successful growth and development.</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B4F5-D40F-4075-BC70-FD8CFFE99B01}"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Deficiencies </a:t>
            </a:r>
            <a:endParaRPr b="0" lang="en-US" sz="2400" spc="-1" strike="noStrike">
              <a:solidFill>
                <a:srgbClr val="000000"/>
              </a:solidFill>
              <a:latin typeface="Times New Roman"/>
            </a:endParaRPr>
          </a:p>
        </p:txBody>
      </p:sp>
      <p:sp>
        <p:nvSpPr>
          <p:cNvPr id="9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9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utritional deficiencies occur when the quantity or quality of food is not sufficient to meet a persons need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is may be caused by not having enough food to eat or by infections with bacteria, viruses or parasit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nfections can increase peoples nutrient requirements and reduce their appetit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utritional deficiencies lead to malnutri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3910-AAC3-49B4-A680-31CE8A9098A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Deficiencies </a:t>
            </a:r>
            <a:endParaRPr b="0" lang="en-US" sz="2400" spc="-1" strike="noStrike">
              <a:solidFill>
                <a:srgbClr val="000000"/>
              </a:solidFill>
              <a:latin typeface="Times New Roman"/>
            </a:endParaRPr>
          </a:p>
        </p:txBody>
      </p:sp>
      <p:sp>
        <p:nvSpPr>
          <p:cNvPr id="9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9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re are several types of malnutritio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Protein Energy Malnutrition</a:t>
            </a:r>
            <a:r>
              <a:rPr b="1" lang="en-GB" sz="1800" spc="-1" strike="noStrike">
                <a:solidFill>
                  <a:srgbClr val="000000"/>
                </a:solidFill>
                <a:latin typeface="Arial"/>
                <a:ea typeface="Arial"/>
              </a:rPr>
              <a:t> (PEM) can lead to acute thinness (wasting) or a long term reduction in child growth (stunting). When the PEM is severe it can lead to </a:t>
            </a:r>
            <a:r>
              <a:rPr b="1" i="1" lang="en-GB" sz="1800" spc="-1" strike="noStrike">
                <a:solidFill>
                  <a:srgbClr val="000000"/>
                </a:solidFill>
                <a:latin typeface="Arial"/>
                <a:ea typeface="Arial"/>
              </a:rPr>
              <a:t>Marasmus</a:t>
            </a:r>
            <a:r>
              <a:rPr b="1" lang="en-GB" sz="1800" spc="-1" strike="noStrike">
                <a:solidFill>
                  <a:srgbClr val="000000"/>
                </a:solidFill>
                <a:latin typeface="Arial"/>
                <a:ea typeface="Arial"/>
              </a:rPr>
              <a:t> or </a:t>
            </a:r>
            <a:r>
              <a:rPr b="1" i="1" lang="en-GB" sz="1800" spc="-1" strike="noStrike">
                <a:solidFill>
                  <a:srgbClr val="000000"/>
                </a:solidFill>
                <a:latin typeface="Arial"/>
                <a:ea typeface="Arial"/>
              </a:rPr>
              <a:t>Kwashiorkor</a:t>
            </a:r>
            <a:r>
              <a:rPr b="1" lang="en-GB" sz="1800" spc="-1" strike="noStrike">
                <a:solidFill>
                  <a:srgbClr val="000000"/>
                </a:solidFill>
                <a:latin typeface="Arial"/>
                <a:ea typeface="Arial"/>
              </a:rPr>
              <a:t>.  Usually this type of malnutrition is caused by a deficiency in both macronutrients and micronutrient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Micronutrient Malnutrition</a:t>
            </a:r>
            <a:r>
              <a:rPr b="1" lang="en-GB" sz="1800" spc="-1" strike="noStrike">
                <a:solidFill>
                  <a:srgbClr val="000000"/>
                </a:solidFill>
                <a:latin typeface="Arial"/>
                <a:ea typeface="Arial"/>
              </a:rPr>
              <a:t> can occur even if the person is getting enough energy and they are not thin or short.  It is usually caused by a deficiency in one or a small number of specific micronutrient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DA74-2D39-453F-961E-3E9775661580}"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utrient Deficiency Disease </a:t>
            </a:r>
            <a:endParaRPr b="0" lang="en-US" sz="2400" spc="-1" strike="noStrike">
              <a:solidFill>
                <a:srgbClr val="000000"/>
              </a:solidFill>
              <a:latin typeface="Times New Roman"/>
            </a:endParaRPr>
          </a:p>
        </p:txBody>
      </p:sp>
      <p:sp>
        <p:nvSpPr>
          <p:cNvPr id="102"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seases such as anaemia, scurvy and pellagra are caused by deficiencies in micronutrients.  They can be very serious and people can die as a resul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cannot catch these diseases from being near someone who is affected and you will only get them if your nutrient intake is not sufficien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ny people in the world suffer from micronutrient deficiencies and anaemia is the most comm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is important to be able to detect and measure how many people have these problems so that people can be given information on how to try and improve their situation.  It can also be used to help health and nutrition programmes adapt to meet the needs of the affected populatio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0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830-FCD1-459F-9B11-46078EBAF321}"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Assessments/Surveys</a:t>
            </a:r>
            <a:endParaRPr b="0" lang="en-US" sz="2400" spc="-1" strike="noStrike">
              <a:solidFill>
                <a:srgbClr val="000000"/>
              </a:solidFill>
              <a:latin typeface="Times New Roman"/>
            </a:endParaRPr>
          </a:p>
        </p:txBody>
      </p:sp>
      <p:sp>
        <p:nvSpPr>
          <p:cNvPr id="107"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utrition assessments are designed to find out about nutrition problems.  They may involve the following:</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inding out about where food is obtained, who has access to food and who does not, and how it is use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eighing and measuring people to see if they are too thin or too short due to lack of foo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ooking at people to see if they have signs of nutritional deficienci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aking samples of urine or blood to test how many nutrients people hav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0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D748-08B5-4550-B9E4-F2FBFABF3524}"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sessing Micronutrient Problems</a:t>
            </a:r>
            <a:endParaRPr b="0" lang="en-US" sz="2400" spc="-1" strike="noStrike">
              <a:solidFill>
                <a:srgbClr val="000000"/>
              </a:solidFill>
              <a:latin typeface="Times New Roman"/>
            </a:endParaRPr>
          </a:p>
        </p:txBody>
      </p:sp>
      <p:sp>
        <p:nvSpPr>
          <p:cNvPr id="112"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fontScale="96000"/>
          </a:bodyPr>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ll health staff and members of survey teams should be able to recognise basic nutritional deficiencies.</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 can be very difficult to recognise the signs of some deficiencies which is one reason why it is sometimes necessary to collect samples of blood or urine for testing.</a:t>
            </a:r>
            <a:endParaRPr b="0" lang="en-US" sz="2000" spc="-1" strike="noStrike">
              <a:solidFill>
                <a:srgbClr val="000000"/>
              </a:solidFill>
              <a:latin typeface="Times New Roman"/>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t all people who are deficient will show clinical signs.</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utrition assessments can be carried out as part of routine health care or during surveys.  They can help to understand the underlying and immediate causes of malnutrition.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1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DC67-276A-497A-977F-A64DA0701CDE}"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12:13:51Z</dcterms:created>
  <dc:creator>Andrew Seal</dc:creator>
  <dc:description/>
  <dc:language>en-US</dc:language>
  <cp:lastModifiedBy>xx</cp:lastModifiedBy>
  <dcterms:modified xsi:type="dcterms:W3CDTF">2003-04-08T13:58:22Z</dcterms:modified>
  <cp:revision>171</cp:revision>
  <dc:subject/>
  <dc:title>MNND Training Overheads</dc:title>
</cp:coreProperties>
</file>