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BF6F-1984-4008-8BDC-C9411729E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75DAD-99D3-4C01-87F7-3519FBCF3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B8B6-EDD1-4AD1-B6C4-F063FE20E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8CC5-37AF-408A-9E76-AF06DE1A6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F485-BA52-43DD-814D-D13BD9FBE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60D7-4975-4939-B70B-553E04E28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A8A9-82E5-453D-A74D-7F14BCE24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C5A0-EE28-4FF8-BE54-B7ACFCC59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1BA5-D7AA-42B5-9EA8-EDF02A509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2E37-B8C2-4497-9235-B4C96782E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6CC6-F99B-4F55-AA29-24566DE61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DC88-40D2-4652-A79F-C13E2C5D8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Proyecto Esfe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059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FA2-B20D-4981-AF6A-7137981877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El ciclo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44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3EAF-11FC-4C59-934C-ED528D34E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Seguimiento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Plan, diseño,</a:t>
            </a:r>
            <a:br>
              <a:rPr sz="2400"/>
            </a:b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e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124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Valoración in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129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131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54960" y="121896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 Black"/>
                  </a:rPr>
                  <a:t>Desas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bajos de inc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F7BA-BD9C-4ED9-B297-C133C2BDD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4038480"/>
            <a:ext cx="8076960" cy="20574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quilibrio entre rapidez y precisión en las valoraciones inici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038480"/>
            <a:ext cx="80769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4796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RAPID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1240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3 </a:t>
            </a: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2860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PR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4000" y="4594320"/>
            <a:ext cx="220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tilidad de las conclusiones de la valoración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3720" y="4419720"/>
            <a:ext cx="311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Arial Black"/>
              </a:rPr>
              <a:t>Precisión</a:t>
            </a:r>
            <a:br>
              <a:rPr sz="3400"/>
            </a:br>
            <a:r>
              <a:rPr b="0" lang="es-ES_tradnl" sz="3400" spc="-1" strike="noStrike">
                <a:solidFill>
                  <a:srgbClr val="ffffff"/>
                </a:solidFill>
                <a:latin typeface="Arial Black"/>
              </a:rPr>
              <a:t>Tiemp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62280" y="4419720"/>
            <a:ext cx="220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en-US" sz="90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5962680"/>
            <a:ext cx="1295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8AC1-BB4F-44BF-BFEB-6E409F573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proceso de valoración inicial / seguimiento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93760" y="1341360"/>
            <a:ext cx="3013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Black"/>
              </a:rPr>
              <a:t>Identificar la informa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Black"/>
              </a:rPr>
              <a:t>las necesidad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Black"/>
              </a:rPr>
              <a:t>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52840" y="2895480"/>
            <a:ext cx="1361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Recop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73520" y="4648320"/>
            <a:ext cx="2118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Informar so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las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666880"/>
            <a:ext cx="2286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 Black"/>
              </a:rPr>
              <a:t>Diseñar / modificar la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666880"/>
            <a:ext cx="213372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365720"/>
            <a:ext cx="2355840" cy="9903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435640" y="3962520"/>
            <a:ext cx="1618920" cy="990360"/>
            <a:chOff x="5435640" y="3962520"/>
            <a:chExt cx="1618920" cy="990360"/>
          </a:xfrm>
        </p:grpSpPr>
        <p:sp>
          <p:nvSpPr>
            <p:cNvPr id="158" name=""/>
            <p:cNvSpPr/>
            <p:nvPr/>
          </p:nvSpPr>
          <p:spPr>
            <a:xfrm>
              <a:off x="5443560" y="4155840"/>
              <a:ext cx="1611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 Black"/>
                </a:rPr>
                <a:t>Analizar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 Black"/>
                </a:rPr>
                <a:t>interpret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35640" y="3962520"/>
              <a:ext cx="1600200" cy="990360"/>
            </a:xfrm>
            <a:prstGeom prst="rect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137280" y="2967120"/>
            <a:ext cx="1905120" cy="5331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295280"/>
            <a:ext cx="342900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160020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6600">
            <a:off x="6323760" y="1752120"/>
            <a:ext cx="838440" cy="83844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0812600">
            <a:off x="7162920" y="358056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5720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733920"/>
            <a:ext cx="533520" cy="533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5080" y="565776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/ACN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C2DF-4718-4699-A105-08E271EDB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Mapa de Dom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0280" y="1143000"/>
            <a:ext cx="7924680" cy="4572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1158840"/>
            <a:ext cx="7983360" cy="4572000"/>
          </a:xfrm>
          <a:custGeom>
            <a:avLst/>
            <a:gdLst/>
            <a:ahLst/>
            <a:rect l="l" t="t" r="r" b="b"/>
            <a:pathLst>
              <a:path w="5029" h="2880">
                <a:moveTo>
                  <a:pt x="37" y="1776"/>
                </a:moveTo>
                <a:cubicBezTo>
                  <a:pt x="99" y="1755"/>
                  <a:pt x="48" y="1762"/>
                  <a:pt x="109" y="1788"/>
                </a:cubicBezTo>
                <a:cubicBezTo>
                  <a:pt x="124" y="1794"/>
                  <a:pt x="141" y="1796"/>
                  <a:pt x="157" y="1800"/>
                </a:cubicBezTo>
                <a:cubicBezTo>
                  <a:pt x="259" y="1783"/>
                  <a:pt x="289" y="1776"/>
                  <a:pt x="397" y="1788"/>
                </a:cubicBezTo>
                <a:cubicBezTo>
                  <a:pt x="437" y="1798"/>
                  <a:pt x="478" y="1801"/>
                  <a:pt x="517" y="1812"/>
                </a:cubicBezTo>
                <a:cubicBezTo>
                  <a:pt x="579" y="1829"/>
                  <a:pt x="636" y="1864"/>
                  <a:pt x="697" y="1884"/>
                </a:cubicBezTo>
                <a:cubicBezTo>
                  <a:pt x="705" y="1872"/>
                  <a:pt x="708" y="1853"/>
                  <a:pt x="721" y="1848"/>
                </a:cubicBezTo>
                <a:cubicBezTo>
                  <a:pt x="733" y="1843"/>
                  <a:pt x="744" y="1860"/>
                  <a:pt x="757" y="1860"/>
                </a:cubicBezTo>
                <a:cubicBezTo>
                  <a:pt x="770" y="1860"/>
                  <a:pt x="781" y="1852"/>
                  <a:pt x="793" y="1848"/>
                </a:cubicBezTo>
                <a:cubicBezTo>
                  <a:pt x="884" y="1878"/>
                  <a:pt x="987" y="1947"/>
                  <a:pt x="1081" y="1956"/>
                </a:cubicBezTo>
                <a:cubicBezTo>
                  <a:pt x="1229" y="1971"/>
                  <a:pt x="1378" y="1983"/>
                  <a:pt x="1525" y="2004"/>
                </a:cubicBezTo>
                <a:cubicBezTo>
                  <a:pt x="1610" y="2016"/>
                  <a:pt x="1692" y="2040"/>
                  <a:pt x="1777" y="2052"/>
                </a:cubicBezTo>
                <a:cubicBezTo>
                  <a:pt x="1846" y="2075"/>
                  <a:pt x="1910" y="2098"/>
                  <a:pt x="1981" y="2112"/>
                </a:cubicBezTo>
                <a:cubicBezTo>
                  <a:pt x="2061" y="2103"/>
                  <a:pt x="2134" y="2074"/>
                  <a:pt x="2209" y="2112"/>
                </a:cubicBezTo>
                <a:cubicBezTo>
                  <a:pt x="2222" y="2118"/>
                  <a:pt x="2232" y="2130"/>
                  <a:pt x="2245" y="2136"/>
                </a:cubicBezTo>
                <a:cubicBezTo>
                  <a:pt x="2268" y="2146"/>
                  <a:pt x="2317" y="2160"/>
                  <a:pt x="2317" y="2160"/>
                </a:cubicBezTo>
                <a:cubicBezTo>
                  <a:pt x="2337" y="2156"/>
                  <a:pt x="2357" y="2148"/>
                  <a:pt x="2377" y="2148"/>
                </a:cubicBezTo>
                <a:cubicBezTo>
                  <a:pt x="2390" y="2148"/>
                  <a:pt x="2400" y="2160"/>
                  <a:pt x="2413" y="2160"/>
                </a:cubicBezTo>
                <a:cubicBezTo>
                  <a:pt x="2441" y="2160"/>
                  <a:pt x="2469" y="2152"/>
                  <a:pt x="2497" y="2148"/>
                </a:cubicBezTo>
                <a:cubicBezTo>
                  <a:pt x="2509" y="2140"/>
                  <a:pt x="2522" y="2134"/>
                  <a:pt x="2533" y="2124"/>
                </a:cubicBezTo>
                <a:cubicBezTo>
                  <a:pt x="2558" y="2101"/>
                  <a:pt x="2605" y="2052"/>
                  <a:pt x="2605" y="2052"/>
                </a:cubicBezTo>
                <a:cubicBezTo>
                  <a:pt x="2672" y="2074"/>
                  <a:pt x="2688" y="2036"/>
                  <a:pt x="2749" y="2016"/>
                </a:cubicBezTo>
                <a:cubicBezTo>
                  <a:pt x="2810" y="2036"/>
                  <a:pt x="2799" y="2011"/>
                  <a:pt x="2857" y="1992"/>
                </a:cubicBezTo>
                <a:cubicBezTo>
                  <a:pt x="2911" y="2010"/>
                  <a:pt x="2949" y="1985"/>
                  <a:pt x="3001" y="1968"/>
                </a:cubicBezTo>
                <a:cubicBezTo>
                  <a:pt x="3119" y="1929"/>
                  <a:pt x="3207" y="1836"/>
                  <a:pt x="3313" y="1776"/>
                </a:cubicBezTo>
                <a:cubicBezTo>
                  <a:pt x="3360" y="1749"/>
                  <a:pt x="3429" y="1750"/>
                  <a:pt x="3481" y="1740"/>
                </a:cubicBezTo>
                <a:cubicBezTo>
                  <a:pt x="3539" y="1696"/>
                  <a:pt x="3592" y="1682"/>
                  <a:pt x="3661" y="1668"/>
                </a:cubicBezTo>
                <a:cubicBezTo>
                  <a:pt x="3708" y="1684"/>
                  <a:pt x="3735" y="1671"/>
                  <a:pt x="3781" y="1656"/>
                </a:cubicBezTo>
                <a:cubicBezTo>
                  <a:pt x="3797" y="1660"/>
                  <a:pt x="3814" y="1674"/>
                  <a:pt x="3829" y="1668"/>
                </a:cubicBezTo>
                <a:cubicBezTo>
                  <a:pt x="3841" y="1663"/>
                  <a:pt x="3835" y="1643"/>
                  <a:pt x="3841" y="1632"/>
                </a:cubicBezTo>
                <a:cubicBezTo>
                  <a:pt x="3847" y="1619"/>
                  <a:pt x="3854" y="1605"/>
                  <a:pt x="3865" y="1596"/>
                </a:cubicBezTo>
                <a:cubicBezTo>
                  <a:pt x="3875" y="1588"/>
                  <a:pt x="3890" y="1590"/>
                  <a:pt x="3901" y="1584"/>
                </a:cubicBezTo>
                <a:cubicBezTo>
                  <a:pt x="3914" y="1578"/>
                  <a:pt x="3924" y="1566"/>
                  <a:pt x="3937" y="1560"/>
                </a:cubicBezTo>
                <a:cubicBezTo>
                  <a:pt x="4066" y="1503"/>
                  <a:pt x="3964" y="1566"/>
                  <a:pt x="4045" y="1512"/>
                </a:cubicBezTo>
                <a:cubicBezTo>
                  <a:pt x="4061" y="1516"/>
                  <a:pt x="4077" y="1524"/>
                  <a:pt x="4093" y="1524"/>
                </a:cubicBezTo>
                <a:cubicBezTo>
                  <a:pt x="4155" y="1524"/>
                  <a:pt x="4129" y="1464"/>
                  <a:pt x="4153" y="1428"/>
                </a:cubicBezTo>
                <a:cubicBezTo>
                  <a:pt x="4162" y="1414"/>
                  <a:pt x="4178" y="1405"/>
                  <a:pt x="4189" y="1392"/>
                </a:cubicBezTo>
                <a:cubicBezTo>
                  <a:pt x="4198" y="1381"/>
                  <a:pt x="4207" y="1369"/>
                  <a:pt x="4213" y="1356"/>
                </a:cubicBezTo>
                <a:cubicBezTo>
                  <a:pt x="4223" y="1333"/>
                  <a:pt x="4237" y="1284"/>
                  <a:pt x="4237" y="1284"/>
                </a:cubicBezTo>
                <a:cubicBezTo>
                  <a:pt x="4211" y="1205"/>
                  <a:pt x="4197" y="1136"/>
                  <a:pt x="4177" y="1056"/>
                </a:cubicBezTo>
                <a:cubicBezTo>
                  <a:pt x="4190" y="989"/>
                  <a:pt x="4206" y="958"/>
                  <a:pt x="4273" y="936"/>
                </a:cubicBezTo>
                <a:cubicBezTo>
                  <a:pt x="4255" y="848"/>
                  <a:pt x="4242" y="813"/>
                  <a:pt x="4273" y="720"/>
                </a:cubicBezTo>
                <a:cubicBezTo>
                  <a:pt x="4252" y="657"/>
                  <a:pt x="4286" y="593"/>
                  <a:pt x="4321" y="540"/>
                </a:cubicBezTo>
                <a:cubicBezTo>
                  <a:pt x="4327" y="504"/>
                  <a:pt x="4321" y="460"/>
                  <a:pt x="4345" y="432"/>
                </a:cubicBezTo>
                <a:cubicBezTo>
                  <a:pt x="4358" y="417"/>
                  <a:pt x="4378" y="409"/>
                  <a:pt x="4393" y="396"/>
                </a:cubicBezTo>
                <a:cubicBezTo>
                  <a:pt x="4531" y="278"/>
                  <a:pt x="4342" y="435"/>
                  <a:pt x="4453" y="324"/>
                </a:cubicBezTo>
                <a:cubicBezTo>
                  <a:pt x="4467" y="310"/>
                  <a:pt x="4488" y="303"/>
                  <a:pt x="4501" y="288"/>
                </a:cubicBezTo>
                <a:cubicBezTo>
                  <a:pt x="4545" y="238"/>
                  <a:pt x="4545" y="229"/>
                  <a:pt x="4561" y="180"/>
                </a:cubicBezTo>
                <a:cubicBezTo>
                  <a:pt x="4557" y="160"/>
                  <a:pt x="4547" y="140"/>
                  <a:pt x="4549" y="120"/>
                </a:cubicBezTo>
                <a:cubicBezTo>
                  <a:pt x="4551" y="95"/>
                  <a:pt x="4573" y="73"/>
                  <a:pt x="4573" y="48"/>
                </a:cubicBezTo>
                <a:cubicBezTo>
                  <a:pt x="4573" y="36"/>
                  <a:pt x="4573" y="24"/>
                  <a:pt x="4573" y="12"/>
                </a:cubicBezTo>
                <a:lnTo>
                  <a:pt x="5029" y="0"/>
                </a:lnTo>
                <a:lnTo>
                  <a:pt x="5029" y="2880"/>
                </a:lnTo>
                <a:cubicBezTo>
                  <a:pt x="4909" y="2872"/>
                  <a:pt x="4788" y="2875"/>
                  <a:pt x="4669" y="2856"/>
                </a:cubicBezTo>
                <a:cubicBezTo>
                  <a:pt x="4655" y="2854"/>
                  <a:pt x="4651" y="2833"/>
                  <a:pt x="4645" y="2820"/>
                </a:cubicBezTo>
                <a:cubicBezTo>
                  <a:pt x="4614" y="2750"/>
                  <a:pt x="4631" y="2727"/>
                  <a:pt x="4573" y="2688"/>
                </a:cubicBezTo>
                <a:cubicBezTo>
                  <a:pt x="4559" y="2632"/>
                  <a:pt x="4549" y="2612"/>
                  <a:pt x="4501" y="2580"/>
                </a:cubicBezTo>
                <a:cubicBezTo>
                  <a:pt x="4475" y="2541"/>
                  <a:pt x="4477" y="2551"/>
                  <a:pt x="4465" y="2508"/>
                </a:cubicBezTo>
                <a:cubicBezTo>
                  <a:pt x="4460" y="2492"/>
                  <a:pt x="4464" y="2472"/>
                  <a:pt x="4453" y="2460"/>
                </a:cubicBezTo>
                <a:cubicBezTo>
                  <a:pt x="4421" y="2423"/>
                  <a:pt x="4368" y="2411"/>
                  <a:pt x="4333" y="2376"/>
                </a:cubicBezTo>
                <a:cubicBezTo>
                  <a:pt x="4297" y="2340"/>
                  <a:pt x="4283" y="2311"/>
                  <a:pt x="4237" y="2280"/>
                </a:cubicBezTo>
                <a:cubicBezTo>
                  <a:pt x="4233" y="2268"/>
                  <a:pt x="4233" y="2254"/>
                  <a:pt x="4225" y="2244"/>
                </a:cubicBezTo>
                <a:cubicBezTo>
                  <a:pt x="4216" y="2233"/>
                  <a:pt x="4194" y="2233"/>
                  <a:pt x="4189" y="2220"/>
                </a:cubicBezTo>
                <a:cubicBezTo>
                  <a:pt x="4184" y="2208"/>
                  <a:pt x="4197" y="2196"/>
                  <a:pt x="4201" y="2184"/>
                </a:cubicBezTo>
                <a:cubicBezTo>
                  <a:pt x="4131" y="2161"/>
                  <a:pt x="4152" y="2116"/>
                  <a:pt x="4069" y="2088"/>
                </a:cubicBezTo>
                <a:cubicBezTo>
                  <a:pt x="4045" y="2080"/>
                  <a:pt x="4021" y="2072"/>
                  <a:pt x="3997" y="2064"/>
                </a:cubicBezTo>
                <a:cubicBezTo>
                  <a:pt x="3985" y="2060"/>
                  <a:pt x="3961" y="2052"/>
                  <a:pt x="3961" y="2052"/>
                </a:cubicBezTo>
                <a:cubicBezTo>
                  <a:pt x="3921" y="1991"/>
                  <a:pt x="3959" y="2033"/>
                  <a:pt x="3901" y="2004"/>
                </a:cubicBezTo>
                <a:cubicBezTo>
                  <a:pt x="3822" y="1965"/>
                  <a:pt x="3909" y="1997"/>
                  <a:pt x="3829" y="1944"/>
                </a:cubicBezTo>
                <a:cubicBezTo>
                  <a:pt x="3807" y="1929"/>
                  <a:pt x="3779" y="1923"/>
                  <a:pt x="3757" y="1908"/>
                </a:cubicBezTo>
                <a:cubicBezTo>
                  <a:pt x="3735" y="1875"/>
                  <a:pt x="3735" y="1865"/>
                  <a:pt x="3697" y="1848"/>
                </a:cubicBezTo>
                <a:cubicBezTo>
                  <a:pt x="3674" y="1838"/>
                  <a:pt x="3625" y="1824"/>
                  <a:pt x="3625" y="1824"/>
                </a:cubicBezTo>
                <a:cubicBezTo>
                  <a:pt x="3541" y="1852"/>
                  <a:pt x="3577" y="1856"/>
                  <a:pt x="3517" y="1836"/>
                </a:cubicBezTo>
                <a:cubicBezTo>
                  <a:pt x="3485" y="1840"/>
                  <a:pt x="3453" y="1841"/>
                  <a:pt x="3421" y="1848"/>
                </a:cubicBezTo>
                <a:cubicBezTo>
                  <a:pt x="3396" y="1853"/>
                  <a:pt x="3349" y="1872"/>
                  <a:pt x="3349" y="1872"/>
                </a:cubicBezTo>
                <a:cubicBezTo>
                  <a:pt x="3274" y="1847"/>
                  <a:pt x="3348" y="1859"/>
                  <a:pt x="3289" y="1896"/>
                </a:cubicBezTo>
                <a:cubicBezTo>
                  <a:pt x="3268" y="1909"/>
                  <a:pt x="3241" y="1912"/>
                  <a:pt x="3217" y="1920"/>
                </a:cubicBezTo>
                <a:cubicBezTo>
                  <a:pt x="3203" y="1925"/>
                  <a:pt x="3194" y="1938"/>
                  <a:pt x="3181" y="1944"/>
                </a:cubicBezTo>
                <a:cubicBezTo>
                  <a:pt x="3146" y="1959"/>
                  <a:pt x="3109" y="1968"/>
                  <a:pt x="3073" y="1980"/>
                </a:cubicBezTo>
                <a:cubicBezTo>
                  <a:pt x="3046" y="1989"/>
                  <a:pt x="3025" y="2012"/>
                  <a:pt x="3001" y="2028"/>
                </a:cubicBezTo>
                <a:cubicBezTo>
                  <a:pt x="2990" y="2035"/>
                  <a:pt x="2976" y="2034"/>
                  <a:pt x="2965" y="2040"/>
                </a:cubicBezTo>
                <a:cubicBezTo>
                  <a:pt x="2952" y="2046"/>
                  <a:pt x="2942" y="2058"/>
                  <a:pt x="2929" y="2064"/>
                </a:cubicBezTo>
                <a:cubicBezTo>
                  <a:pt x="2891" y="2083"/>
                  <a:pt x="2847" y="2081"/>
                  <a:pt x="2809" y="2100"/>
                </a:cubicBezTo>
                <a:cubicBezTo>
                  <a:pt x="2716" y="2147"/>
                  <a:pt x="2827" y="2106"/>
                  <a:pt x="2737" y="2136"/>
                </a:cubicBezTo>
                <a:cubicBezTo>
                  <a:pt x="2669" y="2113"/>
                  <a:pt x="2588" y="2150"/>
                  <a:pt x="2521" y="2172"/>
                </a:cubicBezTo>
                <a:cubicBezTo>
                  <a:pt x="2500" y="2235"/>
                  <a:pt x="2485" y="2223"/>
                  <a:pt x="2425" y="2208"/>
                </a:cubicBezTo>
                <a:cubicBezTo>
                  <a:pt x="2343" y="2228"/>
                  <a:pt x="2271" y="2236"/>
                  <a:pt x="2185" y="2244"/>
                </a:cubicBezTo>
                <a:cubicBezTo>
                  <a:pt x="2132" y="2231"/>
                  <a:pt x="2117" y="2215"/>
                  <a:pt x="2065" y="2232"/>
                </a:cubicBezTo>
                <a:cubicBezTo>
                  <a:pt x="2029" y="2228"/>
                  <a:pt x="1993" y="2220"/>
                  <a:pt x="1957" y="2220"/>
                </a:cubicBezTo>
                <a:cubicBezTo>
                  <a:pt x="1944" y="2220"/>
                  <a:pt x="1934" y="2232"/>
                  <a:pt x="1921" y="2232"/>
                </a:cubicBezTo>
                <a:cubicBezTo>
                  <a:pt x="1896" y="2232"/>
                  <a:pt x="1867" y="2208"/>
                  <a:pt x="1849" y="2196"/>
                </a:cubicBezTo>
                <a:cubicBezTo>
                  <a:pt x="1837" y="2200"/>
                  <a:pt x="1825" y="2210"/>
                  <a:pt x="1813" y="2208"/>
                </a:cubicBezTo>
                <a:cubicBezTo>
                  <a:pt x="1799" y="2206"/>
                  <a:pt x="1790" y="2190"/>
                  <a:pt x="1777" y="2184"/>
                </a:cubicBezTo>
                <a:cubicBezTo>
                  <a:pt x="1754" y="2174"/>
                  <a:pt x="1729" y="2168"/>
                  <a:pt x="1705" y="2160"/>
                </a:cubicBezTo>
                <a:cubicBezTo>
                  <a:pt x="1620" y="2132"/>
                  <a:pt x="1570" y="2121"/>
                  <a:pt x="1477" y="2112"/>
                </a:cubicBezTo>
                <a:cubicBezTo>
                  <a:pt x="1436" y="2091"/>
                  <a:pt x="1401" y="2067"/>
                  <a:pt x="1357" y="2052"/>
                </a:cubicBezTo>
                <a:cubicBezTo>
                  <a:pt x="1277" y="2079"/>
                  <a:pt x="1197" y="2061"/>
                  <a:pt x="1129" y="2016"/>
                </a:cubicBezTo>
                <a:cubicBezTo>
                  <a:pt x="1113" y="2020"/>
                  <a:pt x="1097" y="2023"/>
                  <a:pt x="1081" y="2028"/>
                </a:cubicBezTo>
                <a:cubicBezTo>
                  <a:pt x="1069" y="2031"/>
                  <a:pt x="1057" y="2042"/>
                  <a:pt x="1045" y="2040"/>
                </a:cubicBezTo>
                <a:cubicBezTo>
                  <a:pt x="1031" y="2038"/>
                  <a:pt x="1022" y="2022"/>
                  <a:pt x="1009" y="2016"/>
                </a:cubicBezTo>
                <a:cubicBezTo>
                  <a:pt x="998" y="2010"/>
                  <a:pt x="985" y="2008"/>
                  <a:pt x="973" y="2004"/>
                </a:cubicBezTo>
                <a:cubicBezTo>
                  <a:pt x="919" y="2022"/>
                  <a:pt x="910" y="2041"/>
                  <a:pt x="865" y="2016"/>
                </a:cubicBezTo>
                <a:cubicBezTo>
                  <a:pt x="840" y="2002"/>
                  <a:pt x="793" y="1968"/>
                  <a:pt x="793" y="1968"/>
                </a:cubicBezTo>
                <a:cubicBezTo>
                  <a:pt x="735" y="1987"/>
                  <a:pt x="746" y="2012"/>
                  <a:pt x="685" y="1992"/>
                </a:cubicBezTo>
                <a:cubicBezTo>
                  <a:pt x="625" y="2012"/>
                  <a:pt x="661" y="2008"/>
                  <a:pt x="577" y="1980"/>
                </a:cubicBezTo>
                <a:cubicBezTo>
                  <a:pt x="565" y="1976"/>
                  <a:pt x="541" y="1968"/>
                  <a:pt x="541" y="1968"/>
                </a:cubicBezTo>
                <a:cubicBezTo>
                  <a:pt x="537" y="1956"/>
                  <a:pt x="539" y="1939"/>
                  <a:pt x="529" y="1932"/>
                </a:cubicBezTo>
                <a:cubicBezTo>
                  <a:pt x="508" y="1917"/>
                  <a:pt x="457" y="1908"/>
                  <a:pt x="457" y="1908"/>
                </a:cubicBezTo>
                <a:cubicBezTo>
                  <a:pt x="399" y="1946"/>
                  <a:pt x="443" y="1934"/>
                  <a:pt x="385" y="1908"/>
                </a:cubicBezTo>
                <a:cubicBezTo>
                  <a:pt x="362" y="1898"/>
                  <a:pt x="313" y="1884"/>
                  <a:pt x="313" y="1884"/>
                </a:cubicBezTo>
                <a:cubicBezTo>
                  <a:pt x="261" y="1894"/>
                  <a:pt x="230" y="1912"/>
                  <a:pt x="181" y="1896"/>
                </a:cubicBezTo>
                <a:cubicBezTo>
                  <a:pt x="169" y="1900"/>
                  <a:pt x="158" y="1908"/>
                  <a:pt x="145" y="1908"/>
                </a:cubicBezTo>
                <a:cubicBezTo>
                  <a:pt x="132" y="1908"/>
                  <a:pt x="122" y="1896"/>
                  <a:pt x="109" y="1896"/>
                </a:cubicBezTo>
                <a:cubicBezTo>
                  <a:pt x="25" y="1896"/>
                  <a:pt x="0" y="1908"/>
                  <a:pt x="37" y="1908"/>
                </a:cubicBezTo>
                <a:lnTo>
                  <a:pt x="37" y="1776"/>
                </a:lnTo>
                <a:close/>
              </a:path>
            </a:pathLst>
          </a:custGeom>
          <a:solidFill>
            <a:srgbClr val="0000c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1752480"/>
            <a:ext cx="5867280" cy="3962520"/>
          </a:xfrm>
          <a:custGeom>
            <a:avLst/>
            <a:gdLst/>
            <a:ahLst/>
            <a:rect l="l" t="t" r="r" b="b"/>
            <a:pathLst>
              <a:path w="3696" h="2496">
                <a:moveTo>
                  <a:pt x="3696" y="0"/>
                </a:moveTo>
                <a:lnTo>
                  <a:pt x="624" y="0"/>
                </a:lnTo>
                <a:lnTo>
                  <a:pt x="48" y="672"/>
                </a:lnTo>
                <a:lnTo>
                  <a:pt x="0" y="2496"/>
                </a:lnTo>
              </a:path>
            </a:pathLst>
          </a:custGeom>
          <a:noFill/>
          <a:ln w="7632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1880" y="298620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udad del 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80720" y="2593800"/>
            <a:ext cx="801000" cy="531360"/>
            <a:chOff x="1980720" y="2593800"/>
            <a:chExt cx="801000" cy="531360"/>
          </a:xfrm>
        </p:grpSpPr>
        <p:sp>
          <p:nvSpPr>
            <p:cNvPr id="174" name=""/>
            <p:cNvSpPr/>
            <p:nvPr/>
          </p:nvSpPr>
          <p:spPr>
            <a:xfrm>
              <a:off x="2273040" y="2809800"/>
              <a:ext cx="22860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0720" y="2593800"/>
              <a:ext cx="8010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Cen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495680" y="1139760"/>
            <a:ext cx="2057400" cy="4570560"/>
          </a:xfrm>
          <a:custGeom>
            <a:avLst/>
            <a:gdLst/>
            <a:ahLst/>
            <a:rect l="l" t="t" r="r" b="b"/>
            <a:pathLst>
              <a:path w="1296" h="2879">
                <a:moveTo>
                  <a:pt x="1296" y="0"/>
                </a:moveTo>
                <a:cubicBezTo>
                  <a:pt x="1264" y="11"/>
                  <a:pt x="1263" y="39"/>
                  <a:pt x="1248" y="66"/>
                </a:cubicBezTo>
                <a:cubicBezTo>
                  <a:pt x="1219" y="118"/>
                  <a:pt x="1208" y="177"/>
                  <a:pt x="1194" y="234"/>
                </a:cubicBezTo>
                <a:cubicBezTo>
                  <a:pt x="1189" y="255"/>
                  <a:pt x="1177" y="274"/>
                  <a:pt x="1170" y="294"/>
                </a:cubicBezTo>
                <a:cubicBezTo>
                  <a:pt x="1166" y="307"/>
                  <a:pt x="1137" y="369"/>
                  <a:pt x="1134" y="372"/>
                </a:cubicBezTo>
                <a:cubicBezTo>
                  <a:pt x="1130" y="376"/>
                  <a:pt x="1122" y="376"/>
                  <a:pt x="1116" y="378"/>
                </a:cubicBezTo>
                <a:cubicBezTo>
                  <a:pt x="1096" y="411"/>
                  <a:pt x="1078" y="443"/>
                  <a:pt x="1056" y="474"/>
                </a:cubicBezTo>
                <a:cubicBezTo>
                  <a:pt x="1037" y="501"/>
                  <a:pt x="1014" y="526"/>
                  <a:pt x="1002" y="558"/>
                </a:cubicBezTo>
                <a:cubicBezTo>
                  <a:pt x="992" y="585"/>
                  <a:pt x="993" y="615"/>
                  <a:pt x="984" y="642"/>
                </a:cubicBezTo>
                <a:cubicBezTo>
                  <a:pt x="986" y="650"/>
                  <a:pt x="991" y="658"/>
                  <a:pt x="990" y="666"/>
                </a:cubicBezTo>
                <a:cubicBezTo>
                  <a:pt x="989" y="677"/>
                  <a:pt x="981" y="686"/>
                  <a:pt x="978" y="696"/>
                </a:cubicBezTo>
                <a:cubicBezTo>
                  <a:pt x="967" y="729"/>
                  <a:pt x="961" y="769"/>
                  <a:pt x="942" y="798"/>
                </a:cubicBezTo>
                <a:cubicBezTo>
                  <a:pt x="892" y="872"/>
                  <a:pt x="951" y="765"/>
                  <a:pt x="912" y="834"/>
                </a:cubicBezTo>
                <a:cubicBezTo>
                  <a:pt x="896" y="862"/>
                  <a:pt x="888" y="891"/>
                  <a:pt x="870" y="918"/>
                </a:cubicBezTo>
                <a:cubicBezTo>
                  <a:pt x="858" y="965"/>
                  <a:pt x="851" y="1017"/>
                  <a:pt x="822" y="1056"/>
                </a:cubicBezTo>
                <a:cubicBezTo>
                  <a:pt x="808" y="1104"/>
                  <a:pt x="786" y="1164"/>
                  <a:pt x="756" y="1206"/>
                </a:cubicBezTo>
                <a:cubicBezTo>
                  <a:pt x="744" y="1223"/>
                  <a:pt x="727" y="1237"/>
                  <a:pt x="714" y="1254"/>
                </a:cubicBezTo>
                <a:cubicBezTo>
                  <a:pt x="705" y="1281"/>
                  <a:pt x="714" y="1312"/>
                  <a:pt x="702" y="1338"/>
                </a:cubicBezTo>
                <a:cubicBezTo>
                  <a:pt x="696" y="1351"/>
                  <a:pt x="666" y="1362"/>
                  <a:pt x="666" y="1362"/>
                </a:cubicBezTo>
                <a:cubicBezTo>
                  <a:pt x="658" y="1387"/>
                  <a:pt x="645" y="1383"/>
                  <a:pt x="624" y="1398"/>
                </a:cubicBezTo>
                <a:cubicBezTo>
                  <a:pt x="584" y="1427"/>
                  <a:pt x="567" y="1449"/>
                  <a:pt x="522" y="1458"/>
                </a:cubicBezTo>
                <a:cubicBezTo>
                  <a:pt x="495" y="1471"/>
                  <a:pt x="467" y="1477"/>
                  <a:pt x="438" y="1482"/>
                </a:cubicBezTo>
                <a:cubicBezTo>
                  <a:pt x="410" y="1487"/>
                  <a:pt x="354" y="1494"/>
                  <a:pt x="354" y="1494"/>
                </a:cubicBezTo>
                <a:cubicBezTo>
                  <a:pt x="338" y="1499"/>
                  <a:pt x="321" y="1500"/>
                  <a:pt x="306" y="1506"/>
                </a:cubicBezTo>
                <a:cubicBezTo>
                  <a:pt x="299" y="1509"/>
                  <a:pt x="294" y="1515"/>
                  <a:pt x="288" y="1518"/>
                </a:cubicBezTo>
                <a:cubicBezTo>
                  <a:pt x="282" y="1521"/>
                  <a:pt x="276" y="1522"/>
                  <a:pt x="270" y="1524"/>
                </a:cubicBezTo>
                <a:cubicBezTo>
                  <a:pt x="260" y="1554"/>
                  <a:pt x="239" y="1568"/>
                  <a:pt x="210" y="1578"/>
                </a:cubicBezTo>
                <a:cubicBezTo>
                  <a:pt x="181" y="1607"/>
                  <a:pt x="169" y="1651"/>
                  <a:pt x="126" y="1662"/>
                </a:cubicBezTo>
                <a:cubicBezTo>
                  <a:pt x="97" y="1691"/>
                  <a:pt x="78" y="1726"/>
                  <a:pt x="54" y="1758"/>
                </a:cubicBezTo>
                <a:cubicBezTo>
                  <a:pt x="34" y="1785"/>
                  <a:pt x="11" y="1803"/>
                  <a:pt x="0" y="1836"/>
                </a:cubicBezTo>
                <a:cubicBezTo>
                  <a:pt x="7" y="1863"/>
                  <a:pt x="0" y="1854"/>
                  <a:pt x="12" y="1866"/>
                </a:cubicBezTo>
                <a:cubicBezTo>
                  <a:pt x="22" y="1884"/>
                  <a:pt x="33" y="1902"/>
                  <a:pt x="42" y="1920"/>
                </a:cubicBezTo>
                <a:cubicBezTo>
                  <a:pt x="45" y="1926"/>
                  <a:pt x="44" y="1934"/>
                  <a:pt x="48" y="1938"/>
                </a:cubicBezTo>
                <a:cubicBezTo>
                  <a:pt x="60" y="1950"/>
                  <a:pt x="80" y="1946"/>
                  <a:pt x="96" y="1950"/>
                </a:cubicBezTo>
                <a:cubicBezTo>
                  <a:pt x="132" y="1959"/>
                  <a:pt x="167" y="1968"/>
                  <a:pt x="204" y="1974"/>
                </a:cubicBezTo>
                <a:cubicBezTo>
                  <a:pt x="251" y="1997"/>
                  <a:pt x="305" y="1994"/>
                  <a:pt x="354" y="2010"/>
                </a:cubicBezTo>
                <a:cubicBezTo>
                  <a:pt x="397" y="2042"/>
                  <a:pt x="451" y="2081"/>
                  <a:pt x="504" y="2094"/>
                </a:cubicBezTo>
                <a:cubicBezTo>
                  <a:pt x="581" y="2145"/>
                  <a:pt x="637" y="2223"/>
                  <a:pt x="714" y="2274"/>
                </a:cubicBezTo>
                <a:cubicBezTo>
                  <a:pt x="732" y="2301"/>
                  <a:pt x="749" y="2324"/>
                  <a:pt x="780" y="2334"/>
                </a:cubicBezTo>
                <a:cubicBezTo>
                  <a:pt x="766" y="2377"/>
                  <a:pt x="780" y="2424"/>
                  <a:pt x="804" y="2460"/>
                </a:cubicBezTo>
                <a:cubicBezTo>
                  <a:pt x="808" y="2506"/>
                  <a:pt x="812" y="2528"/>
                  <a:pt x="822" y="2568"/>
                </a:cubicBezTo>
                <a:cubicBezTo>
                  <a:pt x="827" y="2672"/>
                  <a:pt x="839" y="2697"/>
                  <a:pt x="846" y="2790"/>
                </a:cubicBezTo>
                <a:cubicBezTo>
                  <a:pt x="838" y="2815"/>
                  <a:pt x="847" y="2830"/>
                  <a:pt x="852" y="2856"/>
                </a:cubicBezTo>
                <a:cubicBezTo>
                  <a:pt x="838" y="2876"/>
                  <a:pt x="835" y="2879"/>
                  <a:pt x="846" y="2868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06680" y="1139760"/>
            <a:ext cx="4165560" cy="4591080"/>
          </a:xfrm>
          <a:custGeom>
            <a:avLst/>
            <a:gdLst/>
            <a:ahLst/>
            <a:rect l="l" t="t" r="r" b="b"/>
            <a:pathLst>
              <a:path w="2624" h="2892">
                <a:moveTo>
                  <a:pt x="2624" y="0"/>
                </a:moveTo>
                <a:cubicBezTo>
                  <a:pt x="2605" y="26"/>
                  <a:pt x="2602" y="49"/>
                  <a:pt x="2588" y="78"/>
                </a:cubicBezTo>
                <a:cubicBezTo>
                  <a:pt x="2580" y="137"/>
                  <a:pt x="2556" y="217"/>
                  <a:pt x="2504" y="252"/>
                </a:cubicBezTo>
                <a:cubicBezTo>
                  <a:pt x="2469" y="322"/>
                  <a:pt x="2422" y="390"/>
                  <a:pt x="2372" y="450"/>
                </a:cubicBezTo>
                <a:cubicBezTo>
                  <a:pt x="2350" y="476"/>
                  <a:pt x="2334" y="499"/>
                  <a:pt x="2300" y="510"/>
                </a:cubicBezTo>
                <a:cubicBezTo>
                  <a:pt x="2260" y="630"/>
                  <a:pt x="2198" y="755"/>
                  <a:pt x="2126" y="858"/>
                </a:cubicBezTo>
                <a:cubicBezTo>
                  <a:pt x="2098" y="898"/>
                  <a:pt x="2078" y="938"/>
                  <a:pt x="2030" y="954"/>
                </a:cubicBezTo>
                <a:cubicBezTo>
                  <a:pt x="1999" y="1007"/>
                  <a:pt x="1959" y="1055"/>
                  <a:pt x="1916" y="1098"/>
                </a:cubicBezTo>
                <a:cubicBezTo>
                  <a:pt x="1897" y="1117"/>
                  <a:pt x="1875" y="1117"/>
                  <a:pt x="1856" y="1134"/>
                </a:cubicBezTo>
                <a:cubicBezTo>
                  <a:pt x="1785" y="1196"/>
                  <a:pt x="1710" y="1255"/>
                  <a:pt x="1616" y="1278"/>
                </a:cubicBezTo>
                <a:cubicBezTo>
                  <a:pt x="1594" y="1294"/>
                  <a:pt x="1577" y="1304"/>
                  <a:pt x="1562" y="1326"/>
                </a:cubicBezTo>
                <a:cubicBezTo>
                  <a:pt x="1548" y="1381"/>
                  <a:pt x="1527" y="1390"/>
                  <a:pt x="1478" y="1428"/>
                </a:cubicBezTo>
                <a:cubicBezTo>
                  <a:pt x="1467" y="1437"/>
                  <a:pt x="1442" y="1452"/>
                  <a:pt x="1442" y="1452"/>
                </a:cubicBezTo>
                <a:cubicBezTo>
                  <a:pt x="1434" y="1464"/>
                  <a:pt x="1426" y="1476"/>
                  <a:pt x="1418" y="1488"/>
                </a:cubicBezTo>
                <a:cubicBezTo>
                  <a:pt x="1409" y="1502"/>
                  <a:pt x="1382" y="1524"/>
                  <a:pt x="1382" y="1524"/>
                </a:cubicBezTo>
                <a:cubicBezTo>
                  <a:pt x="1380" y="1530"/>
                  <a:pt x="1381" y="1538"/>
                  <a:pt x="1376" y="1542"/>
                </a:cubicBezTo>
                <a:cubicBezTo>
                  <a:pt x="1366" y="1549"/>
                  <a:pt x="1340" y="1554"/>
                  <a:pt x="1340" y="1554"/>
                </a:cubicBezTo>
                <a:cubicBezTo>
                  <a:pt x="1308" y="1578"/>
                  <a:pt x="1226" y="1612"/>
                  <a:pt x="1184" y="1626"/>
                </a:cubicBezTo>
                <a:cubicBezTo>
                  <a:pt x="1152" y="1637"/>
                  <a:pt x="1116" y="1630"/>
                  <a:pt x="1082" y="1632"/>
                </a:cubicBezTo>
                <a:cubicBezTo>
                  <a:pt x="1040" y="1640"/>
                  <a:pt x="986" y="1648"/>
                  <a:pt x="950" y="1674"/>
                </a:cubicBezTo>
                <a:cubicBezTo>
                  <a:pt x="921" y="1695"/>
                  <a:pt x="945" y="1692"/>
                  <a:pt x="908" y="1704"/>
                </a:cubicBezTo>
                <a:cubicBezTo>
                  <a:pt x="854" y="1722"/>
                  <a:pt x="796" y="1721"/>
                  <a:pt x="740" y="1728"/>
                </a:cubicBezTo>
                <a:cubicBezTo>
                  <a:pt x="700" y="1733"/>
                  <a:pt x="661" y="1741"/>
                  <a:pt x="620" y="1746"/>
                </a:cubicBezTo>
                <a:cubicBezTo>
                  <a:pt x="583" y="1758"/>
                  <a:pt x="560" y="1792"/>
                  <a:pt x="524" y="1806"/>
                </a:cubicBezTo>
                <a:cubicBezTo>
                  <a:pt x="507" y="1813"/>
                  <a:pt x="493" y="1825"/>
                  <a:pt x="476" y="1830"/>
                </a:cubicBezTo>
                <a:cubicBezTo>
                  <a:pt x="453" y="1837"/>
                  <a:pt x="428" y="1837"/>
                  <a:pt x="404" y="1842"/>
                </a:cubicBezTo>
                <a:cubicBezTo>
                  <a:pt x="363" y="1870"/>
                  <a:pt x="382" y="1871"/>
                  <a:pt x="350" y="1860"/>
                </a:cubicBezTo>
                <a:cubicBezTo>
                  <a:pt x="343" y="1869"/>
                  <a:pt x="308" y="1921"/>
                  <a:pt x="290" y="1932"/>
                </a:cubicBezTo>
                <a:cubicBezTo>
                  <a:pt x="272" y="1943"/>
                  <a:pt x="250" y="1943"/>
                  <a:pt x="230" y="1950"/>
                </a:cubicBezTo>
                <a:cubicBezTo>
                  <a:pt x="208" y="1957"/>
                  <a:pt x="164" y="1968"/>
                  <a:pt x="164" y="1968"/>
                </a:cubicBezTo>
                <a:cubicBezTo>
                  <a:pt x="152" y="1976"/>
                  <a:pt x="136" y="1980"/>
                  <a:pt x="128" y="1992"/>
                </a:cubicBezTo>
                <a:cubicBezTo>
                  <a:pt x="124" y="1998"/>
                  <a:pt x="122" y="2006"/>
                  <a:pt x="116" y="2010"/>
                </a:cubicBezTo>
                <a:cubicBezTo>
                  <a:pt x="106" y="2016"/>
                  <a:pt x="70" y="2024"/>
                  <a:pt x="56" y="2028"/>
                </a:cubicBezTo>
                <a:cubicBezTo>
                  <a:pt x="49" y="2048"/>
                  <a:pt x="50" y="2052"/>
                  <a:pt x="50" y="2040"/>
                </a:cubicBezTo>
                <a:cubicBezTo>
                  <a:pt x="38" y="2080"/>
                  <a:pt x="22" y="2119"/>
                  <a:pt x="14" y="2160"/>
                </a:cubicBezTo>
                <a:cubicBezTo>
                  <a:pt x="0" y="2230"/>
                  <a:pt x="108" y="2243"/>
                  <a:pt x="152" y="2250"/>
                </a:cubicBezTo>
                <a:cubicBezTo>
                  <a:pt x="255" y="2291"/>
                  <a:pt x="359" y="2326"/>
                  <a:pt x="470" y="2340"/>
                </a:cubicBezTo>
                <a:cubicBezTo>
                  <a:pt x="565" y="2326"/>
                  <a:pt x="675" y="2353"/>
                  <a:pt x="770" y="2358"/>
                </a:cubicBezTo>
                <a:cubicBezTo>
                  <a:pt x="809" y="2362"/>
                  <a:pt x="846" y="2367"/>
                  <a:pt x="884" y="2376"/>
                </a:cubicBezTo>
                <a:cubicBezTo>
                  <a:pt x="910" y="2395"/>
                  <a:pt x="931" y="2410"/>
                  <a:pt x="962" y="2418"/>
                </a:cubicBezTo>
                <a:cubicBezTo>
                  <a:pt x="986" y="2434"/>
                  <a:pt x="1000" y="2434"/>
                  <a:pt x="1028" y="2442"/>
                </a:cubicBezTo>
                <a:cubicBezTo>
                  <a:pt x="1040" y="2445"/>
                  <a:pt x="1064" y="2454"/>
                  <a:pt x="1064" y="2454"/>
                </a:cubicBezTo>
                <a:cubicBezTo>
                  <a:pt x="1085" y="2486"/>
                  <a:pt x="1095" y="2528"/>
                  <a:pt x="1112" y="2562"/>
                </a:cubicBezTo>
                <a:cubicBezTo>
                  <a:pt x="1121" y="2580"/>
                  <a:pt x="1142" y="2616"/>
                  <a:pt x="1142" y="2616"/>
                </a:cubicBezTo>
                <a:cubicBezTo>
                  <a:pt x="1148" y="2739"/>
                  <a:pt x="1151" y="2711"/>
                  <a:pt x="1172" y="2796"/>
                </a:cubicBezTo>
                <a:cubicBezTo>
                  <a:pt x="1163" y="2822"/>
                  <a:pt x="1181" y="2839"/>
                  <a:pt x="1166" y="2862"/>
                </a:cubicBezTo>
                <a:cubicBezTo>
                  <a:pt x="1146" y="2892"/>
                  <a:pt x="1148" y="2854"/>
                  <a:pt x="1148" y="287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4920" y="1143000"/>
            <a:ext cx="6194160" cy="4572000"/>
          </a:xfrm>
          <a:custGeom>
            <a:avLst/>
            <a:gdLst/>
            <a:ahLst/>
            <a:rect l="l" t="t" r="r" b="b"/>
            <a:pathLst>
              <a:path w="3902" h="2880">
                <a:moveTo>
                  <a:pt x="3902" y="0"/>
                </a:moveTo>
                <a:cubicBezTo>
                  <a:pt x="3874" y="19"/>
                  <a:pt x="3870" y="50"/>
                  <a:pt x="3842" y="78"/>
                </a:cubicBezTo>
                <a:cubicBezTo>
                  <a:pt x="3828" y="119"/>
                  <a:pt x="3785" y="143"/>
                  <a:pt x="3752" y="168"/>
                </a:cubicBezTo>
                <a:cubicBezTo>
                  <a:pt x="3730" y="184"/>
                  <a:pt x="3679" y="252"/>
                  <a:pt x="3662" y="276"/>
                </a:cubicBezTo>
                <a:cubicBezTo>
                  <a:pt x="3651" y="291"/>
                  <a:pt x="3646" y="312"/>
                  <a:pt x="3632" y="324"/>
                </a:cubicBezTo>
                <a:cubicBezTo>
                  <a:pt x="3618" y="336"/>
                  <a:pt x="3596" y="331"/>
                  <a:pt x="3578" y="336"/>
                </a:cubicBezTo>
                <a:cubicBezTo>
                  <a:pt x="3556" y="343"/>
                  <a:pt x="3534" y="352"/>
                  <a:pt x="3512" y="360"/>
                </a:cubicBezTo>
                <a:cubicBezTo>
                  <a:pt x="3478" y="373"/>
                  <a:pt x="3449" y="393"/>
                  <a:pt x="3416" y="408"/>
                </a:cubicBezTo>
                <a:cubicBezTo>
                  <a:pt x="3377" y="426"/>
                  <a:pt x="3338" y="438"/>
                  <a:pt x="3302" y="462"/>
                </a:cubicBezTo>
                <a:cubicBezTo>
                  <a:pt x="3247" y="499"/>
                  <a:pt x="3200" y="544"/>
                  <a:pt x="3146" y="582"/>
                </a:cubicBezTo>
                <a:cubicBezTo>
                  <a:pt x="3121" y="600"/>
                  <a:pt x="3110" y="616"/>
                  <a:pt x="3080" y="624"/>
                </a:cubicBezTo>
                <a:cubicBezTo>
                  <a:pt x="3001" y="672"/>
                  <a:pt x="2885" y="764"/>
                  <a:pt x="2798" y="786"/>
                </a:cubicBezTo>
                <a:cubicBezTo>
                  <a:pt x="2775" y="801"/>
                  <a:pt x="2749" y="807"/>
                  <a:pt x="2726" y="822"/>
                </a:cubicBezTo>
                <a:cubicBezTo>
                  <a:pt x="2707" y="850"/>
                  <a:pt x="2680" y="859"/>
                  <a:pt x="2660" y="888"/>
                </a:cubicBezTo>
                <a:cubicBezTo>
                  <a:pt x="2634" y="928"/>
                  <a:pt x="2619" y="956"/>
                  <a:pt x="2588" y="996"/>
                </a:cubicBezTo>
                <a:cubicBezTo>
                  <a:pt x="2574" y="1014"/>
                  <a:pt x="2559" y="1030"/>
                  <a:pt x="2540" y="1044"/>
                </a:cubicBezTo>
                <a:cubicBezTo>
                  <a:pt x="2529" y="1053"/>
                  <a:pt x="2504" y="1068"/>
                  <a:pt x="2504" y="1068"/>
                </a:cubicBezTo>
                <a:cubicBezTo>
                  <a:pt x="2473" y="1114"/>
                  <a:pt x="2438" y="1112"/>
                  <a:pt x="2396" y="1140"/>
                </a:cubicBezTo>
                <a:cubicBezTo>
                  <a:pt x="2356" y="1200"/>
                  <a:pt x="2274" y="1217"/>
                  <a:pt x="2216" y="1254"/>
                </a:cubicBezTo>
                <a:cubicBezTo>
                  <a:pt x="2133" y="1307"/>
                  <a:pt x="2068" y="1380"/>
                  <a:pt x="1970" y="1404"/>
                </a:cubicBezTo>
                <a:cubicBezTo>
                  <a:pt x="1938" y="1425"/>
                  <a:pt x="1898" y="1424"/>
                  <a:pt x="1862" y="1440"/>
                </a:cubicBezTo>
                <a:cubicBezTo>
                  <a:pt x="1829" y="1455"/>
                  <a:pt x="1792" y="1470"/>
                  <a:pt x="1760" y="1488"/>
                </a:cubicBezTo>
                <a:cubicBezTo>
                  <a:pt x="1721" y="1510"/>
                  <a:pt x="1677" y="1543"/>
                  <a:pt x="1634" y="1554"/>
                </a:cubicBezTo>
                <a:cubicBezTo>
                  <a:pt x="1582" y="1589"/>
                  <a:pt x="1524" y="1589"/>
                  <a:pt x="1466" y="1608"/>
                </a:cubicBezTo>
                <a:cubicBezTo>
                  <a:pt x="1348" y="1647"/>
                  <a:pt x="1230" y="1682"/>
                  <a:pt x="1106" y="1692"/>
                </a:cubicBezTo>
                <a:cubicBezTo>
                  <a:pt x="1063" y="1706"/>
                  <a:pt x="1117" y="1692"/>
                  <a:pt x="1064" y="1692"/>
                </a:cubicBezTo>
                <a:cubicBezTo>
                  <a:pt x="1043" y="1692"/>
                  <a:pt x="1029" y="1698"/>
                  <a:pt x="1010" y="1704"/>
                </a:cubicBezTo>
                <a:cubicBezTo>
                  <a:pt x="929" y="1692"/>
                  <a:pt x="858" y="1694"/>
                  <a:pt x="776" y="1698"/>
                </a:cubicBezTo>
                <a:cubicBezTo>
                  <a:pt x="732" y="1716"/>
                  <a:pt x="724" y="1730"/>
                  <a:pt x="674" y="1722"/>
                </a:cubicBezTo>
                <a:cubicBezTo>
                  <a:pt x="640" y="1733"/>
                  <a:pt x="608" y="1741"/>
                  <a:pt x="572" y="1746"/>
                </a:cubicBezTo>
                <a:cubicBezTo>
                  <a:pt x="483" y="1736"/>
                  <a:pt x="401" y="1751"/>
                  <a:pt x="314" y="1722"/>
                </a:cubicBezTo>
                <a:cubicBezTo>
                  <a:pt x="264" y="1732"/>
                  <a:pt x="215" y="1746"/>
                  <a:pt x="164" y="1752"/>
                </a:cubicBezTo>
                <a:cubicBezTo>
                  <a:pt x="109" y="1770"/>
                  <a:pt x="141" y="1763"/>
                  <a:pt x="68" y="1770"/>
                </a:cubicBezTo>
                <a:cubicBezTo>
                  <a:pt x="66" y="1776"/>
                  <a:pt x="68" y="1785"/>
                  <a:pt x="62" y="1788"/>
                </a:cubicBezTo>
                <a:cubicBezTo>
                  <a:pt x="56" y="1791"/>
                  <a:pt x="48" y="1778"/>
                  <a:pt x="44" y="1782"/>
                </a:cubicBezTo>
                <a:cubicBezTo>
                  <a:pt x="40" y="1786"/>
                  <a:pt x="47" y="1794"/>
                  <a:pt x="50" y="1800"/>
                </a:cubicBezTo>
                <a:cubicBezTo>
                  <a:pt x="51" y="1802"/>
                  <a:pt x="50" y="1796"/>
                  <a:pt x="50" y="1794"/>
                </a:cubicBezTo>
                <a:cubicBezTo>
                  <a:pt x="10" y="1881"/>
                  <a:pt x="0" y="1871"/>
                  <a:pt x="50" y="1938"/>
                </a:cubicBezTo>
                <a:cubicBezTo>
                  <a:pt x="57" y="1958"/>
                  <a:pt x="68" y="2003"/>
                  <a:pt x="86" y="2016"/>
                </a:cubicBezTo>
                <a:cubicBezTo>
                  <a:pt x="113" y="2036"/>
                  <a:pt x="147" y="2048"/>
                  <a:pt x="176" y="2064"/>
                </a:cubicBezTo>
                <a:cubicBezTo>
                  <a:pt x="242" y="2101"/>
                  <a:pt x="160" y="2061"/>
                  <a:pt x="218" y="2106"/>
                </a:cubicBezTo>
                <a:cubicBezTo>
                  <a:pt x="271" y="2147"/>
                  <a:pt x="314" y="2160"/>
                  <a:pt x="374" y="2178"/>
                </a:cubicBezTo>
                <a:cubicBezTo>
                  <a:pt x="444" y="2199"/>
                  <a:pt x="436" y="2212"/>
                  <a:pt x="512" y="2220"/>
                </a:cubicBezTo>
                <a:cubicBezTo>
                  <a:pt x="525" y="2233"/>
                  <a:pt x="543" y="2242"/>
                  <a:pt x="554" y="2256"/>
                </a:cubicBezTo>
                <a:cubicBezTo>
                  <a:pt x="577" y="2285"/>
                  <a:pt x="620" y="2346"/>
                  <a:pt x="638" y="2382"/>
                </a:cubicBezTo>
                <a:cubicBezTo>
                  <a:pt x="656" y="2418"/>
                  <a:pt x="658" y="2456"/>
                  <a:pt x="698" y="2466"/>
                </a:cubicBezTo>
                <a:cubicBezTo>
                  <a:pt x="750" y="2500"/>
                  <a:pt x="760" y="2558"/>
                  <a:pt x="800" y="2598"/>
                </a:cubicBezTo>
                <a:cubicBezTo>
                  <a:pt x="820" y="2648"/>
                  <a:pt x="832" y="2696"/>
                  <a:pt x="860" y="2742"/>
                </a:cubicBezTo>
                <a:cubicBezTo>
                  <a:pt x="866" y="2767"/>
                  <a:pt x="873" y="2785"/>
                  <a:pt x="884" y="2808"/>
                </a:cubicBezTo>
                <a:cubicBezTo>
                  <a:pt x="881" y="2820"/>
                  <a:pt x="858" y="2880"/>
                  <a:pt x="872" y="288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58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9280" y="34815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895480"/>
            <a:ext cx="381240" cy="304920"/>
          </a:xfrm>
          <a:prstGeom prst="star5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5080" y="3105000"/>
            <a:ext cx="152280" cy="152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32440" y="3048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7960" y="4308480"/>
            <a:ext cx="1067040" cy="914400"/>
          </a:xfrm>
          <a:custGeom>
            <a:avLst/>
            <a:gdLst>
              <a:gd name="textAreaLeft" fmla="*/ 439560 w 1067040"/>
              <a:gd name="textAreaRight" fmla="*/ 627480 w 106704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1640" y="44956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57360" y="4495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515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3444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664320" y="3733920"/>
            <a:ext cx="584280" cy="618480"/>
            <a:chOff x="6664320" y="3733920"/>
            <a:chExt cx="584280" cy="618480"/>
          </a:xfrm>
        </p:grpSpPr>
        <p:sp>
          <p:nvSpPr>
            <p:cNvPr id="190" name=""/>
            <p:cNvSpPr/>
            <p:nvPr/>
          </p:nvSpPr>
          <p:spPr>
            <a:xfrm>
              <a:off x="6988320" y="3733920"/>
              <a:ext cx="136440" cy="15228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14" y="42"/>
                  </a:moveTo>
                  <a:cubicBezTo>
                    <a:pt x="0" y="84"/>
                    <a:pt x="21" y="77"/>
                    <a:pt x="50" y="96"/>
                  </a:cubicBezTo>
                  <a:cubicBezTo>
                    <a:pt x="71" y="82"/>
                    <a:pt x="78" y="72"/>
                    <a:pt x="86" y="48"/>
                  </a:cubicBezTo>
                  <a:cubicBezTo>
                    <a:pt x="58" y="6"/>
                    <a:pt x="74" y="20"/>
                    <a:pt x="44" y="0"/>
                  </a:cubicBezTo>
                  <a:cubicBezTo>
                    <a:pt x="11" y="11"/>
                    <a:pt x="5" y="5"/>
                    <a:pt x="14" y="42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53240" y="3886200"/>
              <a:ext cx="390600" cy="209160"/>
            </a:xfrm>
            <a:custGeom>
              <a:avLst/>
              <a:gdLst/>
              <a:ahLst/>
              <a:rect l="l" t="t" r="r" b="b"/>
              <a:pathLst>
                <a:path w="246" h="132">
                  <a:moveTo>
                    <a:pt x="210" y="36"/>
                  </a:moveTo>
                  <a:cubicBezTo>
                    <a:pt x="188" y="22"/>
                    <a:pt x="163" y="8"/>
                    <a:pt x="138" y="0"/>
                  </a:cubicBezTo>
                  <a:cubicBezTo>
                    <a:pt x="92" y="15"/>
                    <a:pt x="48" y="28"/>
                    <a:pt x="0" y="36"/>
                  </a:cubicBezTo>
                  <a:cubicBezTo>
                    <a:pt x="11" y="68"/>
                    <a:pt x="27" y="66"/>
                    <a:pt x="60" y="72"/>
                  </a:cubicBezTo>
                  <a:cubicBezTo>
                    <a:pt x="71" y="106"/>
                    <a:pt x="57" y="80"/>
                    <a:pt x="102" y="96"/>
                  </a:cubicBezTo>
                  <a:cubicBezTo>
                    <a:pt x="131" y="106"/>
                    <a:pt x="145" y="117"/>
                    <a:pt x="168" y="132"/>
                  </a:cubicBezTo>
                  <a:cubicBezTo>
                    <a:pt x="204" y="120"/>
                    <a:pt x="174" y="108"/>
                    <a:pt x="210" y="96"/>
                  </a:cubicBezTo>
                  <a:cubicBezTo>
                    <a:pt x="218" y="84"/>
                    <a:pt x="246" y="68"/>
                    <a:pt x="234" y="60"/>
                  </a:cubicBezTo>
                  <a:cubicBezTo>
                    <a:pt x="195" y="34"/>
                    <a:pt x="184" y="36"/>
                    <a:pt x="210" y="36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4133880"/>
              <a:ext cx="243000" cy="218520"/>
            </a:xfrm>
            <a:custGeom>
              <a:avLst/>
              <a:gdLst/>
              <a:ahLst/>
              <a:rect l="l" t="t" r="r" b="b"/>
              <a:pathLst>
                <a:path w="153" h="138">
                  <a:moveTo>
                    <a:pt x="117" y="0"/>
                  </a:moveTo>
                  <a:cubicBezTo>
                    <a:pt x="99" y="55"/>
                    <a:pt x="118" y="37"/>
                    <a:pt x="45" y="30"/>
                  </a:cubicBezTo>
                  <a:cubicBezTo>
                    <a:pt x="24" y="23"/>
                    <a:pt x="26" y="17"/>
                    <a:pt x="15" y="42"/>
                  </a:cubicBezTo>
                  <a:cubicBezTo>
                    <a:pt x="10" y="54"/>
                    <a:pt x="3" y="78"/>
                    <a:pt x="3" y="78"/>
                  </a:cubicBezTo>
                  <a:cubicBezTo>
                    <a:pt x="5" y="88"/>
                    <a:pt x="0" y="103"/>
                    <a:pt x="9" y="108"/>
                  </a:cubicBezTo>
                  <a:cubicBezTo>
                    <a:pt x="20" y="114"/>
                    <a:pt x="33" y="102"/>
                    <a:pt x="45" y="102"/>
                  </a:cubicBezTo>
                  <a:cubicBezTo>
                    <a:pt x="57" y="102"/>
                    <a:pt x="69" y="105"/>
                    <a:pt x="81" y="108"/>
                  </a:cubicBezTo>
                  <a:cubicBezTo>
                    <a:pt x="101" y="112"/>
                    <a:pt x="135" y="138"/>
                    <a:pt x="135" y="138"/>
                  </a:cubicBezTo>
                  <a:cubicBezTo>
                    <a:pt x="143" y="114"/>
                    <a:pt x="147" y="90"/>
                    <a:pt x="153" y="66"/>
                  </a:cubicBezTo>
                  <a:cubicBezTo>
                    <a:pt x="145" y="41"/>
                    <a:pt x="128" y="23"/>
                    <a:pt x="117" y="0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64320" y="3917880"/>
              <a:ext cx="128520" cy="26964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62" y="40"/>
                  </a:moveTo>
                  <a:cubicBezTo>
                    <a:pt x="56" y="36"/>
                    <a:pt x="49" y="34"/>
                    <a:pt x="44" y="28"/>
                  </a:cubicBezTo>
                  <a:cubicBezTo>
                    <a:pt x="30" y="11"/>
                    <a:pt x="48" y="0"/>
                    <a:pt x="26" y="22"/>
                  </a:cubicBezTo>
                  <a:cubicBezTo>
                    <a:pt x="17" y="170"/>
                    <a:pt x="0" y="99"/>
                    <a:pt x="74" y="148"/>
                  </a:cubicBezTo>
                  <a:cubicBezTo>
                    <a:pt x="81" y="126"/>
                    <a:pt x="73" y="116"/>
                    <a:pt x="80" y="94"/>
                  </a:cubicBezTo>
                  <a:cubicBezTo>
                    <a:pt x="74" y="85"/>
                    <a:pt x="36" y="40"/>
                    <a:pt x="62" y="40"/>
                  </a:cubicBezTo>
                  <a:close/>
                </a:path>
              </a:pathLst>
            </a:custGeom>
            <a:solidFill>
              <a:srgbClr val="008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173640" y="31082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10080" y="1131840"/>
            <a:ext cx="3247920" cy="1154160"/>
          </a:xfrm>
          <a:custGeom>
            <a:avLst/>
            <a:gdLst/>
            <a:ahLst/>
            <a:rect l="l" t="t" r="r" b="b"/>
            <a:pathLst>
              <a:path w="2046" h="727">
                <a:moveTo>
                  <a:pt x="2046" y="13"/>
                </a:moveTo>
                <a:cubicBezTo>
                  <a:pt x="2015" y="34"/>
                  <a:pt x="1992" y="58"/>
                  <a:pt x="1962" y="79"/>
                </a:cubicBezTo>
                <a:cubicBezTo>
                  <a:pt x="1918" y="110"/>
                  <a:pt x="1873" y="137"/>
                  <a:pt x="1830" y="169"/>
                </a:cubicBezTo>
                <a:cubicBezTo>
                  <a:pt x="1814" y="181"/>
                  <a:pt x="1810" y="205"/>
                  <a:pt x="1794" y="217"/>
                </a:cubicBezTo>
                <a:cubicBezTo>
                  <a:pt x="1786" y="223"/>
                  <a:pt x="1778" y="228"/>
                  <a:pt x="1770" y="235"/>
                </a:cubicBezTo>
                <a:cubicBezTo>
                  <a:pt x="1742" y="259"/>
                  <a:pt x="1717" y="276"/>
                  <a:pt x="1686" y="295"/>
                </a:cubicBezTo>
                <a:cubicBezTo>
                  <a:pt x="1674" y="302"/>
                  <a:pt x="1662" y="311"/>
                  <a:pt x="1650" y="319"/>
                </a:cubicBezTo>
                <a:cubicBezTo>
                  <a:pt x="1644" y="323"/>
                  <a:pt x="1632" y="331"/>
                  <a:pt x="1632" y="331"/>
                </a:cubicBezTo>
                <a:cubicBezTo>
                  <a:pt x="1620" y="327"/>
                  <a:pt x="1608" y="323"/>
                  <a:pt x="1596" y="319"/>
                </a:cubicBezTo>
                <a:cubicBezTo>
                  <a:pt x="1581" y="314"/>
                  <a:pt x="1547" y="361"/>
                  <a:pt x="1536" y="367"/>
                </a:cubicBezTo>
                <a:cubicBezTo>
                  <a:pt x="1525" y="374"/>
                  <a:pt x="1512" y="375"/>
                  <a:pt x="1500" y="379"/>
                </a:cubicBezTo>
                <a:cubicBezTo>
                  <a:pt x="1494" y="381"/>
                  <a:pt x="1482" y="385"/>
                  <a:pt x="1482" y="385"/>
                </a:cubicBezTo>
                <a:cubicBezTo>
                  <a:pt x="1413" y="440"/>
                  <a:pt x="1403" y="448"/>
                  <a:pt x="1314" y="457"/>
                </a:cubicBezTo>
                <a:cubicBezTo>
                  <a:pt x="1255" y="477"/>
                  <a:pt x="1213" y="533"/>
                  <a:pt x="1164" y="571"/>
                </a:cubicBezTo>
                <a:cubicBezTo>
                  <a:pt x="1147" y="585"/>
                  <a:pt x="1120" y="575"/>
                  <a:pt x="1098" y="577"/>
                </a:cubicBezTo>
                <a:cubicBezTo>
                  <a:pt x="1078" y="583"/>
                  <a:pt x="1056" y="585"/>
                  <a:pt x="1038" y="595"/>
                </a:cubicBezTo>
                <a:cubicBezTo>
                  <a:pt x="976" y="629"/>
                  <a:pt x="1025" y="611"/>
                  <a:pt x="984" y="625"/>
                </a:cubicBezTo>
                <a:cubicBezTo>
                  <a:pt x="956" y="653"/>
                  <a:pt x="920" y="659"/>
                  <a:pt x="882" y="667"/>
                </a:cubicBezTo>
                <a:cubicBezTo>
                  <a:pt x="852" y="687"/>
                  <a:pt x="821" y="695"/>
                  <a:pt x="792" y="715"/>
                </a:cubicBezTo>
                <a:cubicBezTo>
                  <a:pt x="712" y="704"/>
                  <a:pt x="626" y="722"/>
                  <a:pt x="546" y="727"/>
                </a:cubicBezTo>
                <a:cubicBezTo>
                  <a:pt x="489" y="708"/>
                  <a:pt x="501" y="702"/>
                  <a:pt x="468" y="661"/>
                </a:cubicBezTo>
                <a:cubicBezTo>
                  <a:pt x="430" y="613"/>
                  <a:pt x="379" y="572"/>
                  <a:pt x="336" y="529"/>
                </a:cubicBezTo>
                <a:cubicBezTo>
                  <a:pt x="309" y="502"/>
                  <a:pt x="290" y="470"/>
                  <a:pt x="252" y="457"/>
                </a:cubicBezTo>
                <a:cubicBezTo>
                  <a:pt x="234" y="439"/>
                  <a:pt x="228" y="423"/>
                  <a:pt x="204" y="415"/>
                </a:cubicBezTo>
                <a:cubicBezTo>
                  <a:pt x="193" y="404"/>
                  <a:pt x="179" y="396"/>
                  <a:pt x="168" y="385"/>
                </a:cubicBezTo>
                <a:cubicBezTo>
                  <a:pt x="154" y="371"/>
                  <a:pt x="150" y="349"/>
                  <a:pt x="144" y="331"/>
                </a:cubicBezTo>
                <a:cubicBezTo>
                  <a:pt x="132" y="295"/>
                  <a:pt x="117" y="266"/>
                  <a:pt x="108" y="229"/>
                </a:cubicBezTo>
                <a:cubicBezTo>
                  <a:pt x="101" y="200"/>
                  <a:pt x="105" y="219"/>
                  <a:pt x="84" y="193"/>
                </a:cubicBezTo>
                <a:cubicBezTo>
                  <a:pt x="75" y="182"/>
                  <a:pt x="60" y="157"/>
                  <a:pt x="60" y="157"/>
                </a:cubicBezTo>
                <a:cubicBezTo>
                  <a:pt x="58" y="145"/>
                  <a:pt x="57" y="133"/>
                  <a:pt x="54" y="121"/>
                </a:cubicBezTo>
                <a:cubicBezTo>
                  <a:pt x="51" y="109"/>
                  <a:pt x="42" y="85"/>
                  <a:pt x="42" y="85"/>
                </a:cubicBezTo>
                <a:cubicBezTo>
                  <a:pt x="44" y="79"/>
                  <a:pt x="48" y="73"/>
                  <a:pt x="48" y="67"/>
                </a:cubicBezTo>
                <a:cubicBezTo>
                  <a:pt x="48" y="61"/>
                  <a:pt x="41" y="55"/>
                  <a:pt x="42" y="49"/>
                </a:cubicBezTo>
                <a:cubicBezTo>
                  <a:pt x="43" y="36"/>
                  <a:pt x="54" y="0"/>
                  <a:pt x="54" y="13"/>
                </a:cubicBezTo>
                <a:cubicBezTo>
                  <a:pt x="54" y="19"/>
                  <a:pt x="54" y="25"/>
                  <a:pt x="54" y="31"/>
                </a:cubicBezTo>
                <a:lnTo>
                  <a:pt x="0" y="55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4840" y="1143000"/>
            <a:ext cx="743040" cy="50472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67080" y="1305000"/>
            <a:ext cx="1047600" cy="552240"/>
          </a:xfrm>
          <a:custGeom>
            <a:avLst/>
            <a:gdLst/>
            <a:ahLst/>
            <a:rect l="l" t="t" r="r" b="b"/>
            <a:pathLst>
              <a:path w="660" h="348">
                <a:moveTo>
                  <a:pt x="660" y="0"/>
                </a:moveTo>
                <a:cubicBezTo>
                  <a:pt x="631" y="10"/>
                  <a:pt x="632" y="37"/>
                  <a:pt x="612" y="60"/>
                </a:cubicBezTo>
                <a:cubicBezTo>
                  <a:pt x="581" y="95"/>
                  <a:pt x="537" y="130"/>
                  <a:pt x="498" y="156"/>
                </a:cubicBezTo>
                <a:cubicBezTo>
                  <a:pt x="462" y="210"/>
                  <a:pt x="395" y="301"/>
                  <a:pt x="336" y="330"/>
                </a:cubicBezTo>
                <a:cubicBezTo>
                  <a:pt x="300" y="348"/>
                  <a:pt x="238" y="345"/>
                  <a:pt x="204" y="348"/>
                </a:cubicBezTo>
                <a:cubicBezTo>
                  <a:pt x="161" y="334"/>
                  <a:pt x="175" y="347"/>
                  <a:pt x="156" y="318"/>
                </a:cubicBezTo>
                <a:cubicBezTo>
                  <a:pt x="152" y="300"/>
                  <a:pt x="153" y="280"/>
                  <a:pt x="144" y="264"/>
                </a:cubicBezTo>
                <a:cubicBezTo>
                  <a:pt x="137" y="251"/>
                  <a:pt x="93" y="225"/>
                  <a:pt x="78" y="210"/>
                </a:cubicBezTo>
                <a:cubicBezTo>
                  <a:pt x="66" y="175"/>
                  <a:pt x="94" y="164"/>
                  <a:pt x="54" y="138"/>
                </a:cubicBezTo>
                <a:cubicBezTo>
                  <a:pt x="30" y="103"/>
                  <a:pt x="12" y="49"/>
                  <a:pt x="12" y="6"/>
                </a:cubicBezTo>
                <a:lnTo>
                  <a:pt x="0" y="42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47800" y="1285920"/>
            <a:ext cx="667080" cy="50472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76760" y="1295280"/>
            <a:ext cx="666720" cy="505080"/>
          </a:xfrm>
          <a:custGeom>
            <a:avLst/>
            <a:gdLst/>
            <a:ahLst/>
            <a:rect l="l" t="t" r="r" b="b"/>
            <a:pathLst>
              <a:path w="420" h="318">
                <a:moveTo>
                  <a:pt x="420" y="0"/>
                </a:moveTo>
                <a:cubicBezTo>
                  <a:pt x="384" y="12"/>
                  <a:pt x="363" y="65"/>
                  <a:pt x="342" y="96"/>
                </a:cubicBezTo>
                <a:cubicBezTo>
                  <a:pt x="322" y="126"/>
                  <a:pt x="297" y="152"/>
                  <a:pt x="276" y="180"/>
                </a:cubicBezTo>
                <a:cubicBezTo>
                  <a:pt x="239" y="229"/>
                  <a:pt x="205" y="286"/>
                  <a:pt x="144" y="306"/>
                </a:cubicBezTo>
                <a:cubicBezTo>
                  <a:pt x="107" y="251"/>
                  <a:pt x="157" y="318"/>
                  <a:pt x="114" y="282"/>
                </a:cubicBezTo>
                <a:cubicBezTo>
                  <a:pt x="70" y="246"/>
                  <a:pt x="119" y="266"/>
                  <a:pt x="78" y="252"/>
                </a:cubicBezTo>
                <a:cubicBezTo>
                  <a:pt x="64" y="231"/>
                  <a:pt x="58" y="223"/>
                  <a:pt x="66" y="198"/>
                </a:cubicBezTo>
                <a:cubicBezTo>
                  <a:pt x="58" y="173"/>
                  <a:pt x="45" y="178"/>
                  <a:pt x="30" y="156"/>
                </a:cubicBezTo>
                <a:cubicBezTo>
                  <a:pt x="24" y="133"/>
                  <a:pt x="13" y="118"/>
                  <a:pt x="6" y="96"/>
                </a:cubicBezTo>
                <a:cubicBezTo>
                  <a:pt x="8" y="86"/>
                  <a:pt x="13" y="76"/>
                  <a:pt x="12" y="66"/>
                </a:cubicBezTo>
                <a:cubicBezTo>
                  <a:pt x="11" y="53"/>
                  <a:pt x="0" y="43"/>
                  <a:pt x="0" y="30"/>
                </a:cubicBezTo>
                <a:cubicBezTo>
                  <a:pt x="0" y="28"/>
                  <a:pt x="0" y="26"/>
                  <a:pt x="0" y="2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50240" y="1108080"/>
            <a:ext cx="138456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nt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09400" y="17175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udad del N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1809720"/>
            <a:ext cx="152640" cy="1522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48120" y="5029200"/>
            <a:ext cx="1828800" cy="395280"/>
            <a:chOff x="3048120" y="5029200"/>
            <a:chExt cx="1828800" cy="395280"/>
          </a:xfrm>
        </p:grpSpPr>
        <p:sp>
          <p:nvSpPr>
            <p:cNvPr id="204" name=""/>
            <p:cNvSpPr/>
            <p:nvPr/>
          </p:nvSpPr>
          <p:spPr>
            <a:xfrm>
              <a:off x="3048120" y="5043600"/>
              <a:ext cx="18288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6800" y="5029200"/>
              <a:ext cx="13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OMIST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028880" y="1066680"/>
            <a:ext cx="2286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066680"/>
            <a:ext cx="24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ís Vec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C0FA-0455-4988-A44E-C0769F12B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H="1">
            <a:off x="304920" y="990720"/>
            <a:ext cx="5851440" cy="4525920"/>
          </a:xfrm>
          <a:prstGeom prst="wedgeRectCallout">
            <a:avLst>
              <a:gd name="adj1" fmla="val 4013"/>
              <a:gd name="adj2" fmla="val 63398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Norma comú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37160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a valoración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4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“Las valoraciones proporcionan una buena comprensión de la situación de desastre y un análisis claro de los riesgos que existen en cuanto a la preservación de la vida, la dignidad, la salud y los medios de sustento. Gracias a este análisis se podrá determinar, siguiendo un proceso consultivo con las autoridades correspondientes, si se requiere una respuesta externa y, en caso afirmativo, el carácter de esta respuesta.”</a:t>
            </a:r>
            <a:br>
              <a:rPr sz="2000"/>
            </a:b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2732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90CF-BB11-431B-B62A-4643FB14A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H="1">
            <a:off x="538920" y="1197000"/>
            <a:ext cx="8280360" cy="3375000"/>
          </a:xfrm>
          <a:prstGeom prst="wedgeRectCallout">
            <a:avLst>
              <a:gd name="adj1" fmla="val 92"/>
              <a:gd name="adj2" fmla="val 70884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3716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Señales’ que muestran si se ha cumplido con una norma. </a:t>
            </a:r>
            <a:br>
              <a:rPr sz="24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Facilitan un medio de medir y dar a conocer el impacto (o resultado) de los programas, y también los procedimientos (o métodos) que se han utilizado. </a:t>
            </a:r>
            <a:br>
              <a:rPr sz="20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Los indicadores pueden ser cualitativos o cuantit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81680" y="4267080"/>
            <a:ext cx="1641600" cy="23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FFF4-E951-485F-B988-B8E23EE7F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Uso de Esfera para mitigar el s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1357200"/>
            <a:ext cx="288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Contexto de la comunidad en su conju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215040" y="2209680"/>
            <a:ext cx="1862280" cy="183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943600" y="4038480"/>
            <a:ext cx="23734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una persona que tiene un martillo en la mano, todos los problemas son clavo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139760"/>
            <a:ext cx="5333760" cy="4578120"/>
            <a:chOff x="380880" y="1139760"/>
            <a:chExt cx="5333760" cy="4578120"/>
          </a:xfrm>
        </p:grpSpPr>
        <p:sp>
          <p:nvSpPr>
            <p:cNvPr id="222" name=""/>
            <p:cNvSpPr/>
            <p:nvPr/>
          </p:nvSpPr>
          <p:spPr>
            <a:xfrm>
              <a:off x="1350720" y="1139760"/>
              <a:ext cx="3297240" cy="3297240"/>
            </a:xfrm>
            <a:prstGeom prst="ellipse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2420640"/>
              <a:ext cx="3297240" cy="3297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7400" y="2400120"/>
              <a:ext cx="3297240" cy="32972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523880" y="16002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Manda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organizativo o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351936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SESGO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35780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Recursos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434340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Necesidades huma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C53A-FF23-422E-BB5C-E171182E71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7800" y="609480"/>
            <a:ext cx="8001000" cy="5029200"/>
          </a:xfrm>
          <a:prstGeom prst="flowChartExtract">
            <a:avLst/>
          </a:prstGeom>
          <a:gradFill rotWithShape="0">
            <a:gsLst>
              <a:gs pos="0">
                <a:srgbClr val="ff0000"/>
              </a:gs>
              <a:gs pos="100000">
                <a:srgbClr val="fe38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ómo reducir el s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422100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 Black"/>
              </a:rPr>
              <a:t>Valoraciones iniciales conj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1981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 Black"/>
              </a:rPr>
              <a:t>Triangulaci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riar las técnica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dicadores de un mismo acontec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entes de información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osición de los equipos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809880"/>
            <a:ext cx="24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 Black"/>
              </a:rPr>
              <a:t>Coordinaci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01336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 Black"/>
              </a:rPr>
              <a:t>Adherencia a las normas 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5638680"/>
            <a:ext cx="180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Works/ACN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B7A4-0C3E-45DA-9943-05F7AFECC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Normas para la valoración inicial en Esfe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295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Norma común 2: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Valora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77336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istas de verificación para las valora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2590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bastecimiento de agua, saneamiento y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fomento de la higie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5960" y="3429000"/>
            <a:ext cx="8451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eguridad alimentaria, nutrición y ayud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imentaria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4414680"/>
            <a:ext cx="83804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fugios/albergues, emplazamientos y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rtículos no alimentari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4100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E713-D0FF-4AEB-9D42-4960E3EC1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2280" y="965160"/>
            <a:ext cx="8890200" cy="1015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3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Uso de Esfera en el aná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246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66DB-6EB1-4BCF-BF10-8588117FBD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El contexto y el ciclo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50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376C-BA90-457E-B388-63510F9F9D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una demostración práctica de cómo utilizar 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ual de Esfera en el análisis de los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r la finalidad del análisis y saber cuándo tien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gar en el ciclo del proyecto.</a:t>
            </a:r>
            <a:br>
              <a:rPr sz="24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328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r el modo como el Manual de Esfera pue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r la calidad del anális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43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r técnicas y herramientas prácticas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que se pueden emplear con el Manual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er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16C4-1DB9-47AE-8FBA-A12750E68E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Seguimiento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Plan, diseño,</a:t>
            </a:r>
            <a:br>
              <a:rPr sz="2400"/>
            </a:b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e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259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Valoración in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264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266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54960" y="121896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 Black"/>
                  </a:rPr>
                  <a:t>Desas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bajos de inc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ECED-6034-48CC-8E35-C668852B54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lgunos puntos de vista para el análisi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ciales, políticos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gunas en los recursos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y control de l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s dem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pectos técnicos y de s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acidades y vulner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B0D7-8904-4D31-A858-31128F2F3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nálisis de Capacidades y Vulnerabilidades (AC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00200"/>
            <a:ext cx="80010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281952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426708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 Black"/>
              </a:rPr>
              <a:t>Vulner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Arial Black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1670040"/>
            <a:ext cx="8077320" cy="1225440"/>
            <a:chOff x="838080" y="1670040"/>
            <a:chExt cx="8077320" cy="1225440"/>
          </a:xfrm>
        </p:grpSpPr>
        <p:sp>
          <p:nvSpPr>
            <p:cNvPr id="289" name=""/>
            <p:cNvSpPr/>
            <p:nvPr/>
          </p:nvSpPr>
          <p:spPr>
            <a:xfrm>
              <a:off x="3352680" y="1676520"/>
              <a:ext cx="3048120" cy="121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38080" y="1670040"/>
              <a:ext cx="8077320" cy="1073160"/>
              <a:chOff x="838080" y="1670040"/>
              <a:chExt cx="8077320" cy="107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838080" y="1670040"/>
                <a:ext cx="160020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cc"/>
                    </a:solidFill>
                    <a:latin typeface="Arial Black"/>
                  </a:rPr>
                  <a:t>Físicas / materiales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29000" y="1752480"/>
                <a:ext cx="27432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ifícil para personas ancianas, y para niños y niñas, obtener ayuda alimenta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6172200" y="1828800"/>
                <a:ext cx="2743200" cy="914400"/>
                <a:chOff x="6172200" y="1828800"/>
                <a:chExt cx="2743200" cy="914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172200" y="1828800"/>
                  <a:ext cx="2743200" cy="914400"/>
                </a:xfrm>
                <a:prstGeom prst="ellipse">
                  <a:avLst/>
                </a:prstGeom>
                <a:noFill/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400800" y="1905120"/>
                  <a:ext cx="22860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96920"/>
                      <a:tab algn="l" pos="393840"/>
                      <a:tab algn="l" pos="590400"/>
                      <a:tab algn="l" pos="787320"/>
                      <a:tab algn="l" pos="984240"/>
                      <a:tab algn="l" pos="1181160"/>
                      <a:tab algn="l" pos="1378080"/>
                      <a:tab algn="l" pos="1574640"/>
                      <a:tab algn="l" pos="1771560"/>
                      <a:tab algn="l" pos="1968480"/>
                      <a:tab algn="l" pos="2165400"/>
                      <a:tab algn="l" pos="2362320"/>
                      <a:tab algn="l" pos="2558880"/>
                      <a:tab algn="l" pos="2755800"/>
                      <a:tab algn="l" pos="2952720"/>
                      <a:tab algn="l" pos="3149640"/>
                      <a:tab algn="l" pos="3346560"/>
                      <a:tab algn="l" pos="3543480"/>
                      <a:tab algn="l" pos="3740040"/>
                      <a:tab algn="l" pos="393696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limentos e ingresos procedentes de agricultores loc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" name=""/>
          <p:cNvGrpSpPr/>
          <p:nvPr/>
        </p:nvGrpSpPr>
        <p:grpSpPr>
          <a:xfrm>
            <a:off x="838080" y="2997360"/>
            <a:ext cx="8001000" cy="1143000"/>
            <a:chOff x="838080" y="2997360"/>
            <a:chExt cx="8001000" cy="1143000"/>
          </a:xfrm>
        </p:grpSpPr>
        <p:grpSp>
          <p:nvGrpSpPr>
            <p:cNvPr id="297" name=""/>
            <p:cNvGrpSpPr/>
            <p:nvPr/>
          </p:nvGrpSpPr>
          <p:grpSpPr>
            <a:xfrm>
              <a:off x="838080" y="3048120"/>
              <a:ext cx="5257800" cy="1066680"/>
              <a:chOff x="838080" y="3048120"/>
              <a:chExt cx="5257800" cy="10666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8080" y="3048120"/>
                <a:ext cx="274320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cc"/>
                    </a:solidFill>
                    <a:latin typeface="Arial Black"/>
                  </a:rPr>
                  <a:t>Sociales / organizativas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3200400" y="3048120"/>
                <a:ext cx="2895480" cy="1066680"/>
                <a:chOff x="3200400" y="3048120"/>
                <a:chExt cx="2895480" cy="10666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200400" y="3048120"/>
                  <a:ext cx="2895480" cy="106668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581280" y="3124080"/>
                  <a:ext cx="22860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96920"/>
                      <a:tab algn="l" pos="393840"/>
                      <a:tab algn="l" pos="590400"/>
                      <a:tab algn="l" pos="787320"/>
                      <a:tab algn="l" pos="984240"/>
                      <a:tab algn="l" pos="1181160"/>
                      <a:tab algn="l" pos="1378080"/>
                      <a:tab algn="l" pos="1574640"/>
                      <a:tab algn="l" pos="1771560"/>
                      <a:tab algn="l" pos="1968480"/>
                      <a:tab algn="l" pos="2165400"/>
                      <a:tab algn="l" pos="2362320"/>
                      <a:tab algn="l" pos="2558880"/>
                      <a:tab algn="l" pos="2755800"/>
                      <a:tab algn="l" pos="2952720"/>
                      <a:tab algn="l" pos="3149640"/>
                      <a:tab algn="l" pos="3346560"/>
                      <a:tab algn="l" pos="3543480"/>
                      <a:tab algn="l" pos="3740040"/>
                      <a:tab algn="l" pos="393696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VIH/sida: cambios en la distribución demográfica por eda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5867280" y="2997360"/>
              <a:ext cx="2971800" cy="1143000"/>
              <a:chOff x="5867280" y="2997360"/>
              <a:chExt cx="2971800" cy="1143000"/>
            </a:xfrm>
          </p:grpSpPr>
          <p:sp>
            <p:nvSpPr>
              <p:cNvPr id="303" name=""/>
              <p:cNvSpPr/>
              <p:nvPr/>
            </p:nvSpPr>
            <p:spPr>
              <a:xfrm>
                <a:off x="5867280" y="2997360"/>
                <a:ext cx="297180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48520" y="322596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Tradición de cuidados familia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838080" y="4419720"/>
            <a:ext cx="7848720" cy="1143000"/>
            <a:chOff x="838080" y="4419720"/>
            <a:chExt cx="7848720" cy="1143000"/>
          </a:xfrm>
        </p:grpSpPr>
        <p:sp>
          <p:nvSpPr>
            <p:cNvPr id="306" name=""/>
            <p:cNvSpPr/>
            <p:nvPr/>
          </p:nvSpPr>
          <p:spPr>
            <a:xfrm>
              <a:off x="838080" y="4498920"/>
              <a:ext cx="22860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66cc"/>
                  </a:solidFill>
                  <a:latin typeface="Arial Black"/>
                </a:rPr>
                <a:t>Motivacionales / atitudinales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048120" y="4495680"/>
              <a:ext cx="3200400" cy="1067040"/>
              <a:chOff x="3048120" y="4495680"/>
              <a:chExt cx="3200400" cy="106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3048120" y="4495680"/>
                <a:ext cx="32004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0532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Sentimiento colectivo de due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095880" y="4419720"/>
              <a:ext cx="2590920" cy="1143000"/>
              <a:chOff x="6095880" y="4419720"/>
              <a:chExt cx="2590920" cy="11430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95880" y="4419720"/>
                <a:ext cx="259092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220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Compromiso con la educ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969C-3CE0-4361-A20D-E2E1E3D878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árbol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64200" y="1120680"/>
            <a:ext cx="2819520" cy="685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m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1143000"/>
            <a:ext cx="1981080" cy="60948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ngus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7002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50920" y="2181240"/>
            <a:ext cx="6095880" cy="815760"/>
            <a:chOff x="250920" y="2181240"/>
            <a:chExt cx="6095880" cy="815760"/>
          </a:xfrm>
        </p:grpSpPr>
        <p:grpSp>
          <p:nvGrpSpPr>
            <p:cNvPr id="318" name=""/>
            <p:cNvGrpSpPr/>
            <p:nvPr/>
          </p:nvGrpSpPr>
          <p:grpSpPr>
            <a:xfrm>
              <a:off x="2460600" y="2181240"/>
              <a:ext cx="3886200" cy="685800"/>
              <a:chOff x="2460600" y="2181240"/>
              <a:chExt cx="3886200" cy="68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3527280" y="2181240"/>
                <a:ext cx="2819520" cy="6858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"/>
                  </a:rPr>
                  <a:t>Mortalidad de menores de 5 añ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60600" y="2311200"/>
                <a:ext cx="762120" cy="457200"/>
              </a:xfrm>
              <a:prstGeom prst="rightArrow">
                <a:avLst>
                  <a:gd name="adj1" fmla="val 50000"/>
                  <a:gd name="adj2" fmla="val 41673"/>
                </a:avLst>
              </a:prstGeom>
              <a:solidFill>
                <a:srgbClr val="ffffff"/>
              </a:solidFill>
              <a:ln w="381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50920" y="2311200"/>
              <a:ext cx="2590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Problema focal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5800" y="30481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30560" y="3419280"/>
            <a:ext cx="7584840" cy="847800"/>
            <a:chOff x="1330560" y="3419280"/>
            <a:chExt cx="7584840" cy="847800"/>
          </a:xfrm>
        </p:grpSpPr>
        <p:sp>
          <p:nvSpPr>
            <p:cNvPr id="324" name=""/>
            <p:cNvSpPr/>
            <p:nvPr/>
          </p:nvSpPr>
          <p:spPr>
            <a:xfrm>
              <a:off x="4822920" y="3581280"/>
              <a:ext cx="190476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Saramp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32000" y="3581280"/>
              <a:ext cx="236232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Diarr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3581280"/>
              <a:ext cx="198108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Paludis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37800">
              <a:off x="1393560" y="3581280"/>
              <a:ext cx="761760" cy="4572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ffff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V="1" rot="19762200">
            <a:off x="1447920" y="12945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800600" y="4267080"/>
            <a:ext cx="1828800" cy="1295640"/>
            <a:chOff x="4800600" y="4267080"/>
            <a:chExt cx="1828800" cy="1295640"/>
          </a:xfrm>
        </p:grpSpPr>
        <p:sp>
          <p:nvSpPr>
            <p:cNvPr id="330" name=""/>
            <p:cNvSpPr/>
            <p:nvPr/>
          </p:nvSpPr>
          <p:spPr>
            <a:xfrm>
              <a:off x="4800600" y="487692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aja proporción de vacunados</a:t>
              </a:r>
              <a:br>
                <a:rPr sz="24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5000" y="426708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057400" y="4267080"/>
            <a:ext cx="2133720" cy="1676520"/>
            <a:chOff x="2057400" y="4267080"/>
            <a:chExt cx="2133720" cy="1676520"/>
          </a:xfrm>
        </p:grpSpPr>
        <p:sp>
          <p:nvSpPr>
            <p:cNvPr id="333" name=""/>
            <p:cNvSpPr/>
            <p:nvPr/>
          </p:nvSpPr>
          <p:spPr>
            <a:xfrm>
              <a:off x="2438280" y="4572000"/>
              <a:ext cx="1676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igien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52578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gua insuficient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42670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49528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086600" y="4267080"/>
            <a:ext cx="1828800" cy="1752840"/>
            <a:chOff x="7086600" y="4267080"/>
            <a:chExt cx="1828800" cy="1752840"/>
          </a:xfrm>
        </p:grpSpPr>
        <p:sp>
          <p:nvSpPr>
            <p:cNvPr id="338" name=""/>
            <p:cNvSpPr/>
            <p:nvPr/>
          </p:nvSpPr>
          <p:spPr>
            <a:xfrm>
              <a:off x="7086600" y="45720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squito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86600" y="533412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No hay mosquitero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24680" y="42670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24680" y="50292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>
            <a:off x="3809520" y="4343400"/>
            <a:ext cx="1295640" cy="457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4920" y="4724280"/>
            <a:ext cx="2152440" cy="685800"/>
            <a:chOff x="304920" y="4724280"/>
            <a:chExt cx="2152440" cy="685800"/>
          </a:xfrm>
        </p:grpSpPr>
        <p:sp>
          <p:nvSpPr>
            <p:cNvPr id="344" name=""/>
            <p:cNvSpPr/>
            <p:nvPr/>
          </p:nvSpPr>
          <p:spPr>
            <a:xfrm>
              <a:off x="304920" y="4724280"/>
              <a:ext cx="1676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o hay letrina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9800" y="473724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343400" y="1600200"/>
            <a:ext cx="1600200" cy="533520"/>
            <a:chOff x="4343400" y="1600200"/>
            <a:chExt cx="1600200" cy="533520"/>
          </a:xfrm>
        </p:grpSpPr>
        <p:sp>
          <p:nvSpPr>
            <p:cNvPr id="347" name=""/>
            <p:cNvSpPr/>
            <p:nvPr/>
          </p:nvSpPr>
          <p:spPr>
            <a:xfrm flipH="1" flipV="1">
              <a:off x="4343400" y="1600200"/>
              <a:ext cx="45720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486400" y="1600200"/>
              <a:ext cx="45720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657600" y="2895480"/>
            <a:ext cx="4038480" cy="609840"/>
            <a:chOff x="3657600" y="2895480"/>
            <a:chExt cx="4038480" cy="609840"/>
          </a:xfrm>
        </p:grpSpPr>
        <p:sp>
          <p:nvSpPr>
            <p:cNvPr id="350" name=""/>
            <p:cNvSpPr/>
            <p:nvPr/>
          </p:nvSpPr>
          <p:spPr>
            <a:xfrm>
              <a:off x="5105520" y="2895480"/>
              <a:ext cx="304560" cy="609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2895480"/>
              <a:ext cx="2590560" cy="591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657600" y="2895480"/>
              <a:ext cx="1447920" cy="609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7713-54C2-4D56-B901-D36088C45A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Esfera y la planificación de proy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356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4037-2130-4B1B-AE7C-BCE2931C05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r cómo se puede usar el Manual de Esfer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n la planificación de proyecto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con un marco 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la lista de los principios clave en la planif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proyectos e identificar el lugar que ocupan en 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 del proyect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lustrar cómo se puede usar un diagrama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arencias en la coordinación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de proyecto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B55B-B201-47C8-BAE8-F4E1908652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Seguimiento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Plan, diseño,</a:t>
            </a:r>
            <a:br>
              <a:rPr sz="2400"/>
            </a:b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e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368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Valoración in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373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54960" y="121896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 Black"/>
                  </a:rPr>
                  <a:t>Desas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bajos de inc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264E-0AD4-4CF3-97B6-0156B85EE1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studio de caso: Dom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4572000"/>
            <a:ext cx="3047760" cy="685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rtalidad excesiva y vida sin dig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2880" y="1219320"/>
            <a:ext cx="8259840" cy="45720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nta de bienes desechables y no transpor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 rot="16170600">
            <a:off x="4267080" y="533304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586728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914400" y="1752120"/>
            <a:ext cx="4343400" cy="838440"/>
            <a:chOff x="914400" y="1752120"/>
            <a:chExt cx="4343400" cy="838440"/>
          </a:xfrm>
        </p:grpSpPr>
        <p:sp>
          <p:nvSpPr>
            <p:cNvPr id="388" name=""/>
            <p:cNvSpPr/>
            <p:nvPr/>
          </p:nvSpPr>
          <p:spPr>
            <a:xfrm flipH="1" flipV="1">
              <a:off x="4267080" y="1752480"/>
              <a:ext cx="9907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914400" y="1752120"/>
              <a:ext cx="220968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914040" y="3428640"/>
            <a:ext cx="6401160" cy="1371960"/>
            <a:chOff x="914040" y="3428640"/>
            <a:chExt cx="6401160" cy="1371960"/>
          </a:xfrm>
        </p:grpSpPr>
        <p:sp>
          <p:nvSpPr>
            <p:cNvPr id="391" name=""/>
            <p:cNvSpPr/>
            <p:nvPr/>
          </p:nvSpPr>
          <p:spPr>
            <a:xfrm flipV="1">
              <a:off x="6172200" y="3886200"/>
              <a:ext cx="11430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800600" y="3657600"/>
              <a:ext cx="6094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914040" y="35053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971800" y="3428640"/>
              <a:ext cx="129528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09480" y="3886200"/>
            <a:ext cx="7772400" cy="685800"/>
            <a:chOff x="609480" y="3886200"/>
            <a:chExt cx="7772400" cy="685800"/>
          </a:xfrm>
        </p:grpSpPr>
        <p:sp>
          <p:nvSpPr>
            <p:cNvPr id="396" name=""/>
            <p:cNvSpPr/>
            <p:nvPr/>
          </p:nvSpPr>
          <p:spPr>
            <a:xfrm>
              <a:off x="3505320" y="3886200"/>
              <a:ext cx="2133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EFE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3886200"/>
              <a:ext cx="2133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EFE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38862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EFE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8600" y="2133720"/>
            <a:ext cx="8534520" cy="1676160"/>
            <a:chOff x="228600" y="2133720"/>
            <a:chExt cx="8534520" cy="1676160"/>
          </a:xfrm>
        </p:grpSpPr>
        <p:sp>
          <p:nvSpPr>
            <p:cNvPr id="400" name=""/>
            <p:cNvSpPr/>
            <p:nvPr/>
          </p:nvSpPr>
          <p:spPr>
            <a:xfrm>
              <a:off x="1981080" y="2711520"/>
              <a:ext cx="2057400" cy="6858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fermedades psicosom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" y="2666880"/>
              <a:ext cx="1447920" cy="762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mig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1680" y="2133720"/>
              <a:ext cx="1981440" cy="1676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claraciones políticas de líderes locales que culpan a la opos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43400" y="2286000"/>
              <a:ext cx="2057400" cy="13716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Histeria, entrega de bebés a periodistas extranj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481C-FD0B-4986-9E7E-7245CAE41E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Árbol de problemas: abastecimiento de agua y sane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410080" y="14479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52280" y="1219320"/>
            <a:ext cx="8763120" cy="457200"/>
            <a:chOff x="152280" y="1219320"/>
            <a:chExt cx="8763120" cy="457200"/>
          </a:xfrm>
        </p:grpSpPr>
        <p:sp>
          <p:nvSpPr>
            <p:cNvPr id="407" name=""/>
            <p:cNvSpPr/>
            <p:nvPr/>
          </p:nvSpPr>
          <p:spPr>
            <a:xfrm>
              <a:off x="152280" y="1219320"/>
              <a:ext cx="521352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lta de dignidad y altas tasas de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34320" y="1219320"/>
              <a:ext cx="19810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snutr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57040" y="3352320"/>
            <a:ext cx="8886960" cy="1618200"/>
            <a:chOff x="257040" y="3352320"/>
            <a:chExt cx="8886960" cy="1618200"/>
          </a:xfrm>
        </p:grpSpPr>
        <p:sp>
          <p:nvSpPr>
            <p:cNvPr id="410" name=""/>
            <p:cNvSpPr/>
            <p:nvPr/>
          </p:nvSpPr>
          <p:spPr>
            <a:xfrm>
              <a:off x="5985000" y="4160880"/>
              <a:ext cx="1218960" cy="42876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5920" y="4224240"/>
              <a:ext cx="85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Bas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470400" y="3627360"/>
              <a:ext cx="1218960" cy="428760"/>
              <a:chOff x="3470400" y="3627360"/>
              <a:chExt cx="1218960" cy="428760"/>
            </a:xfrm>
          </p:grpSpPr>
          <p:sp>
            <p:nvSpPr>
              <p:cNvPr id="413" name=""/>
              <p:cNvSpPr/>
              <p:nvPr/>
            </p:nvSpPr>
            <p:spPr>
              <a:xfrm>
                <a:off x="3470400" y="3627360"/>
                <a:ext cx="121896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535920" y="3672000"/>
                <a:ext cx="97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Insalub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57040" y="4541760"/>
              <a:ext cx="1828800" cy="428760"/>
              <a:chOff x="257040" y="4541760"/>
              <a:chExt cx="1828800" cy="428760"/>
            </a:xfrm>
          </p:grpSpPr>
          <p:sp>
            <p:nvSpPr>
              <p:cNvPr id="416" name=""/>
              <p:cNvSpPr/>
              <p:nvPr/>
            </p:nvSpPr>
            <p:spPr>
              <a:xfrm>
                <a:off x="257040" y="4541760"/>
                <a:ext cx="182880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5960" y="4562280"/>
                <a:ext cx="134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Hacinami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7342200" y="4160880"/>
              <a:ext cx="1801800" cy="6364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40120" y="422424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No hay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7162920" y="3581280"/>
              <a:ext cx="955440" cy="56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746760" y="3581280"/>
              <a:ext cx="0" cy="627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917960" y="3352320"/>
              <a:ext cx="0" cy="855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505320" y="3505320"/>
              <a:ext cx="117360" cy="141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98600" y="4190760"/>
              <a:ext cx="0" cy="369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556000" y="3370320"/>
              <a:ext cx="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230560" y="4181400"/>
              <a:ext cx="1600200" cy="673200"/>
              <a:chOff x="2230560" y="4181400"/>
              <a:chExt cx="1600200" cy="673200"/>
            </a:xfrm>
          </p:grpSpPr>
          <p:sp>
            <p:nvSpPr>
              <p:cNvPr id="427" name=""/>
              <p:cNvSpPr/>
              <p:nvPr/>
            </p:nvSpPr>
            <p:spPr>
              <a:xfrm>
                <a:off x="2342880" y="4181400"/>
                <a:ext cx="1204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Insuficien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ant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30560" y="4201920"/>
                <a:ext cx="160020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065480" y="4152960"/>
              <a:ext cx="1538280" cy="733320"/>
              <a:chOff x="4065480" y="4152960"/>
              <a:chExt cx="1538280" cy="733320"/>
            </a:xfrm>
          </p:grpSpPr>
          <p:sp>
            <p:nvSpPr>
              <p:cNvPr id="430" name=""/>
              <p:cNvSpPr/>
              <p:nvPr/>
            </p:nvSpPr>
            <p:spPr>
              <a:xfrm>
                <a:off x="4143960" y="4152960"/>
                <a:ext cx="1046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bastante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unidad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065480" y="4189320"/>
                <a:ext cx="1538280" cy="6001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307800" y="3352320"/>
            <a:ext cx="8066160" cy="2710440"/>
            <a:chOff x="307800" y="3352320"/>
            <a:chExt cx="8066160" cy="2710440"/>
          </a:xfrm>
        </p:grpSpPr>
        <p:grpSp>
          <p:nvGrpSpPr>
            <p:cNvPr id="433" name=""/>
            <p:cNvGrpSpPr/>
            <p:nvPr/>
          </p:nvGrpSpPr>
          <p:grpSpPr>
            <a:xfrm>
              <a:off x="307800" y="3352320"/>
              <a:ext cx="7936920" cy="2710440"/>
              <a:chOff x="307800" y="3352320"/>
              <a:chExt cx="7936920" cy="2710440"/>
            </a:xfrm>
          </p:grpSpPr>
          <p:sp>
            <p:nvSpPr>
              <p:cNvPr id="434" name=""/>
              <p:cNvSpPr/>
              <p:nvPr/>
            </p:nvSpPr>
            <p:spPr>
              <a:xfrm flipH="1" flipV="1">
                <a:off x="5410080" y="3352320"/>
                <a:ext cx="650880" cy="1922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781680" y="4723920"/>
                <a:ext cx="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33520" y="4952880"/>
                <a:ext cx="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07800" y="5359320"/>
                <a:ext cx="5759640" cy="703440"/>
                <a:chOff x="307800" y="5359320"/>
                <a:chExt cx="5759640" cy="7034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7800" y="5359320"/>
                  <a:ext cx="5759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Problemas políticos – mantener a los emigrantes alejados de la población de acogida en un espacio reduci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07800" y="5410080"/>
                  <a:ext cx="556272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6136200" y="5440320"/>
                <a:ext cx="210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mantenimi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012000" y="5445000"/>
              <a:ext cx="2361960" cy="42876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889280" y="1676160"/>
            <a:ext cx="5883120" cy="838440"/>
            <a:chOff x="1889280" y="1676160"/>
            <a:chExt cx="5883120" cy="838440"/>
          </a:xfrm>
        </p:grpSpPr>
        <p:sp>
          <p:nvSpPr>
            <p:cNvPr id="443" name=""/>
            <p:cNvSpPr/>
            <p:nvPr/>
          </p:nvSpPr>
          <p:spPr>
            <a:xfrm flipH="1" flipV="1">
              <a:off x="4495680" y="1676160"/>
              <a:ext cx="190512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889280" y="2049480"/>
              <a:ext cx="1523880" cy="465120"/>
              <a:chOff x="1889280" y="2049480"/>
              <a:chExt cx="1523880" cy="465120"/>
            </a:xfrm>
          </p:grpSpPr>
          <p:sp>
            <p:nvSpPr>
              <p:cNvPr id="445" name=""/>
              <p:cNvSpPr/>
              <p:nvPr/>
            </p:nvSpPr>
            <p:spPr>
              <a:xfrm>
                <a:off x="1889280" y="2057400"/>
                <a:ext cx="1523880" cy="4572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53000" y="204948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 Black"/>
                  </a:rPr>
                  <a:t>Diarr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400800" y="2036880"/>
              <a:ext cx="1371600" cy="457200"/>
              <a:chOff x="6400800" y="2036880"/>
              <a:chExt cx="13716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6400800" y="2036880"/>
                <a:ext cx="1371600" cy="4572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50920" y="2076480"/>
                <a:ext cx="117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0000"/>
                    </a:solidFill>
                    <a:latin typeface="Arial Black"/>
                  </a:rPr>
                  <a:t>Paludism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 flipV="1">
              <a:off x="2590920" y="172368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50920" y="2286000"/>
            <a:ext cx="8664480" cy="1951200"/>
            <a:chOff x="250920" y="2286000"/>
            <a:chExt cx="8664480" cy="1951200"/>
          </a:xfrm>
        </p:grpSpPr>
        <p:sp>
          <p:nvSpPr>
            <p:cNvPr id="452" name=""/>
            <p:cNvSpPr/>
            <p:nvPr/>
          </p:nvSpPr>
          <p:spPr>
            <a:xfrm>
              <a:off x="250920" y="2637000"/>
              <a:ext cx="1981080" cy="160020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92760" y="2286000"/>
              <a:ext cx="8522640" cy="1912680"/>
              <a:chOff x="392760" y="2286000"/>
              <a:chExt cx="8522640" cy="1912680"/>
            </a:xfrm>
          </p:grpSpPr>
          <p:sp>
            <p:nvSpPr>
              <p:cNvPr id="454" name=""/>
              <p:cNvSpPr/>
              <p:nvPr/>
            </p:nvSpPr>
            <p:spPr>
              <a:xfrm>
                <a:off x="7315200" y="3076560"/>
                <a:ext cx="1600200" cy="42876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5400" y="3048120"/>
                <a:ext cx="1236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mosquite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6095880" y="3081240"/>
                <a:ext cx="1095480" cy="428760"/>
                <a:chOff x="6095880" y="3081240"/>
                <a:chExt cx="1095480" cy="4287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095880" y="3081240"/>
                  <a:ext cx="1095480" cy="42876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57080" y="3139920"/>
                  <a:ext cx="90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Vect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392760" y="2612880"/>
                <a:ext cx="177516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Problemas d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higie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en el sacrificio d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anima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jab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0000"/>
                    </a:solidFill>
                    <a:latin typeface="Times New Roman"/>
                  </a:rPr>
                  <a:t>•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espaci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su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4284720" y="2895480"/>
                <a:ext cx="1600200" cy="540720"/>
                <a:chOff x="4284720" y="2895480"/>
                <a:chExt cx="1600200" cy="5407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284720" y="2895480"/>
                  <a:ext cx="1600200" cy="42876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58880" y="2916000"/>
                  <a:ext cx="12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etrina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inadecuad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265480" y="2852640"/>
                <a:ext cx="1600200" cy="652680"/>
                <a:chOff x="2265480" y="2852640"/>
                <a:chExt cx="1600200" cy="652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265480" y="2852640"/>
                  <a:ext cx="160020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60160" y="2868480"/>
                  <a:ext cx="1153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Agu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inadecu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flipV="1">
                <a:off x="6781680" y="2507760"/>
                <a:ext cx="0" cy="568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219320" y="2286000"/>
                <a:ext cx="685800" cy="33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3373200" y="2471760"/>
                <a:ext cx="1274760" cy="380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3428640" y="2286000"/>
                <a:ext cx="3352680" cy="782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2590920" y="2529000"/>
                <a:ext cx="0" cy="30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391520" y="2514240"/>
                <a:ext cx="0" cy="568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6DCF-0264-4ED6-957B-7EE7625DBE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los factores que influyen en el análisis en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xtos human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r cómo utilizar el Manual de Esfera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r eficazmante el contexto huma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las etapas del ciclo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3D66-ED1B-4EF2-9215-7E058D4DE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Árbol de problemas: refugios/alber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90720" y="1197000"/>
            <a:ext cx="7575480" cy="479520"/>
            <a:chOff x="990720" y="1197000"/>
            <a:chExt cx="7575480" cy="479520"/>
          </a:xfrm>
        </p:grpSpPr>
        <p:sp>
          <p:nvSpPr>
            <p:cNvPr id="474" name=""/>
            <p:cNvSpPr/>
            <p:nvPr/>
          </p:nvSpPr>
          <p:spPr>
            <a:xfrm>
              <a:off x="990720" y="1219320"/>
              <a:ext cx="269856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ltas tasas de morta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27920" y="1197000"/>
              <a:ext cx="24382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Falta de dign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91960" y="1696680"/>
            <a:ext cx="7896240" cy="3332520"/>
            <a:chOff x="291960" y="1696680"/>
            <a:chExt cx="7896240" cy="3332520"/>
          </a:xfrm>
        </p:grpSpPr>
        <p:sp>
          <p:nvSpPr>
            <p:cNvPr id="477" name=""/>
            <p:cNvSpPr/>
            <p:nvPr/>
          </p:nvSpPr>
          <p:spPr>
            <a:xfrm>
              <a:off x="4521960" y="4357800"/>
              <a:ext cx="1463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Medicame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720" y="4324320"/>
              <a:ext cx="1600200" cy="7048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91960" y="1696680"/>
              <a:ext cx="7896240" cy="2646720"/>
              <a:chOff x="291960" y="1696680"/>
              <a:chExt cx="7896240" cy="26467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91960" y="3305160"/>
                <a:ext cx="1689120" cy="1038240"/>
                <a:chOff x="291960" y="3305160"/>
                <a:chExt cx="1689120" cy="10382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91960" y="3305160"/>
                  <a:ext cx="1689120" cy="103824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35960" y="3333600"/>
                  <a:ext cx="14122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Bajas tasas de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cobertura en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a vacunaci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359400" y="3325680"/>
                <a:ext cx="1828800" cy="692280"/>
                <a:chOff x="6359400" y="3325680"/>
                <a:chExt cx="1828800" cy="692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359400" y="3360600"/>
                  <a:ext cx="1828800" cy="65736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440400" y="3325680"/>
                  <a:ext cx="1587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Hacinamie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en los refug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819520" y="3147840"/>
                <a:ext cx="1600200" cy="662040"/>
                <a:chOff x="2819520" y="3147840"/>
                <a:chExt cx="1600200" cy="662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819520" y="3157200"/>
                  <a:ext cx="160020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922120" y="3147840"/>
                  <a:ext cx="1149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Clima frí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y húme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flipV="1">
                <a:off x="7010280" y="2361960"/>
                <a:ext cx="0" cy="990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066680" y="2486160"/>
                <a:ext cx="914400" cy="790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3276720" y="2438280"/>
                <a:ext cx="3047760" cy="1371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048280" y="2362320"/>
                <a:ext cx="0" cy="1960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581280" y="2361960"/>
                <a:ext cx="1067040" cy="80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924680" y="1696680"/>
                <a:ext cx="0" cy="1655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2061360" y="1468440"/>
            <a:ext cx="5382360" cy="892800"/>
            <a:chOff x="2061360" y="1468440"/>
            <a:chExt cx="5382360" cy="892800"/>
          </a:xfrm>
        </p:grpSpPr>
        <p:sp>
          <p:nvSpPr>
            <p:cNvPr id="496" name=""/>
            <p:cNvSpPr/>
            <p:nvPr/>
          </p:nvSpPr>
          <p:spPr>
            <a:xfrm>
              <a:off x="2061360" y="2054160"/>
              <a:ext cx="1092240" cy="307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Saramp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38160" y="1981080"/>
              <a:ext cx="2905560" cy="307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Infecciones respiratorias agu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590920" y="1724040"/>
              <a:ext cx="0" cy="257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754440" y="1468440"/>
              <a:ext cx="129528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031760" y="3865680"/>
            <a:ext cx="7807320" cy="2341440"/>
            <a:chOff x="1031760" y="3865680"/>
            <a:chExt cx="7807320" cy="2341440"/>
          </a:xfrm>
        </p:grpSpPr>
        <p:sp>
          <p:nvSpPr>
            <p:cNvPr id="501" name=""/>
            <p:cNvSpPr/>
            <p:nvPr/>
          </p:nvSpPr>
          <p:spPr>
            <a:xfrm flipV="1">
              <a:off x="3352680" y="3865680"/>
              <a:ext cx="0" cy="51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65480" y="4413240"/>
              <a:ext cx="1600200" cy="65232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4840" y="4367160"/>
              <a:ext cx="133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66cc"/>
                  </a:solidFill>
                  <a:latin typeface="Arial Black"/>
                </a:rPr>
                <a:t>Rop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66cc"/>
                  </a:solidFill>
                  <a:latin typeface="Arial Black"/>
                </a:rPr>
                <a:t>inapropi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031760" y="4038480"/>
              <a:ext cx="7807320" cy="2168640"/>
              <a:chOff x="1031760" y="4038480"/>
              <a:chExt cx="7807320" cy="2168640"/>
            </a:xfrm>
          </p:grpSpPr>
          <p:sp>
            <p:nvSpPr>
              <p:cNvPr id="505" name=""/>
              <p:cNvSpPr/>
              <p:nvPr/>
            </p:nvSpPr>
            <p:spPr>
              <a:xfrm>
                <a:off x="6986160" y="4354560"/>
                <a:ext cx="13741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Refugios 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edificios</a:t>
                </a:r>
                <a:r>
                  <a:rPr b="0" lang="es-ES_tradnl" sz="1600" spc="-1" strike="noStrike">
                    <a:solidFill>
                      <a:srgbClr val="0066cc"/>
                    </a:solidFill>
                    <a:latin typeface="Arial Black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ontamina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1031760" y="4038480"/>
                <a:ext cx="7807320" cy="2168640"/>
                <a:chOff x="1031760" y="4038480"/>
                <a:chExt cx="7807320" cy="21686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858000" y="4413240"/>
                  <a:ext cx="1981080" cy="68580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031760" y="5432400"/>
                  <a:ext cx="5124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Política de mantener a las personas desplazadas alejadas de la población de acogi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42920" y="5445000"/>
                  <a:ext cx="5010120" cy="6526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468480" y="5450040"/>
                  <a:ext cx="1637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Pocos refugi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66cc"/>
                      </a:solidFill>
                      <a:latin typeface="Arial Black"/>
                    </a:rPr>
                    <a:t>tempor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324480" y="5445000"/>
                  <a:ext cx="2133720" cy="76212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6019920" y="4038480"/>
                  <a:ext cx="457200" cy="1371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6705720" y="4073400"/>
                  <a:ext cx="0" cy="1371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7924680" y="4073040"/>
                  <a:ext cx="0" cy="30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CC17-9FBA-4077-AD75-C6D576E51B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Árbol de problemas: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447920" y="1219320"/>
            <a:ext cx="7162560" cy="457200"/>
            <a:chOff x="1447920" y="1219320"/>
            <a:chExt cx="7162560" cy="457200"/>
          </a:xfrm>
        </p:grpSpPr>
        <p:sp>
          <p:nvSpPr>
            <p:cNvPr id="517" name=""/>
            <p:cNvSpPr/>
            <p:nvPr/>
          </p:nvSpPr>
          <p:spPr>
            <a:xfrm>
              <a:off x="1447920" y="1219320"/>
              <a:ext cx="228600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ltas tasas de morta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1219320"/>
              <a:ext cx="26668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Lesiones traumá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754080" y="1447920"/>
              <a:ext cx="213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2560" y="2382840"/>
            <a:ext cx="9091440" cy="4094280"/>
            <a:chOff x="52560" y="2382840"/>
            <a:chExt cx="9091440" cy="4094280"/>
          </a:xfrm>
        </p:grpSpPr>
        <p:sp>
          <p:nvSpPr>
            <p:cNvPr id="521" name=""/>
            <p:cNvSpPr/>
            <p:nvPr/>
          </p:nvSpPr>
          <p:spPr>
            <a:xfrm flipV="1">
              <a:off x="7620120" y="563832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52560" y="2382840"/>
              <a:ext cx="9091440" cy="4094280"/>
              <a:chOff x="52560" y="2382840"/>
              <a:chExt cx="9091440" cy="4094280"/>
            </a:xfrm>
          </p:grpSpPr>
          <p:sp>
            <p:nvSpPr>
              <p:cNvPr id="523" name=""/>
              <p:cNvSpPr/>
              <p:nvPr/>
            </p:nvSpPr>
            <p:spPr>
              <a:xfrm>
                <a:off x="7238880" y="5867280"/>
                <a:ext cx="1600200" cy="60984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05480" y="5850000"/>
                <a:ext cx="1576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Desplazamient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de la pobl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52560" y="2382840"/>
                <a:ext cx="9091440" cy="4094280"/>
                <a:chOff x="52560" y="2382840"/>
                <a:chExt cx="9091440" cy="4094280"/>
              </a:xfrm>
            </p:grpSpPr>
            <p:sp>
              <p:nvSpPr>
                <p:cNvPr id="526" name=""/>
                <p:cNvSpPr/>
                <p:nvPr/>
              </p:nvSpPr>
              <p:spPr>
                <a:xfrm flipV="1">
                  <a:off x="7620120" y="4572000"/>
                  <a:ext cx="0" cy="20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52560" y="2382840"/>
                  <a:ext cx="9091440" cy="4094280"/>
                  <a:chOff x="52560" y="2382840"/>
                  <a:chExt cx="9091440" cy="40942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467480" y="4778280"/>
                    <a:ext cx="1371600" cy="860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551000" y="4749840"/>
                    <a:ext cx="1279440" cy="94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Doble de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población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en el pueblo/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la ciu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2560" y="2382840"/>
                    <a:ext cx="9091440" cy="4094280"/>
                    <a:chOff x="52560" y="2382840"/>
                    <a:chExt cx="9091440" cy="4094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7467480" y="3875040"/>
                      <a:ext cx="1425600" cy="7286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66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7620120" y="2742840"/>
                      <a:ext cx="0" cy="1143000"/>
                    </a:xfrm>
                    <a:prstGeom prst="line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7644240" y="3917880"/>
                      <a:ext cx="1189440" cy="733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Núme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insufici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de clín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4" name=""/>
                    <p:cNvGrpSpPr/>
                    <p:nvPr/>
                  </p:nvGrpSpPr>
                  <p:grpSpPr>
                    <a:xfrm>
                      <a:off x="52560" y="2382840"/>
                      <a:ext cx="9091440" cy="4094280"/>
                      <a:chOff x="52560" y="2382840"/>
                      <a:chExt cx="9091440" cy="4094280"/>
                    </a:xfrm>
                  </p:grpSpPr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7696080" y="3033720"/>
                        <a:ext cx="1371600" cy="68580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66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7664400" y="3056040"/>
                        <a:ext cx="1479600" cy="520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66cc"/>
                            </a:solidFill>
                            <a:latin typeface="Arial Black"/>
                          </a:rPr>
                          <a:t>Medicinas de 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66cc"/>
                            </a:solidFill>
                            <a:latin typeface="Arial Black"/>
                          </a:rPr>
                          <a:t>baja calida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flipV="1">
                        <a:off x="8305920" y="2743200"/>
                        <a:ext cx="0" cy="263520"/>
                      </a:xfrm>
                      <a:prstGeom prst="line">
                        <a:avLst/>
                      </a:prstGeom>
                      <a:ln w="572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52560" y="2382840"/>
                        <a:ext cx="7338960" cy="4094280"/>
                        <a:chOff x="52560" y="2382840"/>
                        <a:chExt cx="7338960" cy="409428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V="1">
                          <a:off x="6948360" y="2382840"/>
                          <a:ext cx="247680" cy="27792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5762520" y="2438280"/>
                          <a:ext cx="1171800" cy="8463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66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>
                          <a:off x="5715000" y="2481120"/>
                          <a:ext cx="1017720" cy="733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ES_tradnl" sz="1400" spc="-1" strike="noStrike">
                              <a:solidFill>
                                <a:srgbClr val="0066cc"/>
                              </a:solidFill>
                              <a:latin typeface="Arial Black"/>
                            </a:rPr>
                            <a:t>Muy pocos 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ES_tradnl" sz="1400" spc="-1" strike="noStrike">
                              <a:solidFill>
                                <a:srgbClr val="0066cc"/>
                              </a:solidFill>
                              <a:latin typeface="Arial Black"/>
                            </a:rPr>
                            <a:t>médicos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2" name=""/>
                        <p:cNvGrpSpPr/>
                        <p:nvPr/>
                      </p:nvGrpSpPr>
                      <p:grpSpPr>
                        <a:xfrm>
                          <a:off x="52560" y="2421000"/>
                          <a:ext cx="7338960" cy="4056120"/>
                          <a:chOff x="52560" y="2421000"/>
                          <a:chExt cx="7338960" cy="4056120"/>
                        </a:xfrm>
                      </p:grpSpPr>
                      <p:sp>
                        <p:nvSpPr>
                          <p:cNvPr id="543" name=""/>
                          <p:cNvSpPr/>
                          <p:nvPr/>
                        </p:nvSpPr>
                        <p:spPr>
                          <a:xfrm>
                            <a:off x="4267080" y="5791320"/>
                            <a:ext cx="2743200" cy="68580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66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4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Situación histórica de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4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mala distribución de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4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la riquez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6324480" y="3581280"/>
                            <a:ext cx="1067040" cy="68580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66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Problemas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En</a:t>
                            </a:r>
                            <a:r>
                              <a:rPr b="0" lang="en-GB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 </a:t>
                            </a:r>
                            <a:r>
                              <a:rPr b="0" lang="es-ES_tradnl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la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ocupación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ES_tradnl" sz="1200" spc="-1" strike="noStrike">
                                <a:solidFill>
                                  <a:srgbClr val="0066cc"/>
                                </a:solidFill>
                                <a:latin typeface="Arial Black"/>
                              </a:rPr>
                              <a:t>de la tierra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52560" y="2421000"/>
                            <a:ext cx="6210000" cy="3768840"/>
                            <a:chOff x="52560" y="2421000"/>
                            <a:chExt cx="6210000" cy="376884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52560" y="2421000"/>
                              <a:ext cx="3727440" cy="3768840"/>
                              <a:chOff x="52560" y="2421000"/>
                              <a:chExt cx="3727440" cy="3768840"/>
                            </a:xfrm>
                          </p:grpSpPr>
                          <p:sp>
                            <p:nvSpPr>
                              <p:cNvPr id="547" name=""/>
                              <p:cNvSpPr/>
                              <p:nvPr/>
                            </p:nvSpPr>
                            <p:spPr>
                              <a:xfrm>
                                <a:off x="2286000" y="5253120"/>
                                <a:ext cx="1494000" cy="91908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66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"/>
                              <p:cNvSpPr/>
                              <p:nvPr/>
                            </p:nvSpPr>
                            <p:spPr>
                              <a:xfrm>
                                <a:off x="2286000" y="5243400"/>
                                <a:ext cx="1278000" cy="9464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ES_tradnl" sz="1400" spc="-1" strike="noStrike">
                                    <a:solidFill>
                                      <a:srgbClr val="0066cc"/>
                                    </a:solidFill>
                                    <a:latin typeface="Arial Black"/>
                                  </a:rPr>
                                  <a:t>Lavaderos comunes muy alejados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49" name=""/>
                              <p:cNvGrpSpPr/>
                              <p:nvPr/>
                            </p:nvGrpSpPr>
                            <p:grpSpPr>
                              <a:xfrm>
                                <a:off x="52560" y="2421000"/>
                                <a:ext cx="2919240" cy="3493800"/>
                                <a:chOff x="52560" y="2421000"/>
                                <a:chExt cx="2919240" cy="3493800"/>
                              </a:xfrm>
                            </p:grpSpPr>
                            <p:sp>
                              <p:nvSpPr>
                                <p:cNvPr id="550" name=""/>
                                <p:cNvSpPr/>
                                <p:nvPr/>
                              </p:nvSpPr>
                              <p:spPr>
                                <a:xfrm>
                                  <a:off x="457200" y="4282920"/>
                                  <a:ext cx="1600200" cy="704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66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1" name=""/>
                                <p:cNvSpPr/>
                                <p:nvPr/>
                              </p:nvSpPr>
                              <p:spPr>
                                <a:xfrm>
                                  <a:off x="380880" y="5181480"/>
                                  <a:ext cx="1295640" cy="6526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66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2" name=""/>
                                <p:cNvSpPr/>
                                <p:nvPr/>
                              </p:nvSpPr>
                              <p:spPr>
                                <a:xfrm>
                                  <a:off x="559440" y="4419720"/>
                                  <a:ext cx="1463760" cy="5202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ES_tradnl" sz="1400" spc="-1" strike="noStrike">
                                      <a:solidFill>
                                        <a:srgbClr val="0066cc"/>
                                      </a:solidFill>
                                      <a:latin typeface="Arial Black"/>
                                    </a:rPr>
                                    <a:t>Medicamentos 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ES_tradnl" sz="1400" spc="-1" strike="noStrike">
                                      <a:solidFill>
                                        <a:srgbClr val="0066cc"/>
                                      </a:solidFill>
                                      <a:latin typeface="Arial Black"/>
                                    </a:rPr>
                                    <a:t>inadecuados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3" name=""/>
                                <p:cNvSpPr/>
                                <p:nvPr/>
                              </p:nvSpPr>
                              <p:spPr>
                                <a:xfrm>
                                  <a:off x="380880" y="5181480"/>
                                  <a:ext cx="1371600" cy="7333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ES_tradnl" sz="1400" spc="-1" strike="noStrike">
                                      <a:solidFill>
                                        <a:srgbClr val="0066cc"/>
                                      </a:solidFill>
                                      <a:latin typeface="Arial Black"/>
                                    </a:rPr>
                                    <a:t>Leña para el fuego, muy lejos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554" name=""/>
                                <p:cNvGrpSpPr/>
                                <p:nvPr/>
                              </p:nvGrpSpPr>
                              <p:grpSpPr>
                                <a:xfrm>
                                  <a:off x="52560" y="2421000"/>
                                  <a:ext cx="1674720" cy="1584360"/>
                                  <a:chOff x="52560" y="2421000"/>
                                  <a:chExt cx="1674720" cy="1584360"/>
                                </a:xfrm>
                              </p:grpSpPr>
                              <p:sp>
                                <p:nvSpPr>
                                  <p:cNvPr id="555" name=""/>
                                  <p:cNvSpPr/>
                                  <p:nvPr/>
                                </p:nvSpPr>
                                <p:spPr>
                                  <a:xfrm>
                                    <a:off x="76320" y="2895480"/>
                                    <a:ext cx="1523880" cy="1109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66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5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2560" y="2421000"/>
                                    <a:ext cx="1674720" cy="1391040"/>
                                    <a:chOff x="52560" y="2421000"/>
                                    <a:chExt cx="1674720" cy="1391040"/>
                                  </a:xfrm>
                                </p:grpSpPr>
                                <p:sp>
                                  <p:nvSpPr>
                                    <p:cNvPr id="5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2560" y="2823840"/>
                                      <a:ext cx="1674720" cy="9882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4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ES_tradnl" sz="1400" spc="-1" strike="noStrike">
                                          <a:solidFill>
                                            <a:srgbClr val="0066cc"/>
                                          </a:solidFill>
                                          <a:latin typeface="Arial Black"/>
                                        </a:rPr>
                                        <a:t>Bajas tasas de </a:t>
                                      </a:r>
                                      <a:endParaRPr b="0" lang="en-US" sz="1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  <a:p>
                                      <a:pPr>
                                        <a:lnSpc>
                                          <a:spcPct val="14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ES_tradnl" sz="1400" spc="-1" strike="noStrike">
                                          <a:solidFill>
                                            <a:srgbClr val="0066cc"/>
                                          </a:solidFill>
                                          <a:latin typeface="Arial Black"/>
                                        </a:rPr>
                                        <a:t>cobertura en </a:t>
                                      </a:r>
                                      <a:endParaRPr b="0" lang="en-US" sz="1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  <a:p>
                                      <a:pPr>
                                        <a:lnSpc>
                                          <a:spcPct val="14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ES_tradnl" sz="1400" spc="-1" strike="noStrike">
                                          <a:solidFill>
                                            <a:srgbClr val="0066cc"/>
                                          </a:solidFill>
                                          <a:latin typeface="Arial Black"/>
                                        </a:rPr>
                                        <a:t>la vacunación</a:t>
                                      </a:r>
                                      <a:endParaRPr b="0" lang="en-US" sz="1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" name=""/>
                                    <p:cNvSpPr/>
                                    <p:nvPr/>
                                  </p:nvSpPr>
                                  <p:spPr>
                                    <a:xfrm flipV="1">
                                      <a:off x="380880" y="2421000"/>
                                      <a:ext cx="0" cy="475200"/>
                                    </a:xfrm>
                                    <a:prstGeom prst="line">
                                      <a:avLst/>
                                    </a:prstGeom>
                                    <a:ln w="57240">
                                      <a:solidFill>
                                        <a:srgbClr val="ff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ctr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559" name=""/>
                                <p:cNvSpPr/>
                                <p:nvPr/>
                              </p:nvSpPr>
                              <p:spPr>
                                <a:xfrm flipV="1">
                                  <a:off x="1828800" y="2895480"/>
                                  <a:ext cx="0" cy="13860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ff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0" name=""/>
                                <p:cNvSpPr/>
                                <p:nvPr/>
                              </p:nvSpPr>
                              <p:spPr>
                                <a:xfrm flipV="1">
                                  <a:off x="1676520" y="4648320"/>
                                  <a:ext cx="1295280" cy="5731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ff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61" name=""/>
                              <p:cNvSpPr/>
                              <p:nvPr/>
                            </p:nvSpPr>
                            <p:spPr>
                              <a:xfrm flipV="1">
                                <a:off x="3048120" y="4647960"/>
                                <a:ext cx="0" cy="609480"/>
                              </a:xfrm>
                              <a:prstGeom prst="line">
                                <a:avLst/>
                              </a:prstGeom>
                              <a:ln w="5724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62" name=""/>
                            <p:cNvSpPr/>
                            <p:nvPr/>
                          </p:nvSpPr>
                          <p:spPr>
                            <a:xfrm>
                              <a:off x="5181480" y="4767120"/>
                              <a:ext cx="1081080" cy="685800"/>
                            </a:xfrm>
                            <a:prstGeom prst="rect">
                              <a:avLst/>
                            </a:prstGeom>
                            <a:noFill/>
                            <a:ln w="12600">
                              <a:solidFill>
                                <a:srgbClr val="0066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ES_tradnl" sz="1400" spc="-1" strike="noStrike">
                                  <a:solidFill>
                                    <a:srgbClr val="0066cc"/>
                                  </a:solidFill>
                                  <a:latin typeface="Arial Black"/>
                                </a:rPr>
                                <a:t>Crisis 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ES_tradnl" sz="1400" spc="-1" strike="noStrike">
                                  <a:solidFill>
                                    <a:srgbClr val="0066cc"/>
                                  </a:solidFill>
                                  <a:latin typeface="Arial Black"/>
                                </a:rPr>
                                <a:t>política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3809880" y="4767120"/>
                              <a:ext cx="1193760" cy="685800"/>
                            </a:xfrm>
                            <a:prstGeom prst="rect">
                              <a:avLst/>
                            </a:prstGeom>
                            <a:noFill/>
                            <a:ln w="12600">
                              <a:solidFill>
                                <a:srgbClr val="0066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ES_tradnl" sz="1400" spc="-1" strike="noStrike">
                                  <a:solidFill>
                                    <a:srgbClr val="0066cc"/>
                                  </a:solidFill>
                                  <a:latin typeface="Arial Black"/>
                                </a:rPr>
                                <a:t>Economía 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ES_tradnl" sz="1400" spc="-1" strike="noStrike">
                                  <a:solidFill>
                                    <a:srgbClr val="0066cc"/>
                                  </a:solidFill>
                                  <a:latin typeface="Arial Black"/>
                                </a:rPr>
                                <a:t>de guerra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/>
                            <p:nvPr/>
                          </p:nvSpPr>
                          <p:spPr>
                            <a:xfrm flipV="1">
                              <a:off x="5638680" y="4038480"/>
                              <a:ext cx="0" cy="73368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ff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5" name=""/>
                            <p:cNvSpPr/>
                            <p:nvPr/>
                          </p:nvSpPr>
                          <p:spPr>
                            <a:xfrm flipV="1">
                              <a:off x="4648320" y="4038480"/>
                              <a:ext cx="0" cy="74160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ff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 flipH="1">
                            <a:off x="6171840" y="3809880"/>
                            <a:ext cx="15228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 flipV="1">
                            <a:off x="4648320" y="5463720"/>
                            <a:ext cx="0" cy="36036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 flipV="1">
                            <a:off x="5638680" y="5471640"/>
                            <a:ext cx="0" cy="36036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 flipV="1">
                            <a:off x="6781680" y="4267080"/>
                            <a:ext cx="0" cy="152424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570" name=""/>
          <p:cNvGrpSpPr/>
          <p:nvPr/>
        </p:nvGrpSpPr>
        <p:grpSpPr>
          <a:xfrm>
            <a:off x="255600" y="1600200"/>
            <a:ext cx="8464680" cy="2958480"/>
            <a:chOff x="255600" y="1600200"/>
            <a:chExt cx="8464680" cy="2958480"/>
          </a:xfrm>
        </p:grpSpPr>
        <p:sp>
          <p:nvSpPr>
            <p:cNvPr id="571" name=""/>
            <p:cNvSpPr/>
            <p:nvPr/>
          </p:nvSpPr>
          <p:spPr>
            <a:xfrm flipH="1" flipV="1">
              <a:off x="3200400" y="1711440"/>
              <a:ext cx="5335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600" y="1960560"/>
              <a:ext cx="121716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Saramp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81280" y="1711080"/>
              <a:ext cx="2362320" cy="22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543800" y="17316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90280" y="2506680"/>
              <a:ext cx="50544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91040" y="3235320"/>
              <a:ext cx="89100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Diar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29920" y="2562120"/>
              <a:ext cx="1179000" cy="337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Palud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38080" y="3429000"/>
              <a:ext cx="1561320" cy="520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Violencia cont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las minor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80680" y="4038480"/>
              <a:ext cx="1561320" cy="520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Violencia cont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las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35720" y="2092320"/>
              <a:ext cx="1384560" cy="580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Clínic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inadecu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981080" y="1725120"/>
              <a:ext cx="0" cy="747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38080" y="1600200"/>
              <a:ext cx="582840" cy="331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105520" y="1731600"/>
              <a:ext cx="1143000" cy="173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743200" y="1711080"/>
              <a:ext cx="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70A4-EC02-4155-AB5F-8AEDD707EB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Árbol de problemas: nutr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56360" y="3580920"/>
            <a:ext cx="2835000" cy="1864080"/>
            <a:chOff x="6156360" y="3580920"/>
            <a:chExt cx="2835000" cy="1864080"/>
          </a:xfrm>
        </p:grpSpPr>
        <p:grpSp>
          <p:nvGrpSpPr>
            <p:cNvPr id="587" name=""/>
            <p:cNvGrpSpPr/>
            <p:nvPr/>
          </p:nvGrpSpPr>
          <p:grpSpPr>
            <a:xfrm>
              <a:off x="6156360" y="3638160"/>
              <a:ext cx="2835000" cy="1806840"/>
              <a:chOff x="6156360" y="3638160"/>
              <a:chExt cx="2835000" cy="18068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7696080" y="3886200"/>
                <a:ext cx="1295280" cy="914040"/>
                <a:chOff x="7696080" y="3886200"/>
                <a:chExt cx="1295280" cy="9140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696080" y="3924720"/>
                  <a:ext cx="1207440" cy="87552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705800" y="3886200"/>
                  <a:ext cx="128556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avaderos muy alejad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156360" y="4314960"/>
                <a:ext cx="13683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66cc"/>
                    </a:solidFill>
                    <a:latin typeface="Arial Black"/>
                  </a:rPr>
                  <a:t>El combustible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66cc"/>
                    </a:solidFill>
                    <a:latin typeface="Arial Black"/>
                  </a:rPr>
                  <a:t>está en la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66cc"/>
                    </a:solidFill>
                    <a:latin typeface="Arial Black"/>
                  </a:rPr>
                  <a:t>lejana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66cc"/>
                    </a:solidFill>
                    <a:latin typeface="Arial Black"/>
                  </a:rPr>
                  <a:t>tierras baja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227640" y="4309920"/>
                <a:ext cx="1440000" cy="11350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8305920" y="363816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4320" y="3962160"/>
                <a:ext cx="0" cy="360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V="1">
              <a:off x="7391520" y="3580920"/>
              <a:ext cx="38088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2280" y="1523880"/>
            <a:ext cx="8208000" cy="1784880"/>
            <a:chOff x="332280" y="1523880"/>
            <a:chExt cx="8208000" cy="1784880"/>
          </a:xfrm>
        </p:grpSpPr>
        <p:sp>
          <p:nvSpPr>
            <p:cNvPr id="597" name=""/>
            <p:cNvSpPr/>
            <p:nvPr/>
          </p:nvSpPr>
          <p:spPr>
            <a:xfrm flipV="1">
              <a:off x="3809880" y="1542960"/>
              <a:ext cx="53352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648320" y="1561680"/>
              <a:ext cx="380880" cy="55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4800240" y="1542600"/>
              <a:ext cx="2133720" cy="514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340000" y="1523880"/>
              <a:ext cx="1774800" cy="681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76920" y="2158920"/>
              <a:ext cx="1954080" cy="520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Incapacidad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preparar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280" y="1701720"/>
              <a:ext cx="1817640" cy="946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Cesta de alime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inadecuad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Times New Roman"/>
                </a:rPr>
                <a:t>•</a:t>
              </a: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 </a:t>
              </a: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en calor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Times New Roman"/>
                </a:rPr>
                <a:t>•</a:t>
              </a: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 </a:t>
              </a: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en palat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25120" y="1701720"/>
              <a:ext cx="1415160" cy="520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Entorno soc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disti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90880" y="2362320"/>
              <a:ext cx="1657440" cy="946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Carenci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Arial Black"/>
                </a:rPr>
                <a:t>de micronutrientes (pelagr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52280" y="4114440"/>
            <a:ext cx="2057400" cy="2057760"/>
            <a:chOff x="152280" y="4114440"/>
            <a:chExt cx="2057400" cy="2057760"/>
          </a:xfrm>
        </p:grpSpPr>
        <p:sp>
          <p:nvSpPr>
            <p:cNvPr id="606" name=""/>
            <p:cNvSpPr/>
            <p:nvPr/>
          </p:nvSpPr>
          <p:spPr>
            <a:xfrm>
              <a:off x="283680" y="5823000"/>
              <a:ext cx="18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Economía de guer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52280" y="4114440"/>
              <a:ext cx="2057400" cy="2057760"/>
              <a:chOff x="152280" y="4114440"/>
              <a:chExt cx="2057400" cy="2057760"/>
            </a:xfrm>
          </p:grpSpPr>
          <p:sp>
            <p:nvSpPr>
              <p:cNvPr id="608" name=""/>
              <p:cNvSpPr/>
              <p:nvPr/>
            </p:nvSpPr>
            <p:spPr>
              <a:xfrm>
                <a:off x="152280" y="4267080"/>
                <a:ext cx="1600200" cy="65268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152280" y="4114440"/>
                <a:ext cx="2057400" cy="2057760"/>
                <a:chOff x="152280" y="4114440"/>
                <a:chExt cx="2057400" cy="205776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152280" y="5029200"/>
                  <a:ext cx="1981440" cy="628560"/>
                  <a:chOff x="152280" y="5029200"/>
                  <a:chExt cx="1981440" cy="6285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152280" y="5048280"/>
                    <a:ext cx="1752840" cy="60948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152280" y="5029200"/>
                    <a:ext cx="19814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Robos en ruta hacia l</a:t>
                    </a:r>
                    <a:r>
                      <a:rPr b="0" lang="en-GB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a ciu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292680" y="4300560"/>
                  <a:ext cx="1473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Escasos biene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de otros tip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52280" y="579132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709560" y="4114440"/>
                  <a:ext cx="0" cy="152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709560" y="4911840"/>
                  <a:ext cx="0" cy="1332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709560" y="5657400"/>
                  <a:ext cx="0" cy="1335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8" name=""/>
          <p:cNvGrpSpPr/>
          <p:nvPr/>
        </p:nvGrpSpPr>
        <p:grpSpPr>
          <a:xfrm>
            <a:off x="23760" y="2349000"/>
            <a:ext cx="8891640" cy="3899520"/>
            <a:chOff x="23760" y="2349000"/>
            <a:chExt cx="8891640" cy="3899520"/>
          </a:xfrm>
        </p:grpSpPr>
        <p:sp>
          <p:nvSpPr>
            <p:cNvPr id="619" name=""/>
            <p:cNvSpPr/>
            <p:nvPr/>
          </p:nvSpPr>
          <p:spPr>
            <a:xfrm flipV="1">
              <a:off x="8182080" y="2349000"/>
              <a:ext cx="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788360" y="3035160"/>
              <a:ext cx="921600" cy="685800"/>
              <a:chOff x="4788360" y="3035160"/>
              <a:chExt cx="921600" cy="685800"/>
            </a:xfrm>
          </p:grpSpPr>
          <p:sp>
            <p:nvSpPr>
              <p:cNvPr id="621" name=""/>
              <p:cNvSpPr/>
              <p:nvPr/>
            </p:nvSpPr>
            <p:spPr>
              <a:xfrm>
                <a:off x="4788360" y="3035160"/>
                <a:ext cx="921600" cy="6858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15720" y="3078000"/>
                <a:ext cx="81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ocin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7648560" y="2730600"/>
              <a:ext cx="1266840" cy="88092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30280" y="2716200"/>
              <a:ext cx="1139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Violenc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cont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las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765760" y="3035160"/>
              <a:ext cx="1728720" cy="989280"/>
              <a:chOff x="5765760" y="3035160"/>
              <a:chExt cx="1728720" cy="989280"/>
            </a:xfrm>
          </p:grpSpPr>
          <p:sp>
            <p:nvSpPr>
              <p:cNvPr id="626" name=""/>
              <p:cNvSpPr/>
              <p:nvPr/>
            </p:nvSpPr>
            <p:spPr>
              <a:xfrm>
                <a:off x="5765760" y="3035160"/>
                <a:ext cx="1704960" cy="9144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29480" y="3078000"/>
                <a:ext cx="166500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Las mujere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tardan mucho e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onsegui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ombusti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5870520" y="274284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413320" y="274284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23760" y="2717280"/>
              <a:ext cx="8615520" cy="3531240"/>
              <a:chOff x="23760" y="2717280"/>
              <a:chExt cx="8615520" cy="3531240"/>
            </a:xfrm>
          </p:grpSpPr>
          <p:sp>
            <p:nvSpPr>
              <p:cNvPr id="631" name=""/>
              <p:cNvSpPr/>
              <p:nvPr/>
            </p:nvSpPr>
            <p:spPr>
              <a:xfrm>
                <a:off x="2238480" y="4361040"/>
                <a:ext cx="1066680" cy="6523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23760" y="2717280"/>
                <a:ext cx="8615520" cy="3531240"/>
                <a:chOff x="23760" y="2717280"/>
                <a:chExt cx="8615520" cy="35312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2379600" y="3843360"/>
                  <a:ext cx="2448000" cy="34776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23760" y="2717280"/>
                  <a:ext cx="8615520" cy="3531240"/>
                  <a:chOff x="23760" y="2717280"/>
                  <a:chExt cx="8615520" cy="35312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3304800" y="4711680"/>
                    <a:ext cx="15228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flipV="1">
                    <a:off x="3428640" y="4198680"/>
                    <a:ext cx="181080" cy="1364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905360" y="4330800"/>
                    <a:ext cx="1266840" cy="83808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No hay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aliment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compues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896080" y="5549760"/>
                    <a:ext cx="2743200" cy="698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Política de donantes,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fatiga, bajo valor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estratég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5972040" y="5168880"/>
                    <a:ext cx="0" cy="3808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3457440" y="4349880"/>
                    <a:ext cx="1524240" cy="652320"/>
                    <a:chOff x="3457440" y="4349880"/>
                    <a:chExt cx="1524240" cy="6523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457440" y="4349880"/>
                      <a:ext cx="152424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Inseguridad en las tierras baj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457440" y="4349880"/>
                      <a:ext cx="1371600" cy="6523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66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3" name=""/>
                  <p:cNvSpPr/>
                  <p:nvPr/>
                </p:nvSpPr>
                <p:spPr>
                  <a:xfrm flipH="1" flipV="1">
                    <a:off x="4343400" y="3352320"/>
                    <a:ext cx="866880" cy="97812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760" y="2905200"/>
                    <a:ext cx="2185920" cy="121896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127800" y="2908440"/>
                    <a:ext cx="1549440" cy="115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Bajo poder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adquisitivo,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pocos ingres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por las racione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vendida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09760" y="3835440"/>
                    <a:ext cx="2670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No hay compras local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>
                    <a:off x="714240" y="2717280"/>
                    <a:ext cx="0" cy="2098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240640" y="4389480"/>
                    <a:ext cx="109368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0066cc"/>
                        </a:solidFill>
                        <a:latin typeface="Arial Black"/>
                      </a:rPr>
                      <a:t>Demoras e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0066cc"/>
                        </a:solidFill>
                        <a:latin typeface="Arial Black"/>
                      </a:rPr>
                      <a:t>la cadena d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0066cc"/>
                        </a:solidFill>
                        <a:latin typeface="Arial Black"/>
                      </a:rPr>
                      <a:t>distribuci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flipV="1">
                    <a:off x="2314440" y="2730240"/>
                    <a:ext cx="457200" cy="10666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2314440" y="2730600"/>
                    <a:ext cx="0" cy="16761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51" name=""/>
          <p:cNvGrpSpPr/>
          <p:nvPr/>
        </p:nvGrpSpPr>
        <p:grpSpPr>
          <a:xfrm>
            <a:off x="1752480" y="4129200"/>
            <a:ext cx="3886200" cy="2166840"/>
            <a:chOff x="1752480" y="4129200"/>
            <a:chExt cx="3886200" cy="2166840"/>
          </a:xfrm>
        </p:grpSpPr>
        <p:sp>
          <p:nvSpPr>
            <p:cNvPr id="652" name=""/>
            <p:cNvSpPr/>
            <p:nvPr/>
          </p:nvSpPr>
          <p:spPr>
            <a:xfrm>
              <a:off x="2743200" y="5562720"/>
              <a:ext cx="2895480" cy="68580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752480" y="4129200"/>
              <a:ext cx="3886200" cy="2166840"/>
              <a:chOff x="1752480" y="4129200"/>
              <a:chExt cx="3886200" cy="2166840"/>
            </a:xfrm>
          </p:grpSpPr>
          <p:sp>
            <p:nvSpPr>
              <p:cNvPr id="654" name=""/>
              <p:cNvSpPr/>
              <p:nvPr/>
            </p:nvSpPr>
            <p:spPr>
              <a:xfrm>
                <a:off x="2743200" y="5562720"/>
                <a:ext cx="2895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recimiento rápido, alto nivel de endeudamiento y moneda devalua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31200" y="5168880"/>
                <a:ext cx="135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Hiperinfl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033640" y="5140440"/>
                <a:ext cx="1828800" cy="3571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1752480" y="4129200"/>
                <a:ext cx="457200" cy="1014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2362320" y="5486400"/>
                <a:ext cx="0" cy="380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2362320" y="5867280"/>
                <a:ext cx="3808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52280" y="1085760"/>
            <a:ext cx="8839440" cy="457200"/>
            <a:chOff x="152280" y="1085760"/>
            <a:chExt cx="8839440" cy="457200"/>
          </a:xfrm>
        </p:grpSpPr>
        <p:sp>
          <p:nvSpPr>
            <p:cNvPr id="661" name=""/>
            <p:cNvSpPr/>
            <p:nvPr/>
          </p:nvSpPr>
          <p:spPr>
            <a:xfrm>
              <a:off x="152280" y="1085760"/>
              <a:ext cx="259092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Lastre de enfermeda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77120" y="1085760"/>
              <a:ext cx="251460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Falta de dign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2800080" y="13143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52800" y="13143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57600" y="1085760"/>
              <a:ext cx="1981080" cy="45720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snutr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4406-7D8D-4F5E-9075-D57791FF7D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Árbol de problemas: seguridad alimen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676160" y="3809880"/>
            <a:ext cx="1676520" cy="914400"/>
            <a:chOff x="1676160" y="3809880"/>
            <a:chExt cx="1676520" cy="914400"/>
          </a:xfrm>
        </p:grpSpPr>
        <p:sp>
          <p:nvSpPr>
            <p:cNvPr id="668" name=""/>
            <p:cNvSpPr/>
            <p:nvPr/>
          </p:nvSpPr>
          <p:spPr>
            <a:xfrm>
              <a:off x="1905120" y="4343400"/>
              <a:ext cx="1447560" cy="38088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77120" y="4435560"/>
              <a:ext cx="13543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Hiperinf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1676160" y="38098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7960" y="1343160"/>
            <a:ext cx="8091360" cy="1799280"/>
            <a:chOff x="417960" y="1343160"/>
            <a:chExt cx="8091360" cy="1799280"/>
          </a:xfrm>
        </p:grpSpPr>
        <p:sp>
          <p:nvSpPr>
            <p:cNvPr id="672" name=""/>
            <p:cNvSpPr/>
            <p:nvPr/>
          </p:nvSpPr>
          <p:spPr>
            <a:xfrm flipV="1">
              <a:off x="1793880" y="1447920"/>
              <a:ext cx="0" cy="366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26160" y="1343160"/>
              <a:ext cx="1883160" cy="775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Incapacidad pa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 Black"/>
                </a:rPr>
                <a:t>preparar com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7960" y="1828800"/>
              <a:ext cx="2521440" cy="13136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 Black"/>
                </a:rPr>
                <a:t>La cesta de comid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 Black"/>
                </a:rPr>
                <a:t>es inadecuad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66cc"/>
                  </a:solidFill>
                  <a:latin typeface="Times New Roman"/>
                </a:rPr>
                <a:t>•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 Black"/>
                </a:rPr>
                <a:t>en calor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66cc"/>
                  </a:solidFill>
                  <a:latin typeface="Times New Roman"/>
                </a:rPr>
                <a:t>•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 Black"/>
                </a:rPr>
                <a:t>en palat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110200" y="1523880"/>
              <a:ext cx="1316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324480" y="2209320"/>
            <a:ext cx="2608560" cy="3706920"/>
            <a:chOff x="6324480" y="2209320"/>
            <a:chExt cx="2608560" cy="3706920"/>
          </a:xfrm>
        </p:grpSpPr>
        <p:sp>
          <p:nvSpPr>
            <p:cNvPr id="677" name=""/>
            <p:cNvSpPr/>
            <p:nvPr/>
          </p:nvSpPr>
          <p:spPr>
            <a:xfrm>
              <a:off x="6324480" y="2584440"/>
              <a:ext cx="1067040" cy="53964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6420600" y="2209320"/>
              <a:ext cx="2512440" cy="3706920"/>
              <a:chOff x="6420600" y="2209320"/>
              <a:chExt cx="2512440" cy="37069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7461360" y="2567160"/>
                <a:ext cx="1449360" cy="1242360"/>
                <a:chOff x="7461360" y="2567160"/>
                <a:chExt cx="1449360" cy="12423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7461360" y="2567160"/>
                  <a:ext cx="1449360" cy="124236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584480" y="2610000"/>
                  <a:ext cx="1232280" cy="94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as mujere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tardan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much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en recog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eñ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 flipV="1">
                <a:off x="6858000" y="2209320"/>
                <a:ext cx="0" cy="376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7105680" y="5029200"/>
                <a:ext cx="1827360" cy="887040"/>
                <a:chOff x="7105680" y="5029200"/>
                <a:chExt cx="1827360" cy="887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250400" y="5090040"/>
                  <a:ext cx="1628640" cy="77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Combustible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lejano, en tierra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agrícola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66cc"/>
                      </a:solidFill>
                      <a:latin typeface="Arial Black"/>
                    </a:rPr>
                    <a:t>insegur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105680" y="5029200"/>
                  <a:ext cx="1827360" cy="887040"/>
                </a:xfrm>
                <a:prstGeom prst="rect">
                  <a:avLst/>
                </a:prstGeom>
                <a:noFill/>
                <a:ln w="1260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 flipV="1">
                <a:off x="8001000" y="2209680"/>
                <a:ext cx="0" cy="355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420600" y="2617920"/>
                <a:ext cx="81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No ha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66cc"/>
                    </a:solidFill>
                    <a:latin typeface="Arial Black"/>
                  </a:rPr>
                  <a:t>cocin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8001000" y="3809520"/>
                <a:ext cx="0" cy="1211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9" name=""/>
          <p:cNvGrpSpPr/>
          <p:nvPr/>
        </p:nvGrpSpPr>
        <p:grpSpPr>
          <a:xfrm>
            <a:off x="152280" y="3200400"/>
            <a:ext cx="2362320" cy="3048120"/>
            <a:chOff x="152280" y="3200400"/>
            <a:chExt cx="2362320" cy="3048120"/>
          </a:xfrm>
        </p:grpSpPr>
        <p:sp>
          <p:nvSpPr>
            <p:cNvPr id="690" name=""/>
            <p:cNvSpPr/>
            <p:nvPr/>
          </p:nvSpPr>
          <p:spPr>
            <a:xfrm>
              <a:off x="152280" y="5911920"/>
              <a:ext cx="2362320" cy="33660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152280" y="3200400"/>
              <a:ext cx="2234520" cy="3026880"/>
              <a:chOff x="152280" y="3200400"/>
              <a:chExt cx="2234520" cy="3026880"/>
            </a:xfrm>
          </p:grpSpPr>
          <p:sp>
            <p:nvSpPr>
              <p:cNvPr id="692" name=""/>
              <p:cNvSpPr/>
              <p:nvPr/>
            </p:nvSpPr>
            <p:spPr>
              <a:xfrm>
                <a:off x="173160" y="4343400"/>
                <a:ext cx="1655640" cy="65232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838080" y="49939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152280" y="3200400"/>
                <a:ext cx="2234520" cy="3026880"/>
                <a:chOff x="152280" y="3200400"/>
                <a:chExt cx="2234520" cy="302688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152280" y="3200400"/>
                  <a:ext cx="2234520" cy="3026880"/>
                  <a:chOff x="152280" y="3200400"/>
                  <a:chExt cx="2234520" cy="30268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152280" y="5205240"/>
                    <a:ext cx="1828800" cy="433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66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152280" y="3557520"/>
                    <a:ext cx="1543320" cy="557280"/>
                    <a:chOff x="152280" y="3557520"/>
                    <a:chExt cx="1543320" cy="55728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52280" y="3557520"/>
                      <a:ext cx="1543320" cy="5572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66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226440" y="3597480"/>
                      <a:ext cx="1143720" cy="43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Bajo pod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adqui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0" name=""/>
                  <p:cNvSpPr/>
                  <p:nvPr/>
                </p:nvSpPr>
                <p:spPr>
                  <a:xfrm>
                    <a:off x="188640" y="5253120"/>
                    <a:ext cx="1462320" cy="43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Robos durante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el transpor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79720" y="5938920"/>
                    <a:ext cx="210708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600" spc="-1" strike="noStrike">
                        <a:solidFill>
                          <a:srgbClr val="0066cc"/>
                        </a:solidFill>
                        <a:latin typeface="Arial Black"/>
                      </a:rPr>
                      <a:t>Economía de guerr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92680" y="4362480"/>
                    <a:ext cx="1473120" cy="69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4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Escasos biene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4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de otros tip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V="1">
                    <a:off x="838080" y="3200400"/>
                    <a:ext cx="0" cy="3808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838080" y="4132080"/>
                    <a:ext cx="0" cy="2286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V="1">
                  <a:off x="838080" y="563832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6" name=""/>
          <p:cNvGrpSpPr/>
          <p:nvPr/>
        </p:nvGrpSpPr>
        <p:grpSpPr>
          <a:xfrm>
            <a:off x="2819520" y="2362320"/>
            <a:ext cx="4343400" cy="3850560"/>
            <a:chOff x="2819520" y="2362320"/>
            <a:chExt cx="4343400" cy="3850560"/>
          </a:xfrm>
        </p:grpSpPr>
        <p:sp>
          <p:nvSpPr>
            <p:cNvPr id="707" name=""/>
            <p:cNvSpPr/>
            <p:nvPr/>
          </p:nvSpPr>
          <p:spPr>
            <a:xfrm>
              <a:off x="2992320" y="5443560"/>
              <a:ext cx="1447920" cy="728640"/>
            </a:xfrm>
            <a:prstGeom prst="rect">
              <a:avLst/>
            </a:prstGeom>
            <a:noFill/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819520" y="2362320"/>
              <a:ext cx="4343400" cy="3850560"/>
              <a:chOff x="2819520" y="2362320"/>
              <a:chExt cx="4343400" cy="3850560"/>
            </a:xfrm>
          </p:grpSpPr>
          <p:sp>
            <p:nvSpPr>
              <p:cNvPr id="709" name=""/>
              <p:cNvSpPr/>
              <p:nvPr/>
            </p:nvSpPr>
            <p:spPr>
              <a:xfrm>
                <a:off x="4726080" y="2827440"/>
                <a:ext cx="1522440" cy="657000"/>
              </a:xfrm>
              <a:prstGeom prst="rect">
                <a:avLst/>
              </a:prstGeom>
              <a:noFill/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2819520" y="2362320"/>
                <a:ext cx="4343400" cy="3850560"/>
                <a:chOff x="2819520" y="2362320"/>
                <a:chExt cx="4343400" cy="3850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3052080" y="5535720"/>
                  <a:ext cx="1209600" cy="67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66cc"/>
                      </a:solidFill>
                      <a:latin typeface="Arial Black"/>
                    </a:rPr>
                    <a:t>Problemas d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66cc"/>
                      </a:solidFill>
                      <a:latin typeface="Arial Black"/>
                    </a:rPr>
                    <a:t>segurida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66cc"/>
                      </a:solidFill>
                      <a:latin typeface="Arial Black"/>
                    </a:rPr>
                    <a:t>en las tierra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66cc"/>
                      </a:solidFill>
                      <a:latin typeface="Arial Black"/>
                    </a:rPr>
                    <a:t>baj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2819520" y="2362320"/>
                  <a:ext cx="4343400" cy="3232800"/>
                  <a:chOff x="2819520" y="2362320"/>
                  <a:chExt cx="4343400" cy="323280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4816440" y="2859120"/>
                    <a:ext cx="1428840" cy="60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Demora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en la caden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66cc"/>
                        </a:solidFill>
                        <a:latin typeface="Arial Black"/>
                      </a:rPr>
                      <a:t>de distribució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flipV="1">
                    <a:off x="3200040" y="2362320"/>
                    <a:ext cx="1523880" cy="7617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4724280" y="4245120"/>
                    <a:ext cx="2438640" cy="1350000"/>
                    <a:chOff x="4724280" y="4245120"/>
                    <a:chExt cx="2438640" cy="135000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4724280" y="4266360"/>
                      <a:ext cx="2438640" cy="1328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Problemas en los contratos con transportista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papeles per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audito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facturas sin pa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4740840" y="4245120"/>
                      <a:ext cx="2221560" cy="12409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66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 flipV="1">
                    <a:off x="5334120" y="3479400"/>
                    <a:ext cx="0" cy="76212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2819520" y="3535200"/>
                    <a:ext cx="1447560" cy="662040"/>
                    <a:chOff x="2819520" y="3535200"/>
                    <a:chExt cx="1447560" cy="66204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2819520" y="3535200"/>
                      <a:ext cx="1447560" cy="6526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66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2896560" y="3592440"/>
                      <a:ext cx="955080" cy="60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No h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compr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66cc"/>
                          </a:solidFill>
                          <a:latin typeface="Arial Black"/>
                        </a:rPr>
                        <a:t>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2" name=""/>
                  <p:cNvSpPr/>
                  <p:nvPr/>
                </p:nvSpPr>
                <p:spPr>
                  <a:xfrm flipH="1" flipV="1">
                    <a:off x="2895480" y="3200400"/>
                    <a:ext cx="457200" cy="3254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3505320" y="4185720"/>
                    <a:ext cx="0" cy="12747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>
                    <a:off x="3886200" y="3471480"/>
                    <a:ext cx="858960" cy="20019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25" name=""/>
          <p:cNvSpPr/>
          <p:nvPr/>
        </p:nvSpPr>
        <p:spPr>
          <a:xfrm>
            <a:off x="152280" y="1143000"/>
            <a:ext cx="4918320" cy="457200"/>
          </a:xfrm>
          <a:prstGeom prst="rect">
            <a:avLst/>
          </a:prstGeom>
          <a:solidFill>
            <a:srgbClr val="0066cc"/>
          </a:solidFill>
          <a:ln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lta de dignidad y des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7223-BB64-40FB-BA94-0703389303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lanific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planificación de proyectos  debe consistir en un esfuerzo </a:t>
            </a:r>
            <a:r>
              <a:rPr b="0" lang="es-ES_tradnl" sz="3600" spc="-1" strike="noStrike">
                <a:solidFill>
                  <a:srgbClr val="0066cc"/>
                </a:solidFill>
                <a:latin typeface="Arial Black"/>
              </a:rPr>
              <a:t>coordinado</a:t>
            </a: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 para llevar a cabo una estrategia que produzca los efectos deseados: una vida digna para todos los beneficiarios del programa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E9CE-493C-425F-80A4-578BF1153F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Herramienta de coordin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76360" y="1916280"/>
            <a:ext cx="1600200" cy="411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00200" y="1981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Comunidad local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34920" y="21337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265284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Gobierno estatal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00200" y="32767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39625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.O.O.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4572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Cruz Roj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51055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 Black"/>
              </a:rPr>
              <a:t>Hermanas de Domist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19280" y="551664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Donant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174840" y="2590920"/>
            <a:ext cx="5651640" cy="3530520"/>
            <a:chOff x="3174840" y="2590920"/>
            <a:chExt cx="5651640" cy="3530520"/>
          </a:xfrm>
        </p:grpSpPr>
        <p:pic>
          <p:nvPicPr>
            <p:cNvPr id="739" name="" descr=""/>
            <p:cNvPicPr/>
            <p:nvPr/>
          </p:nvPicPr>
          <p:blipFill>
            <a:blip r:embed="rId1"/>
            <a:stretch/>
          </p:blipFill>
          <p:spPr>
            <a:xfrm>
              <a:off x="4673520" y="25909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2"/>
            <a:stretch/>
          </p:blipFill>
          <p:spPr>
            <a:xfrm>
              <a:off x="5359320" y="31878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3"/>
            <a:stretch/>
          </p:blipFill>
          <p:spPr>
            <a:xfrm>
              <a:off x="6730920" y="25909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"/>
            <a:stretch/>
          </p:blipFill>
          <p:spPr>
            <a:xfrm>
              <a:off x="3174840" y="260352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5"/>
            <a:stretch/>
          </p:blipFill>
          <p:spPr>
            <a:xfrm>
              <a:off x="3174840" y="379728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6"/>
            <a:stretch/>
          </p:blipFill>
          <p:spPr>
            <a:xfrm>
              <a:off x="3174840" y="54864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7"/>
            <a:stretch/>
          </p:blipFill>
          <p:spPr>
            <a:xfrm>
              <a:off x="3936960" y="5486400"/>
              <a:ext cx="6606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8"/>
            <a:stretch/>
          </p:blipFill>
          <p:spPr>
            <a:xfrm>
              <a:off x="4660920" y="50292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9"/>
            <a:stretch/>
          </p:blipFill>
          <p:spPr>
            <a:xfrm>
              <a:off x="7429680" y="50292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10"/>
            <a:stretch/>
          </p:blipFill>
          <p:spPr>
            <a:xfrm>
              <a:off x="7442280" y="443232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1"/>
            <a:stretch/>
          </p:blipFill>
          <p:spPr>
            <a:xfrm>
              <a:off x="8166240" y="4432320"/>
              <a:ext cx="66024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0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12880" y="114300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Arial Black"/>
              </a:rPr>
              <a:t>Hoja de identificación de lagunas</a:t>
            </a: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199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981080"/>
            <a:ext cx="7315200" cy="41148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483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9152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153280" y="1981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8132600">
            <a:off x="2971800" y="111420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Carret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8034800">
            <a:off x="3733920" y="107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Ali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8063600">
            <a:off x="4495680" y="107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Agua</a:t>
            </a:r>
            <a:br>
              <a:rPr sz="1600"/>
            </a:b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8004800">
            <a:off x="5181480" y="10663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Seguridad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8004200">
            <a:off x="5867280" y="10663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Refug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7844000">
            <a:off x="6553440" y="11059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Cobertor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7769000">
            <a:off x="7314840" y="10663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 Black"/>
              </a:rPr>
              <a:t>Medic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7720400">
            <a:off x="8031600" y="1284480"/>
            <a:ext cx="11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Arial Black"/>
              </a:rPr>
              <a:t>Loc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3880" y="25909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238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38098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3880" y="441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3880" y="50292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3880" y="56386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00200" y="3352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CNUR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66880" y="1143000"/>
            <a:ext cx="10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 Black"/>
              </a:rPr>
              <a:t>NECESIDAD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4428-F6E0-45B6-AECC-5410CFCF43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Marco 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62120" y="2209680"/>
            <a:ext cx="2895480" cy="3886200"/>
            <a:chOff x="762120" y="2209680"/>
            <a:chExt cx="2895480" cy="3886200"/>
          </a:xfrm>
        </p:grpSpPr>
        <p:sp>
          <p:nvSpPr>
            <p:cNvPr id="779" name=""/>
            <p:cNvSpPr/>
            <p:nvPr/>
          </p:nvSpPr>
          <p:spPr>
            <a:xfrm>
              <a:off x="762120" y="220968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2120" y="274320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Efectos, </a:t>
              </a:r>
              <a:br>
                <a:rPr sz="1200"/>
              </a:b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o resultados </a:t>
              </a:r>
              <a:br>
                <a:rPr sz="1200"/>
              </a:b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finales, u objetivo </a:t>
              </a:r>
              <a:br>
                <a:rPr sz="1200"/>
              </a:b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perseg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358128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Resultado esper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2120" y="4495680"/>
              <a:ext cx="2895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Activ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2120" y="5257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66cc"/>
                  </a:solidFill>
                  <a:latin typeface="Arial Black"/>
                </a:rPr>
                <a:t>Apor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590920" y="1268280"/>
            <a:ext cx="5916600" cy="1295640"/>
            <a:chOff x="2590920" y="1268280"/>
            <a:chExt cx="5916600" cy="1295640"/>
          </a:xfrm>
        </p:grpSpPr>
        <p:sp>
          <p:nvSpPr>
            <p:cNvPr id="785" name=""/>
            <p:cNvSpPr/>
            <p:nvPr/>
          </p:nvSpPr>
          <p:spPr>
            <a:xfrm>
              <a:off x="3935520" y="12682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Indicadores objetivamente verific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07320" y="126828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66cc"/>
                  </a:solidFill>
                  <a:latin typeface="Arial Black"/>
                </a:rPr>
                <a:t>Riesgos, hipótesis, supues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90920" y="142092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66cc"/>
                  </a:solidFill>
                  <a:latin typeface="Arial Black"/>
                </a:rPr>
                <a:t>Descripción narr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0080" y="1420920"/>
              <a:ext cx="1524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66cc"/>
                  </a:solidFill>
                  <a:latin typeface="Arial Black"/>
                </a:rPr>
                <a:t>Fuentes de 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26920" y="1197000"/>
            <a:ext cx="7772400" cy="4572000"/>
            <a:chOff x="826920" y="1197000"/>
            <a:chExt cx="7772400" cy="4572000"/>
          </a:xfrm>
        </p:grpSpPr>
        <p:sp>
          <p:nvSpPr>
            <p:cNvPr id="790" name=""/>
            <p:cNvSpPr/>
            <p:nvPr/>
          </p:nvSpPr>
          <p:spPr>
            <a:xfrm>
              <a:off x="2570040" y="2035440"/>
              <a:ext cx="6019560" cy="3733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826920" y="1197000"/>
              <a:ext cx="7772400" cy="4572000"/>
              <a:chOff x="826920" y="1197000"/>
              <a:chExt cx="7772400" cy="4572000"/>
            </a:xfrm>
          </p:grpSpPr>
          <p:sp>
            <p:nvSpPr>
              <p:cNvPr id="792" name=""/>
              <p:cNvSpPr/>
              <p:nvPr/>
            </p:nvSpPr>
            <p:spPr>
              <a:xfrm>
                <a:off x="826920" y="201312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26920" y="1197000"/>
                <a:ext cx="7772400" cy="45720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26920" y="354996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26920" y="432144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6920" y="506124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6920" y="2743200"/>
                <a:ext cx="777240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8" name=""/>
          <p:cNvSpPr/>
          <p:nvPr/>
        </p:nvSpPr>
        <p:spPr>
          <a:xfrm>
            <a:off x="2590920" y="1197000"/>
            <a:ext cx="0" cy="457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1360" y="1197000"/>
            <a:ext cx="0" cy="457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75240" y="1197000"/>
            <a:ext cx="0" cy="457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99120" y="1197000"/>
            <a:ext cx="0" cy="457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934360" y="1996920"/>
            <a:ext cx="5828760" cy="3821400"/>
            <a:chOff x="2934360" y="1996920"/>
            <a:chExt cx="5828760" cy="3821400"/>
          </a:xfrm>
        </p:grpSpPr>
        <p:grpSp>
          <p:nvGrpSpPr>
            <p:cNvPr id="803" name=""/>
            <p:cNvGrpSpPr/>
            <p:nvPr/>
          </p:nvGrpSpPr>
          <p:grpSpPr>
            <a:xfrm>
              <a:off x="2934360" y="1996920"/>
              <a:ext cx="5828760" cy="3821400"/>
              <a:chOff x="2934360" y="1996920"/>
              <a:chExt cx="5828760" cy="3821400"/>
            </a:xfrm>
          </p:grpSpPr>
          <p:sp>
            <p:nvSpPr>
              <p:cNvPr id="804" name=""/>
              <p:cNvSpPr/>
              <p:nvPr/>
            </p:nvSpPr>
            <p:spPr>
              <a:xfrm>
                <a:off x="5410080" y="3902040"/>
                <a:ext cx="335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66cc"/>
                    </a:solidFill>
                    <a:latin typeface="Arial Black"/>
                  </a:rPr>
                  <a:t>Indicadores clav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10080" y="31399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66cc"/>
                    </a:solidFill>
                    <a:latin typeface="Arial Black"/>
                  </a:rPr>
                  <a:t>Norma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72000" y="1996920"/>
                <a:ext cx="24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66cc"/>
                    </a:solidFill>
                    <a:latin typeface="Arial Black"/>
                  </a:rPr>
                  <a:t>Cart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290760" y="2133720"/>
                <a:ext cx="1204920" cy="407880"/>
              </a:xfrm>
              <a:prstGeom prst="leftArrow">
                <a:avLst>
                  <a:gd name="adj1" fmla="val 50000"/>
                  <a:gd name="adj2" fmla="val 73853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09880" y="3173400"/>
                <a:ext cx="1106640" cy="407880"/>
              </a:xfrm>
              <a:prstGeom prst="leftArrow">
                <a:avLst>
                  <a:gd name="adj1" fmla="val 50000"/>
                  <a:gd name="adj2" fmla="val 6782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 rot="8977800">
                <a:off x="5826960" y="4722840"/>
                <a:ext cx="802080" cy="451080"/>
              </a:xfrm>
              <a:prstGeom prst="leftArrow">
                <a:avLst>
                  <a:gd name="adj1" fmla="val 50000"/>
                  <a:gd name="adj2" fmla="val 44453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00400" y="5410080"/>
                <a:ext cx="990720" cy="408240"/>
              </a:xfrm>
              <a:prstGeom prst="leftArrow">
                <a:avLst>
                  <a:gd name="adj1" fmla="val 50000"/>
                  <a:gd name="adj2" fmla="val 6067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08160" y="3809880"/>
                <a:ext cx="1106640" cy="408240"/>
              </a:xfrm>
              <a:prstGeom prst="leftArrow">
                <a:avLst>
                  <a:gd name="adj1" fmla="val 50000"/>
                  <a:gd name="adj2" fmla="val 6776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79760" y="3782880"/>
                <a:ext cx="1106640" cy="408240"/>
              </a:xfrm>
              <a:prstGeom prst="leftArrow">
                <a:avLst>
                  <a:gd name="adj1" fmla="val 50000"/>
                  <a:gd name="adj2" fmla="val 67769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951800">
                <a:off x="3047760" y="4876560"/>
                <a:ext cx="990360" cy="407880"/>
              </a:xfrm>
              <a:prstGeom prst="leftArrow">
                <a:avLst>
                  <a:gd name="adj1" fmla="val 50000"/>
                  <a:gd name="adj2" fmla="val 60702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951800">
                <a:off x="3749400" y="2636640"/>
                <a:ext cx="1371600" cy="457200"/>
              </a:xfrm>
              <a:prstGeom prst="leftArrow">
                <a:avLst>
                  <a:gd name="adj1" fmla="val 50000"/>
                  <a:gd name="adj2" fmla="val 7500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951800">
                <a:off x="4952520" y="3505320"/>
                <a:ext cx="990720" cy="407880"/>
              </a:xfrm>
              <a:prstGeom prst="leftArrow">
                <a:avLst>
                  <a:gd name="adj1" fmla="val 50000"/>
                  <a:gd name="adj2" fmla="val 60724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 rot="20454600">
                <a:off x="2971440" y="4191120"/>
                <a:ext cx="1371600" cy="457200"/>
              </a:xfrm>
              <a:prstGeom prst="leftArrow">
                <a:avLst>
                  <a:gd name="adj1" fmla="val 50000"/>
                  <a:gd name="adj2" fmla="val 75000"/>
                </a:avLst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3962520" y="51055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66cc"/>
                  </a:solidFill>
                  <a:latin typeface="Arial Black"/>
                </a:rPr>
                <a:t>Notas de orienta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7F49-5E6E-4143-BAAA-5E801BEDCA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Resumen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y justificar el ind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r las actividad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r los niveles de respuesta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r lo que se puede conseguir con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" y="49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ar un lenguaje común para hacer posibl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BBD7-9DDC-4747-9163-CB97049623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Esfera en el seguimiento y evalu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827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9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DBC9-48E4-429C-B860-69F96FBB0C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9640" y="184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y aplicar a un proyecto específico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cadores clave del Manual de Esfera que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or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9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utir y contrastar los elementos clave en 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miento y la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cómo implantar un sistema de seguimient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yecto huma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, adaptar y ‘operacionalizar’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cadores para un proyect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de qué modo las situaciones de emergenc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an y ponen límites en el seguimiento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2B5A-A7E8-45D4-91ED-6B175262D5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studio de caso: M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1B69-91C1-49E7-9C8D-C69CE6D64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Seguimiento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34120" y="411480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Plan, diseño,</a:t>
            </a:r>
            <a:br>
              <a:rPr sz="2400"/>
            </a:b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e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971800" y="1241280"/>
            <a:ext cx="3581280" cy="685800"/>
            <a:chOff x="2971800" y="1241280"/>
            <a:chExt cx="3581280" cy="685800"/>
          </a:xfrm>
        </p:grpSpPr>
        <p:sp>
          <p:nvSpPr>
            <p:cNvPr id="841" name=""/>
            <p:cNvSpPr/>
            <p:nvPr/>
          </p:nvSpPr>
          <p:spPr>
            <a:xfrm>
              <a:off x="4648320" y="1241280"/>
              <a:ext cx="1904760" cy="685800"/>
            </a:xfrm>
            <a:prstGeom prst="rect">
              <a:avLst/>
            </a:prstGeom>
            <a:solidFill>
              <a:srgbClr val="ffff66"/>
            </a:soli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Valoración in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1800" y="137160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846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848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54960" y="121896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 Black"/>
                  </a:rPr>
                  <a:t>Desas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8178800">
            <a:off x="6781680" y="35046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6520" y="5486400"/>
            <a:ext cx="441936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rabajos de inc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040B-3404-4CD4-BCE2-64A3F151813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66800" y="33526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7200" spc="-1" strike="noStrike">
                <a:solidFill>
                  <a:srgbClr val="0066cc"/>
                </a:solidFill>
                <a:latin typeface="Arial"/>
              </a:rPr>
              <a:t>informaci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Un proceso continuo y sistemático de registrar, recoger, medir, analizar y comuni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21B9-A3E3-493B-8A39-953BF91F64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611280" y="1197000"/>
            <a:ext cx="7924320" cy="1447560"/>
            <a:chOff x="611280" y="1197000"/>
            <a:chExt cx="7924320" cy="1447560"/>
          </a:xfrm>
        </p:grpSpPr>
        <p:sp>
          <p:nvSpPr>
            <p:cNvPr id="859" name=""/>
            <p:cNvSpPr/>
            <p:nvPr/>
          </p:nvSpPr>
          <p:spPr>
            <a:xfrm>
              <a:off x="611280" y="1197000"/>
              <a:ext cx="3885840" cy="1447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49760" y="1197000"/>
              <a:ext cx="3885840" cy="1447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inform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755640" y="1219320"/>
            <a:ext cx="7696080" cy="609480"/>
            <a:chOff x="755640" y="1219320"/>
            <a:chExt cx="7696080" cy="609480"/>
          </a:xfrm>
        </p:grpSpPr>
        <p:sp>
          <p:nvSpPr>
            <p:cNvPr id="863" name=""/>
            <p:cNvSpPr/>
            <p:nvPr/>
          </p:nvSpPr>
          <p:spPr>
            <a:xfrm>
              <a:off x="755640" y="1219320"/>
              <a:ext cx="3733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Progreso en la ejecución del proyec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17800" y="1219320"/>
              <a:ext cx="3733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Cambios en el entorno del proyec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85800" y="4419720"/>
            <a:ext cx="7772400" cy="1600200"/>
            <a:chOff x="685800" y="4419720"/>
            <a:chExt cx="7772400" cy="1600200"/>
          </a:xfrm>
        </p:grpSpPr>
        <p:sp>
          <p:nvSpPr>
            <p:cNvPr id="866" name=""/>
            <p:cNvSpPr/>
            <p:nvPr/>
          </p:nvSpPr>
          <p:spPr>
            <a:xfrm>
              <a:off x="838080" y="45720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800" spc="-1" strike="noStrike">
                  <a:solidFill>
                    <a:srgbClr val="0066cc"/>
                  </a:solidFill>
                  <a:latin typeface="Arial"/>
                </a:rPr>
                <a:t>Análisis de la interacción entre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66cc"/>
                  </a:solidFill>
                  <a:latin typeface="Arial"/>
                </a:rPr>
                <a:t>el   </a:t>
              </a:r>
              <a:r>
                <a:rPr b="1" lang="es-ES_tradnl" sz="4800" spc="-1" strike="noStrike">
                  <a:solidFill>
                    <a:srgbClr val="0066cc"/>
                  </a:solidFill>
                  <a:latin typeface="Arial"/>
                </a:rPr>
                <a:t>proyecto   </a:t>
              </a:r>
              <a:r>
                <a:rPr b="1" lang="es-ES_tradnl" sz="2800" spc="-1" strike="noStrike">
                  <a:solidFill>
                    <a:srgbClr val="0066cc"/>
                  </a:solidFill>
                  <a:latin typeface="Arial"/>
                </a:rPr>
                <a:t>y   el     </a:t>
              </a:r>
              <a:r>
                <a:rPr b="1" lang="es-ES_tradnl" sz="4800" spc="-1" strike="noStrike">
                  <a:solidFill>
                    <a:srgbClr val="0066cc"/>
                  </a:solidFill>
                  <a:latin typeface="Arial"/>
                </a:rPr>
                <a:t>entor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5800" y="4419720"/>
              <a:ext cx="7772400" cy="16002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V="1">
            <a:off x="609480" y="2742120"/>
            <a:ext cx="7925040" cy="1600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BA1A-D14B-453F-9CE4-3BC290DE7C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rincipios rectores para el seguimien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66800" y="1523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entra en la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mínima inform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que s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ta para cada nivel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6800" y="2666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luye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todas las formas de comunic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verbal,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escrita, formal, 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6800" y="3809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 uso de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métodos participa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680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a la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obligación de actu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teniendo en cuent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implicaciones estratégicas y operativas de l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ormación recib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0BA7-980B-4B83-A08E-138C728CCD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9640" y="3200400"/>
            <a:ext cx="7848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jor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política (criterios de actuación)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la práctica</a:t>
            </a:r>
            <a:br>
              <a:rPr sz="3200"/>
            </a:b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mentar la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16002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n examen sistemático e imparcial de la acción humanitaria cuyo objetivo es extraer lecciones a fin de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8377-60D8-4B3D-A48D-66D8AE50D9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Diferencia entre seguimiento y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66800" y="297180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y consenso universal sobre lo que deben cubrir los términos “seguimiento”, “revisión” y “evaluación” (…). Lo importante es llegar a un acuerdo sobre los principios y las definiciones básicas con las agenci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dividuos con que se trabaja directamente.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(B. Broughton &amp; J. Hampshire)</a:t>
            </a:r>
            <a:br>
              <a:rPr sz="24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68360" y="1197000"/>
            <a:ext cx="8447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El seguimiento y la evaluación son procesos diferentes, pero se pueden comb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563D-F35A-41B6-9F8A-AFE55AF63F3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“ …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un pequeño conjunto de datos,</a:t>
            </a: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 ... generalmente de fácil recopilación o con buena relación coste-eficacia, que presentan un alto grado de correlación con otros datos y de los cuales se pueden obtener rápidamente conclusiones útiles y fiables.”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Arial Black"/>
              </a:rPr>
              <a:t>(UND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5909-8188-4CC3-91B4-274580A0D1C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peracionalización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105264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ónde se recopilarán los datos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62120" y="162864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 los recopilará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2120" y="2133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do, y con qué frecuencia, será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do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212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rán recopilados y conservados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o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386064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ién analizará los dato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2120" y="450864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rán dados a conoc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2120" y="5181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tomarán las decisiones administrativa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bre la base del informe de seguimient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B49E-6078-4E74-A655-C65D434F252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Lo que dice Esfera sobre seguimiento y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6800" y="17524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rma comú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5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2120" y="281952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rma común 6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64000" y="1844640"/>
            <a:ext cx="30229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0066cc"/>
                </a:solidFill>
                <a:latin typeface="Arial Black"/>
              </a:rPr>
              <a:t>Segu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64000" y="2924280"/>
            <a:ext cx="30434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0066cc"/>
                </a:solidFill>
                <a:latin typeface="Arial Black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5EDC-E42C-48C7-9F24-B80A6E98B8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6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Más allá del ciclo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898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06FB-2DDF-4A1D-8683-044745E308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Temas relacionados con el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800" y="1371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conómicos, sociales, polít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6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ma y ge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6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ganiz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6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lturales, psic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3809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stiones de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45788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s relacionados con los derech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105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mas de la sociedad y capacidades locale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fro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129B-9E89-4C80-A92F-5846F0B6F1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ficar cuáles de estos temas podrían se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ordados utilizando el Manual de Esfer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t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 temas de importancia crítica con qu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nfrenta el sistema huma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D9E7-A69F-43F5-B0B9-80D564AFA2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LNAP 2002 : 10 </a:t>
            </a: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temas relacionados con la act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4360" y="18288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4360" y="30528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icipa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449280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ígena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ro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0" y="12193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dad de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72000" y="182880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ón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0" y="283680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8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socorro al desarrollo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6680" y="35812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9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4327560"/>
            <a:ext cx="441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10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nificación basad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ltad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33B9-097C-407A-9657-AA7FA22770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stáculos que impiden la coordin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enaza a la autono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etición por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sas organiz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formas de medir el éx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DC6-D4BD-485B-B377-571D94EE4C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la rendición de cuentas (la responsabilidad de rendir cuenta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66800" y="1828800"/>
            <a:ext cx="8148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s-ES_tradnl" sz="2800" spc="-1" strike="noStrike">
                <a:solidFill>
                  <a:srgbClr val="ff0000"/>
                </a:solidFill>
                <a:latin typeface="Arial Black"/>
              </a:rPr>
              <a:t>La responsabilidad de demostrar ante las partes implicadas, y en primer lugar ante las personas afectadas por el desastre, que en la prestación de asistencia humanitaria se cumplen las normas acordadas.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fera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6DDB-3BB7-44A2-AEB8-6B022B3092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studio de caso: Rua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52280" y="968400"/>
          <a:ext cx="617220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68400"/>
                    <a:ext cx="617220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C61B-52F9-4548-82C3-18AFAEBA3F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¡</a:t>
            </a: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DESCANSO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91A3-73F3-4822-8C61-D48057A16B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Limitaciones en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2060640"/>
            <a:ext cx="2209680" cy="3581280"/>
            <a:chOff x="152280" y="2060640"/>
            <a:chExt cx="2209680" cy="3581280"/>
          </a:xfrm>
        </p:grpSpPr>
        <p:sp>
          <p:nvSpPr>
            <p:cNvPr id="70" name=""/>
            <p:cNvSpPr/>
            <p:nvPr/>
          </p:nvSpPr>
          <p:spPr>
            <a:xfrm>
              <a:off x="304560" y="3051360"/>
              <a:ext cx="16765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Intentos de obtener y gestionar datos e inform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2060640"/>
              <a:ext cx="2209680" cy="35812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514600" y="1098720"/>
            <a:ext cx="6248520" cy="914400"/>
            <a:chOff x="2514600" y="1098720"/>
            <a:chExt cx="6248520" cy="914400"/>
          </a:xfrm>
        </p:grpSpPr>
        <p:sp>
          <p:nvSpPr>
            <p:cNvPr id="73" name=""/>
            <p:cNvSpPr/>
            <p:nvPr/>
          </p:nvSpPr>
          <p:spPr>
            <a:xfrm>
              <a:off x="2514600" y="109872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1349640"/>
              <a:ext cx="5410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Baja prioridad dada a los sistemas de 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14600" y="5149800"/>
            <a:ext cx="6858000" cy="914400"/>
            <a:chOff x="2514600" y="5149800"/>
            <a:chExt cx="6858000" cy="914400"/>
          </a:xfrm>
        </p:grpSpPr>
        <p:sp>
          <p:nvSpPr>
            <p:cNvPr id="76" name=""/>
            <p:cNvSpPr/>
            <p:nvPr/>
          </p:nvSpPr>
          <p:spPr>
            <a:xfrm>
              <a:off x="2514600" y="514980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5378400"/>
              <a:ext cx="601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Falta de competencias y experi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514600" y="4137120"/>
            <a:ext cx="6858000" cy="914400"/>
            <a:chOff x="2514600" y="4137120"/>
            <a:chExt cx="6858000" cy="914400"/>
          </a:xfrm>
        </p:grpSpPr>
        <p:sp>
          <p:nvSpPr>
            <p:cNvPr id="79" name=""/>
            <p:cNvSpPr/>
            <p:nvPr/>
          </p:nvSpPr>
          <p:spPr>
            <a:xfrm>
              <a:off x="2514600" y="413712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4365720"/>
              <a:ext cx="601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sgo cuantit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14600" y="3124080"/>
            <a:ext cx="6248520" cy="990720"/>
            <a:chOff x="2514600" y="3124080"/>
            <a:chExt cx="6248520" cy="990720"/>
          </a:xfrm>
        </p:grpSpPr>
        <p:sp>
          <p:nvSpPr>
            <p:cNvPr id="82" name=""/>
            <p:cNvSpPr/>
            <p:nvPr/>
          </p:nvSpPr>
          <p:spPr>
            <a:xfrm>
              <a:off x="2514600" y="3124080"/>
              <a:ext cx="6248520" cy="990720"/>
            </a:xfrm>
            <a:prstGeom prst="leftArrow">
              <a:avLst>
                <a:gd name="adj1" fmla="val 50000"/>
                <a:gd name="adj2" fmla="val 15767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301920"/>
              <a:ext cx="53341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Deficiente retroalimentación a los recopiladores de información y a la comun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514600" y="2133720"/>
            <a:ext cx="6248520" cy="914400"/>
            <a:chOff x="2514600" y="2133720"/>
            <a:chExt cx="6248520" cy="914400"/>
          </a:xfrm>
        </p:grpSpPr>
        <p:sp>
          <p:nvSpPr>
            <p:cNvPr id="85" name=""/>
            <p:cNvSpPr/>
            <p:nvPr/>
          </p:nvSpPr>
          <p:spPr>
            <a:xfrm>
              <a:off x="2514600" y="2133720"/>
              <a:ext cx="6248520" cy="914400"/>
            </a:xfrm>
            <a:prstGeom prst="leftArrow">
              <a:avLst>
                <a:gd name="adj1" fmla="val 50000"/>
                <a:gd name="adj2" fmla="val 1708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2384280"/>
              <a:ext cx="3048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Bajo nivel de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3345-C920-441D-9BFB-D5358BA41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El ciclo d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133720"/>
            <a:ext cx="236232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Seguimiento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038480"/>
            <a:ext cx="26668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Plan, diseño,</a:t>
            </a:r>
            <a:br>
              <a:rPr sz="2400"/>
            </a:b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Diseño</a:t>
            </a: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evi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343400"/>
            <a:ext cx="1143000" cy="533520"/>
          </a:xfrm>
          <a:prstGeom prst="lef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35280" y="1197000"/>
            <a:ext cx="3581280" cy="685800"/>
            <a:chOff x="3635280" y="1197000"/>
            <a:chExt cx="3581280" cy="685800"/>
          </a:xfrm>
        </p:grpSpPr>
        <p:sp>
          <p:nvSpPr>
            <p:cNvPr id="92" name=""/>
            <p:cNvSpPr/>
            <p:nvPr/>
          </p:nvSpPr>
          <p:spPr>
            <a:xfrm>
              <a:off x="5311800" y="1197000"/>
              <a:ext cx="1904760" cy="685800"/>
            </a:xfrm>
            <a:prstGeom prst="rect">
              <a:avLst/>
            </a:prstGeom>
            <a:noFill/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000" spc="-1" strike="noStrike">
                  <a:solidFill>
                    <a:srgbClr val="0066cc"/>
                  </a:solidFill>
                  <a:latin typeface="Arial"/>
                </a:rPr>
                <a:t>Valoración in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35280" y="1327320"/>
              <a:ext cx="1600200" cy="304920"/>
            </a:xfrm>
            <a:prstGeom prst="rightArrow">
              <a:avLst>
                <a:gd name="adj1" fmla="val 50000"/>
                <a:gd name="adj2" fmla="val 131198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76520" y="4267080"/>
            <a:ext cx="236196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514600"/>
            <a:ext cx="1981440" cy="76212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066680"/>
            <a:ext cx="3200400" cy="1447560"/>
            <a:chOff x="457200" y="1066680"/>
            <a:chExt cx="3200400" cy="1447560"/>
          </a:xfrm>
        </p:grpSpPr>
        <p:sp>
          <p:nvSpPr>
            <p:cNvPr id="97" name=""/>
            <p:cNvSpPr/>
            <p:nvPr/>
          </p:nvSpPr>
          <p:spPr>
            <a:xfrm>
              <a:off x="609480" y="1752480"/>
              <a:ext cx="762120" cy="761760"/>
            </a:xfrm>
            <a:prstGeom prst="irregularSeal2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7200" y="1066680"/>
              <a:ext cx="3200400" cy="761760"/>
              <a:chOff x="457200" y="1066680"/>
              <a:chExt cx="320040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457200" y="1066680"/>
                <a:ext cx="3200400" cy="761760"/>
              </a:xfrm>
              <a:prstGeom prst="irregularSeal2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54960" y="121896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 Black"/>
                  </a:rPr>
                  <a:t>Desas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 rot="5400000">
            <a:off x="1562040" y="346716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10800000">
            <a:off x="6628320" y="1523880"/>
            <a:ext cx="1143000" cy="914400"/>
          </a:xfrm>
          <a:custGeom>
            <a:avLst/>
            <a:gdLst>
              <a:gd name="textAreaLeft" fmla="*/ 380520 w 1143000"/>
              <a:gd name="textAreaRight" fmla="*/ 97884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8178800">
            <a:off x="6858000" y="342864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114800" y="2438280"/>
            <a:ext cx="2362320" cy="533520"/>
          </a:xfrm>
          <a:prstGeom prst="leftArrow">
            <a:avLst>
              <a:gd name="adj1" fmla="val 50000"/>
              <a:gd name="adj2" fmla="val 1106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5562720"/>
            <a:ext cx="4911840" cy="633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rabajos de incidenci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B474-F773-41F3-A944-DC56559E1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 3</a:t>
            </a:r>
            <a:br>
              <a:rPr sz="44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</a:t>
            </a: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 2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Uso de Esfera en las valoraciones ini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109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60FF-0976-4220-83CA-C23A14FA5D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inir cuál es el lugar que ocupa la valoración inicial en e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clo del proyec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ribir lo que es el sesgo y de qué modo podría influir en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valoración inicia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inir la finalidad de la valoración inicial en la respuesta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umanitaria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ribir de qué forma las normas y las listas de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pueden mejorar la valoración inicial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ribir el rol de los indicadores clave en la valoración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01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nocer que: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- el ciclo del proyecto es iterativ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- la valoración inicial es una primera etapa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6A49-7882-44A6-9ABD-60E5E1DE9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26T09:37:48Z</dcterms:modified>
  <cp:revision>347</cp:revision>
  <dc:subject/>
  <dc:title>No Slide Title</dc:title>
</cp:coreProperties>
</file>