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9D43-95F6-4367-B825-FC1F543FC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F608-AE7B-4DB5-BC31-F971E5E14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1CC9-4CE2-405F-8D18-4507768BF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A8AF-E0FD-438C-94A2-7A4F08FEB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52FF-B67F-4CC0-81B3-5F6D4B0CA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9719-4265-4DC7-8348-F9CBB0FEB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54B2-44B3-4F6A-AE51-838A6AF7F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C0BC-619A-42B0-8BC5-E3A9FB92F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DC86-3421-470A-82AA-520003AF3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3D51-AB33-4151-AD93-FFF232A22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F2FE-969D-4D69-BA01-65268F918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B4ED-464C-43E3-9071-9F5326A20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 Blac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e Projet Sphère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DA99-EBE8-4DDC-91C4-60EDFF6F99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Module de formation</a:t>
            </a: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 4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Sph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ère et la préparation aux catastrop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19920" y="1219320"/>
          <a:ext cx="297180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219320"/>
                    <a:ext cx="2971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19920" y="121932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Garamond"/>
              </a:rPr>
              <a:t>Le Projet Sphè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CE76-99D6-4294-A070-7EF6E0C19A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’est-ce qu’un risqu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0200" y="1676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probabilité d’une catastrop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048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’analyse des risqu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ppose de déterminer la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babilité de la catastrop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1899-DD46-435F-96F9-3E3E0C067E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’est-ce que la capacité 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?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a capacité consiste dans les ressources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qu’ont les personnes, les ménages et les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communautés pour faire face à une menace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ou résister à l’impact d’un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195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Quelles sont les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capacités qui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peuv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être utilisées ou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développées pour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accroître la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capacité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d’adaptation des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personnes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91120" y="2982960"/>
            <a:ext cx="4800600" cy="30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69C7-1A5B-4199-B93A-0123B811FB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’est-ce que la vulnérabilité huma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02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a vulnérabilité humaine est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niveau auquel les personnes sont susceptibles d’êtr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ffectées par des pertes, des dégâts, la souffrance et la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r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n cas de catastroph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le est fonction de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ditions physiques, économiques, sociales, politiques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chniques, idéologiques, culturelles, éducatives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cologiques et institutionne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a vulnérabilité est liée à 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apacité d’un individu ou d’une communauté de fair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ce à des menaces spécifiqu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4461-A258-4E61-B182-817482F65C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Les ingrédients 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?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1676520"/>
            <a:ext cx="2514600" cy="2438280"/>
            <a:chOff x="609480" y="1676520"/>
            <a:chExt cx="2514600" cy="2438280"/>
          </a:xfrm>
        </p:grpSpPr>
        <p:sp>
          <p:nvSpPr>
            <p:cNvPr id="96" name=""/>
            <p:cNvSpPr/>
            <p:nvPr/>
          </p:nvSpPr>
          <p:spPr>
            <a:xfrm>
              <a:off x="609480" y="167652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80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190512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4800" spc="-1" strike="noStrike">
                  <a:solidFill>
                    <a:srgbClr val="ff0000"/>
                  </a:solidFill>
                  <a:latin typeface="Arial Black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0200" y="3352680"/>
              <a:ext cx="21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Dan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1676520"/>
            <a:ext cx="6476760" cy="2438280"/>
            <a:chOff x="2133720" y="1676520"/>
            <a:chExt cx="6476760" cy="2438280"/>
          </a:xfrm>
        </p:grpSpPr>
        <p:sp>
          <p:nvSpPr>
            <p:cNvPr id="100" name=""/>
            <p:cNvSpPr/>
            <p:nvPr/>
          </p:nvSpPr>
          <p:spPr>
            <a:xfrm>
              <a:off x="2438280" y="167652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80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3352680"/>
              <a:ext cx="6476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Vulnérab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 Black"/>
                </a:rPr>
                <a:t>ilit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1280" y="1676520"/>
            <a:ext cx="3962520" cy="2438280"/>
            <a:chOff x="3581280" y="1676520"/>
            <a:chExt cx="3962520" cy="2438280"/>
          </a:xfrm>
        </p:grpSpPr>
        <p:sp>
          <p:nvSpPr>
            <p:cNvPr id="103" name=""/>
            <p:cNvSpPr/>
            <p:nvPr/>
          </p:nvSpPr>
          <p:spPr>
            <a:xfrm>
              <a:off x="3581280" y="175248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6000" spc="-1" strike="noStrike">
                  <a:solidFill>
                    <a:srgbClr val="ff0000"/>
                  </a:solidFill>
                  <a:latin typeface="Arial Black"/>
                </a:rPr>
                <a:t>-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191120" y="1676520"/>
              <a:ext cx="3352680" cy="2438280"/>
              <a:chOff x="4191120" y="1676520"/>
              <a:chExt cx="3352680" cy="2438280"/>
            </a:xfrm>
          </p:grpSpPr>
          <p:sp>
            <p:nvSpPr>
              <p:cNvPr id="105" name=""/>
              <p:cNvSpPr/>
              <p:nvPr/>
            </p:nvSpPr>
            <p:spPr>
              <a:xfrm>
                <a:off x="4191120" y="1676520"/>
                <a:ext cx="13716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fr-CH" sz="8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05520" y="3352680"/>
                <a:ext cx="24382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 Black"/>
                  </a:rPr>
                  <a:t>-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 Black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Black"/>
                  </a:rPr>
                  <a:t>Capacit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 Black"/>
                  </a:rPr>
                  <a:t>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5181480" y="1676520"/>
            <a:ext cx="3581640" cy="2438280"/>
            <a:chOff x="5181480" y="1676520"/>
            <a:chExt cx="3581640" cy="2438280"/>
          </a:xfrm>
        </p:grpSpPr>
        <p:sp>
          <p:nvSpPr>
            <p:cNvPr id="108" name=""/>
            <p:cNvSpPr/>
            <p:nvPr/>
          </p:nvSpPr>
          <p:spPr>
            <a:xfrm>
              <a:off x="5181480" y="190512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48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867280" y="1676520"/>
              <a:ext cx="2895840" cy="2438280"/>
              <a:chOff x="5867280" y="1676520"/>
              <a:chExt cx="2895840" cy="2438280"/>
            </a:xfrm>
          </p:grpSpPr>
          <p:sp>
            <p:nvSpPr>
              <p:cNvPr id="110" name=""/>
              <p:cNvSpPr/>
              <p:nvPr/>
            </p:nvSpPr>
            <p:spPr>
              <a:xfrm>
                <a:off x="5867280" y="1676520"/>
                <a:ext cx="13716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fr-CH" sz="8000" spc="-1" strike="noStrike">
                    <a:solidFill>
                      <a:srgbClr val="000000"/>
                    </a:solidFill>
                    <a:latin typeface="Arial Black"/>
                  </a:rPr>
                  <a:t>R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62920" y="3352680"/>
                <a:ext cx="16002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 Black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 Black"/>
                  </a:rPr>
                  <a:t>Risque</a:t>
                </a:r>
                <a:br>
                  <a:rPr sz="2400"/>
                </a:br>
                <a:r>
                  <a:rPr b="0" lang="fr-CH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9E6A-634F-4F52-815D-4EF40E825E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Dange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ulnérabilité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pacité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Risque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1814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atas</a:t>
            </a: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trophe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Réalisation </a:t>
            </a: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d’un ri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1295280"/>
            <a:ext cx="7772400" cy="4572000"/>
            <a:chOff x="762120" y="1295280"/>
            <a:chExt cx="7772400" cy="4572000"/>
          </a:xfrm>
        </p:grpSpPr>
        <p:sp>
          <p:nvSpPr>
            <p:cNvPr id="115" name=""/>
            <p:cNvSpPr/>
            <p:nvPr/>
          </p:nvSpPr>
          <p:spPr>
            <a:xfrm>
              <a:off x="762120" y="4952880"/>
              <a:ext cx="7772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2120" y="1295280"/>
              <a:ext cx="7772400" cy="4572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09480" y="2362320"/>
            <a:ext cx="7620120" cy="1143000"/>
            <a:chOff x="609480" y="2362320"/>
            <a:chExt cx="7620120" cy="1143000"/>
          </a:xfrm>
        </p:grpSpPr>
        <p:sp>
          <p:nvSpPr>
            <p:cNvPr id="118" name=""/>
            <p:cNvSpPr/>
            <p:nvPr/>
          </p:nvSpPr>
          <p:spPr>
            <a:xfrm>
              <a:off x="609480" y="2362320"/>
              <a:ext cx="2895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Vuln</a:t>
              </a:r>
              <a:r>
                <a:rPr b="0" lang="en-GB" sz="2800" spc="-1" strike="noStrike">
                  <a:solidFill>
                    <a:srgbClr val="3333cc"/>
                  </a:solidFill>
                  <a:latin typeface="Arial Black"/>
                </a:rPr>
                <a:t>é</a:t>
              </a: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rabilité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1120" y="2438280"/>
              <a:ext cx="4038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Exposition et prédisp</a:t>
              </a: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osition à la mort ou la perte de dign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480" y="1371600"/>
            <a:ext cx="7772400" cy="1143000"/>
            <a:chOff x="609480" y="1371600"/>
            <a:chExt cx="7772400" cy="1143000"/>
          </a:xfrm>
        </p:grpSpPr>
        <p:sp>
          <p:nvSpPr>
            <p:cNvPr id="121" name=""/>
            <p:cNvSpPr/>
            <p:nvPr/>
          </p:nvSpPr>
          <p:spPr>
            <a:xfrm>
              <a:off x="4191120" y="1447920"/>
              <a:ext cx="4190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Menace potentielle pesant sur les êtres humains et leur bien-êt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1371600"/>
              <a:ext cx="2895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Danger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x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09480" y="3276720"/>
            <a:ext cx="8077320" cy="1143000"/>
            <a:chOff x="609480" y="3276720"/>
            <a:chExt cx="8077320" cy="1143000"/>
          </a:xfrm>
        </p:grpSpPr>
        <p:sp>
          <p:nvSpPr>
            <p:cNvPr id="124" name=""/>
            <p:cNvSpPr/>
            <p:nvPr/>
          </p:nvSpPr>
          <p:spPr>
            <a:xfrm>
              <a:off x="4191120" y="3429000"/>
              <a:ext cx="4495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Ressources disponibles et potentiel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276720"/>
              <a:ext cx="2895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Capacité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 Black"/>
                </a:rPr>
                <a:t>=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14400" y="4343400"/>
            <a:ext cx="7772400" cy="838080"/>
            <a:chOff x="914400" y="4343400"/>
            <a:chExt cx="7772400" cy="838080"/>
          </a:xfrm>
        </p:grpSpPr>
        <p:sp>
          <p:nvSpPr>
            <p:cNvPr id="127" name=""/>
            <p:cNvSpPr/>
            <p:nvPr/>
          </p:nvSpPr>
          <p:spPr>
            <a:xfrm>
              <a:off x="4191120" y="4419720"/>
              <a:ext cx="44956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babilité d’une catastrop</a:t>
              </a: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4343400"/>
              <a:ext cx="2286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Risque</a:t>
              </a:r>
              <a:br>
                <a:rPr sz="24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542F-CE20-4129-B1C1-957C37CC1F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elle est la différence 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?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réparation aux catastrop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514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ténuation des effets des catastrop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Prévention des catastrop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9276-E64A-424E-B5B4-EC0C2640A3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’est-ce que la préparation aux catastroph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02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Mesures qui assurent la bonne disposition et l’aptitude d’une société 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62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voir les catastrophes et leur impact et prendr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mesures de précaution avant une menac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minente.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29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agir face aux effets d’une catastrophe et y fair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ce en organisant et en fournissant un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ssistance opportune et effic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334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La p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rticipation es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t essentielle à toutes les étapes.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F4BF-CDC7-47E3-B75F-8218C7BE10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Exemples d’activités de pré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6800" y="1295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elopper et mettre à l’épreuve des systèm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’alerte préc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6800" y="2286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esser des plans d’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6800" y="2819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tre en place de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tiques géné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00" y="3809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Élaborer des plan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ératio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6800" y="4724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 procurer de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2400" y="56386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72120" y="3038400"/>
            <a:ext cx="3819600" cy="28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7743-C0DD-4E53-9D0B-03A9FE9F5C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évention, atténuation de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ts et pré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143000"/>
            <a:ext cx="800100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révention des catastrop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743200"/>
            <a:ext cx="2514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tivités conçues pour assurer une protection permanente contre les catastrop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271296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sures prises avant que ne survienne une catastrophe dans le but d’en réduire l’impact sur la société et l’environn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13413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tténuation des effets des catastrop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27432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titude à prévoir, réagir et faire face aux effets d’une catastrop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137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éparation aux </a:t>
            </a: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catastrop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68BA-A0C2-48DE-8642-B11AFBCC98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Prévention et atténuation des effets d’une catastrop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but de la prévention est d’éliminer le risqu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828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ténuation des effets vise à réduire les risque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r être efficaces, la prévention et l’atténuation d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s des catastrophes doivent 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 baser sur les forces de la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pulation et s’attaquer aux causes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a vulnérabilit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419720"/>
            <a:ext cx="441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’autonomisation de la communauté et le droit de participer sont des éléments centraux pour une préparation et une atténuation des effets efficace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3446640"/>
            <a:ext cx="388620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0531-9900-41A2-98AF-93786C45AF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FR" sz="3600" spc="-1" strike="noStrike">
                <a:solidFill>
                  <a:srgbClr val="ccccff"/>
                </a:solidFill>
                <a:latin typeface="Arial"/>
              </a:rPr>
              <a:t>But du module 4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051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Analyser le cadre conceptuel de base relatif à la préparation aux catastrop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1784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Examiner les liens entre ce cadre conceptuel et le manuel de Sph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4052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09A0-6886-4485-AD0F-7581E11CD2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Atténuation des effets 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ent les risques peuvent être réduit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952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Réduction des da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3334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Réduction de la vulnérabilité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8954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élioration du drainag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3526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orcement d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teaux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809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mination d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y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rincipal d’une inf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1337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struction de dispositifs de protection contre les inondations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1668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ion résistante aux sé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8954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udes micro-sismiques pour prédi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les zones vulné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3657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Éloignement des riv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41911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élioration de la santé et de la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952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ccin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2281-B468-4D55-9290-AE46058596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4</a:t>
            </a:r>
            <a:br>
              <a:rPr sz="4400"/>
            </a:br>
            <a:br>
              <a:rPr sz="44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2</a:t>
            </a:r>
            <a:br>
              <a:rPr sz="3600"/>
            </a:br>
            <a:br>
              <a:rPr sz="2800"/>
            </a:b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Étude de cas sur la p</a:t>
            </a:r>
            <a:r>
              <a:rPr b="0" lang="fr-CH" sz="3600" spc="-1" strike="noStrike">
                <a:solidFill>
                  <a:srgbClr val="000000"/>
                </a:solidFill>
                <a:latin typeface="Arial Black"/>
              </a:rPr>
              <a:t>réparation aux catastrophe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019920" y="1219320"/>
          <a:ext cx="297180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219320"/>
                    <a:ext cx="2971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019920" y="121932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Garamond"/>
              </a:rPr>
              <a:t>Le Projet Sphè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8B43-9C2F-4F0A-B78E-95C1B7F025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Objectifs de l’apprenti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1676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éc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ire la façon d’appliquer le manuel de Sphèr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e point de référence pour la planification d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préparation aux catastrop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200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pliquer comment la Charte humanitaire e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ccent qu’elle porte sur la participation revêten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tilité directe pour la préparation aux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tastrop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C59D-EBFD-415C-8FFD-7230CAEBC4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Étude de cas 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m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200" y="1828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Élaborez une initiative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paration au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stroph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895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ez v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itia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à un groupe de bailleu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fonds pour qu’ils la “financen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z le manuel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ant que vous le pouv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94E8-2D52-4F09-B34C-B88A4C78F7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1295280"/>
            <a:ext cx="8686800" cy="1981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La Charte human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5238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L’impératif humanitair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C’est dire que nous sommes convaincus que toutes les mesures poss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es doivent être prises pour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évenir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tténuer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 souffrances humai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505320"/>
            <a:ext cx="8534160" cy="22096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581280"/>
            <a:ext cx="815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“</a:t>
            </a:r>
            <a:r>
              <a:rPr b="0" lang="en-GB" sz="2000" spc="-1" strike="noStrike">
                <a:solidFill>
                  <a:srgbClr val="0066cc"/>
                </a:solidFill>
                <a:latin typeface="Arial Black"/>
              </a:rPr>
              <a:t>Nous estimons que le droit à la vie, pour tout individu, s’accompagne à la fois du droit à ce que des mesures soient prises pour préserver sa vie si elle est menacée et de l’obligation parallèle, pour les autres, de prendre de telles mesures.</a:t>
            </a: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C7EA-D355-46AE-9295-84A417F96F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1219320"/>
            <a:ext cx="8534160" cy="4876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43434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fr-CH" sz="18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fr-CH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3366cc"/>
                </a:solidFill>
                <a:latin typeface="Arial Black"/>
              </a:rPr>
              <a:t>revêt un intérêt direct </a:t>
            </a:r>
            <a:br>
              <a:rPr sz="1800"/>
            </a:br>
            <a:r>
              <a:rPr b="0" lang="en-GB" sz="1800" spc="-1" strike="noStrike">
                <a:solidFill>
                  <a:srgbClr val="3366cc"/>
                </a:solidFill>
                <a:latin typeface="Arial Black"/>
              </a:rPr>
              <a:t> </a:t>
            </a:r>
            <a:r>
              <a:rPr b="0" lang="fr-CH" sz="1800" spc="-1" strike="noStrike">
                <a:solidFill>
                  <a:srgbClr val="3366cc"/>
                </a:solidFill>
                <a:latin typeface="Arial Black"/>
              </a:rPr>
              <a:t>• </a:t>
            </a:r>
            <a:r>
              <a:rPr b="0" lang="fr-CH" sz="1800" spc="-1" strike="noStrike">
                <a:solidFill>
                  <a:srgbClr val="3366cc"/>
                </a:solidFill>
                <a:latin typeface="Arial Black"/>
              </a:rPr>
              <a:t>	</a:t>
            </a:r>
            <a:r>
              <a:rPr b="0" lang="fr-FR" sz="1800" spc="-1" strike="noStrike">
                <a:solidFill>
                  <a:srgbClr val="3366cc"/>
                </a:solidFill>
                <a:latin typeface="Arial Black"/>
              </a:rPr>
              <a:t>sous-tend l’approche de l’atténuation des effets de la catastrophe et de la pré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13716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L</a:t>
            </a:r>
            <a:r>
              <a:rPr b="0" lang="fr-FR" sz="1800" spc="-1" strike="noStrike">
                <a:solidFill>
                  <a:srgbClr val="ff0000"/>
                </a:solidFill>
                <a:latin typeface="Arial Black"/>
              </a:rPr>
              <a:t>es personnes ont le droit de bénéficier de normes min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7339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ff0000"/>
                </a:solidFill>
                <a:latin typeface="Arial Black"/>
              </a:rPr>
              <a:t>Sph</a:t>
            </a:r>
            <a:r>
              <a:rPr b="0" lang="en-GB" sz="3600" spc="-1" strike="noStrike">
                <a:solidFill>
                  <a:srgbClr val="ff0000"/>
                </a:solidFill>
                <a:latin typeface="Arial Black"/>
              </a:rPr>
              <a:t>è</a:t>
            </a:r>
            <a:r>
              <a:rPr b="0" lang="fr-CH" sz="3600" spc="-1" strike="noStrike">
                <a:solidFill>
                  <a:srgbClr val="ff0000"/>
                </a:solidFill>
                <a:latin typeface="Arial Black"/>
              </a:rPr>
              <a:t>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362320"/>
            <a:ext cx="358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L</a:t>
            </a:r>
            <a:r>
              <a:rPr b="0" lang="fr-FR" sz="1800" spc="-1" strike="noStrike">
                <a:solidFill>
                  <a:srgbClr val="ff0000"/>
                </a:solidFill>
                <a:latin typeface="Arial Black"/>
              </a:rPr>
              <a:t>es personnes ont le droit de vivre dans la dign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23623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L</a:t>
            </a:r>
            <a:r>
              <a:rPr b="0" lang="fr-FR" sz="1800" spc="-1" strike="noStrike">
                <a:solidFill>
                  <a:srgbClr val="ff0000"/>
                </a:solidFill>
                <a:latin typeface="Arial Black"/>
              </a:rPr>
              <a:t>es personnes ont le droit d’être soutenues dans leurs propres activités d’atténuation des effets de la catastrophe et de pré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C6F9-E1A9-444D-904D-97EEE4CE64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Pr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éparation </a:t>
            </a: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de base en vue de 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catastrop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62120" y="3276720"/>
            <a:ext cx="8076960" cy="1143000"/>
            <a:chOff x="762120" y="3276720"/>
            <a:chExt cx="8076960" cy="1143000"/>
          </a:xfrm>
        </p:grpSpPr>
        <p:sp>
          <p:nvSpPr>
            <p:cNvPr id="198" name=""/>
            <p:cNvSpPr/>
            <p:nvPr/>
          </p:nvSpPr>
          <p:spPr>
            <a:xfrm>
              <a:off x="4038480" y="3505320"/>
              <a:ext cx="1524240" cy="914400"/>
            </a:xfrm>
            <a:prstGeom prst="flowChartManualOperation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62120" y="3276720"/>
              <a:ext cx="8076960" cy="704880"/>
              <a:chOff x="762120" y="3276720"/>
              <a:chExt cx="8076960" cy="704880"/>
            </a:xfrm>
          </p:grpSpPr>
          <p:sp>
            <p:nvSpPr>
              <p:cNvPr id="200" name=""/>
              <p:cNvSpPr/>
              <p:nvPr/>
            </p:nvSpPr>
            <p:spPr>
              <a:xfrm>
                <a:off x="762120" y="3276720"/>
                <a:ext cx="8076960" cy="6858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752480" y="3295800"/>
                <a:ext cx="632484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Black"/>
                  </a:rPr>
                  <a:t>Buts / points de référence (Sphère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762120" y="5486400"/>
            <a:ext cx="8076960" cy="1143000"/>
            <a:chOff x="762120" y="5486400"/>
            <a:chExt cx="8076960" cy="1143000"/>
          </a:xfrm>
        </p:grpSpPr>
        <p:sp>
          <p:nvSpPr>
            <p:cNvPr id="203" name=""/>
            <p:cNvSpPr/>
            <p:nvPr/>
          </p:nvSpPr>
          <p:spPr>
            <a:xfrm>
              <a:off x="762120" y="5486400"/>
              <a:ext cx="8076960" cy="6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62080" y="5486400"/>
              <a:ext cx="540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 Black"/>
                </a:rPr>
                <a:t>INTERVEN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62120" y="4419720"/>
            <a:ext cx="8076960" cy="1218960"/>
            <a:chOff x="762120" y="4419720"/>
            <a:chExt cx="8076960" cy="1218960"/>
          </a:xfrm>
        </p:grpSpPr>
        <p:sp>
          <p:nvSpPr>
            <p:cNvPr id="206" name=""/>
            <p:cNvSpPr/>
            <p:nvPr/>
          </p:nvSpPr>
          <p:spPr>
            <a:xfrm>
              <a:off x="4114800" y="4724280"/>
              <a:ext cx="1371600" cy="914400"/>
            </a:xfrm>
            <a:prstGeom prst="flowChartManualOperation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62120" y="4419720"/>
              <a:ext cx="8076960" cy="990360"/>
              <a:chOff x="762120" y="4419720"/>
              <a:chExt cx="8076960" cy="990360"/>
            </a:xfrm>
          </p:grpSpPr>
          <p:sp>
            <p:nvSpPr>
              <p:cNvPr id="208" name=""/>
              <p:cNvSpPr/>
              <p:nvPr/>
            </p:nvSpPr>
            <p:spPr>
              <a:xfrm>
                <a:off x="762120" y="4419720"/>
                <a:ext cx="8076960" cy="6858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5280" y="4419720"/>
                <a:ext cx="716292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Black"/>
                  </a:rPr>
                  <a:t>Stratégie organisationnel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2971800" y="175248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48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175248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48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243828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60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14479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Analyse des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44792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Analyse des capac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1447920"/>
            <a:ext cx="2743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Coordination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&amp; partenaria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E7CB-F006-4E54-9480-A206560880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Application de Sphère à la préparation aux catastrop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0200" y="990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une bonne intervention requiert certaines normes, il faut prendre en compte ces normes avant de mettre en œuvre les mesures de préparati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26668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1 </a:t>
            </a: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us d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épar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rticip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on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09480" y="2362320"/>
            <a:ext cx="3886200" cy="1143000"/>
            <a:chOff x="609480" y="2362320"/>
            <a:chExt cx="3886200" cy="1143000"/>
          </a:xfrm>
        </p:grpSpPr>
        <p:sp>
          <p:nvSpPr>
            <p:cNvPr id="220" name=""/>
            <p:cNvSpPr/>
            <p:nvPr/>
          </p:nvSpPr>
          <p:spPr>
            <a:xfrm>
              <a:off x="609480" y="2438280"/>
              <a:ext cx="3200400" cy="106704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85800" y="2362320"/>
              <a:ext cx="3809880" cy="1143000"/>
              <a:chOff x="685800" y="2362320"/>
              <a:chExt cx="3809880" cy="1143000"/>
            </a:xfrm>
          </p:grpSpPr>
          <p:sp>
            <p:nvSpPr>
              <p:cNvPr id="222" name=""/>
              <p:cNvSpPr/>
              <p:nvPr/>
            </p:nvSpPr>
            <p:spPr>
              <a:xfrm>
                <a:off x="685800" y="2438640"/>
                <a:ext cx="32767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 Black"/>
                  </a:rPr>
                  <a:t>Sphère revêt une pertinence directe par rapport au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9880" y="2362320"/>
                <a:ext cx="685800" cy="11430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4648320" y="44197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2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duit de la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éparation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sures concrètes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pa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F822-5650-4A67-8916-770B0E94F2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4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it d’exercices faculta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019920" y="1219320"/>
          <a:ext cx="297180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219320"/>
                    <a:ext cx="2971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019920" y="121932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Garamond"/>
              </a:rPr>
              <a:t>Le Projet Sphè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D903-8DE2-49DC-B381-F78000CD4F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Étude de cas facul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179800"/>
            <a:ext cx="77724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Énumérez trois problèmes importants de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lanification et de coordination qui affectent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’intervention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ites d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andations sur la m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ère d’apporter d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éliorations sur la base de l’expérience antérie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Donnez cinq exemples précis de normes pertinentes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pour aborder ce type de situation à l’aveni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quez des références tirées du manuel.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tez quatre manières d’atténuer ou de réduire la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gravité d’une catastrophe futu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pliquez comment les personnes en situation de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isque peuvent part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ciper à ces initiativ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E4AA-634A-4705-81F8-10852FFFF0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Module de formation </a:t>
            </a: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4</a:t>
            </a:r>
            <a:br>
              <a:rPr sz="4400"/>
            </a:br>
            <a:br>
              <a:rPr sz="44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1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oncepts fondament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19920" y="1219320"/>
          <a:ext cx="297180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219320"/>
                    <a:ext cx="2971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019920" y="121932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Garamond"/>
              </a:rPr>
              <a:t>Le Projet Sphè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C4358-BC5B-4D93-A86B-D9EBF1909B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Préparation en vue de situations d’urgence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219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a préparation en vue de situations d’urgence 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est l’état de préparation d’une société à affronter 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une catastrophe potentielle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8195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outes les mesures 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prises pour que les 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personnes et les 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organisations soient 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prêtes à réagir et à 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répondre à une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situation de 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catastrophe</a:t>
            </a:r>
            <a:r>
              <a:rPr b="0" lang="en-GB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572000" cy="3905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070760" y="5775480"/>
            <a:ext cx="125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 : Chris Bl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1404-83B4-4611-9D02-25F84C0264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Analyse des risques :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 Qui doit y participer 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es étapes d’une bonne analyse des risques supposent que les communautés s’organisent pour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43828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dentifier et mesur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dan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 v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nérabilité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capacit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70760" y="5622840"/>
            <a:ext cx="125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 : Chris Bl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gir ou exiger des actions afin de réduire la vulnérabilité et les da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5845-444E-4A28-A2D0-63AFB08DF6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Un outil simple d’analyse des ris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2880" y="1219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atastroph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B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D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Risque to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Dan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ulnérabilit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t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Histor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+B+C+D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360" y="1879560"/>
            <a:ext cx="203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emblement de terr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écheresse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ituation d’urgence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vil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ondatio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yclon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ête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mpête de neige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éversement chimiqu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ologiqu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rnad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z-de-marée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lée de bou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828800"/>
            <a:ext cx="80769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21700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47644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300996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2767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35305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8098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408924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435600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62276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8895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54100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568944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515628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11430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11430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11430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1430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114300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71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48720" y="18288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4A65-7089-4EDA-BC36-1A7D7BCCAD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Analyse des capacités et de la vulnérabilité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 (AC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Qui peut fournir quoi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0666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 aura besoin de quo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oute communauté à des capacit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3581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’atténuation des effets et la préparation se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asent sur l’analyse des capacités et celle de la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vulnérabilit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nalyse de la vulnérabilité parallèlement à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’analyse des capacit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9320" y="4876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hère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st fondé sur le principe de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reconnaissance des capacités et sur les rôles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ivers des organisations intervena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EC1E-2A9F-46CE-8441-A83161177F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Analyse des capacités et de la vulné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600200"/>
            <a:ext cx="80010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281952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267080"/>
            <a:ext cx="8001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1600200"/>
            <a:ext cx="0" cy="4114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Vulnér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 Black"/>
              </a:rPr>
              <a:t>Capac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1670040"/>
            <a:ext cx="8077320" cy="1225440"/>
            <a:chOff x="838080" y="1670040"/>
            <a:chExt cx="8077320" cy="1225440"/>
          </a:xfrm>
        </p:grpSpPr>
        <p:sp>
          <p:nvSpPr>
            <p:cNvPr id="290" name=""/>
            <p:cNvSpPr/>
            <p:nvPr/>
          </p:nvSpPr>
          <p:spPr>
            <a:xfrm>
              <a:off x="838080" y="16700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cc"/>
                  </a:solidFill>
                  <a:latin typeface="Arial Black"/>
                </a:rPr>
                <a:t>Physiques/ </a:t>
              </a:r>
              <a:r>
                <a:rPr b="0" lang="en-GB" sz="1800" spc="-1" strike="noStrike">
                  <a:solidFill>
                    <a:srgbClr val="0066cc"/>
                  </a:solidFill>
                  <a:latin typeface="Arial Black"/>
                </a:rPr>
                <a:t>m</a:t>
              </a:r>
              <a:r>
                <a:rPr b="0" lang="en-US" sz="1800" spc="-1" strike="noStrike">
                  <a:solidFill>
                    <a:srgbClr val="0066cc"/>
                  </a:solidFill>
                  <a:latin typeface="Arial Black"/>
                </a:rPr>
                <a:t>atérielles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352680" y="1676520"/>
              <a:ext cx="3048120" cy="1218960"/>
              <a:chOff x="3352680" y="1676520"/>
              <a:chExt cx="3048120" cy="1218960"/>
            </a:xfrm>
          </p:grpSpPr>
          <p:sp>
            <p:nvSpPr>
              <p:cNvPr id="292" name=""/>
              <p:cNvSpPr/>
              <p:nvPr/>
            </p:nvSpPr>
            <p:spPr>
              <a:xfrm>
                <a:off x="3352680" y="1676520"/>
                <a:ext cx="3048120" cy="12189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29000" y="1828800"/>
                <a:ext cx="27432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Personnes âgées et enfants – difficultés à se procurer une aide aliment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172200" y="1828800"/>
              <a:ext cx="2743200" cy="914400"/>
              <a:chOff x="6172200" y="1828800"/>
              <a:chExt cx="2743200" cy="914400"/>
            </a:xfrm>
          </p:grpSpPr>
          <p:sp>
            <p:nvSpPr>
              <p:cNvPr id="295" name=""/>
              <p:cNvSpPr/>
              <p:nvPr/>
            </p:nvSpPr>
            <p:spPr>
              <a:xfrm>
                <a:off x="6172200" y="1828800"/>
                <a:ext cx="2743200" cy="9144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00800" y="19051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ourriture et revenus de l’agriculture loc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838080" y="2971800"/>
            <a:ext cx="8001000" cy="1143000"/>
            <a:chOff x="838080" y="2971800"/>
            <a:chExt cx="8001000" cy="1143000"/>
          </a:xfrm>
        </p:grpSpPr>
        <p:sp>
          <p:nvSpPr>
            <p:cNvPr id="298" name=""/>
            <p:cNvSpPr/>
            <p:nvPr/>
          </p:nvSpPr>
          <p:spPr>
            <a:xfrm>
              <a:off x="838080" y="30481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cc"/>
                  </a:solidFill>
                  <a:latin typeface="Arial Black"/>
                </a:rPr>
                <a:t>Sociales/ </a:t>
              </a:r>
              <a:r>
                <a:rPr b="0" lang="en-GB" sz="1800" spc="-1" strike="noStrike">
                  <a:solidFill>
                    <a:srgbClr val="0066cc"/>
                  </a:solidFill>
                  <a:latin typeface="Arial Black"/>
                </a:rPr>
                <a:t>o</a:t>
              </a:r>
              <a:r>
                <a:rPr b="0" lang="en-US" sz="1800" spc="-1" strike="noStrike">
                  <a:solidFill>
                    <a:srgbClr val="0066cc"/>
                  </a:solidFill>
                  <a:latin typeface="Arial Black"/>
                </a:rPr>
                <a:t>rganisationnelles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200400" y="3048120"/>
              <a:ext cx="2895480" cy="1066680"/>
              <a:chOff x="3200400" y="3048120"/>
              <a:chExt cx="2895480" cy="1066680"/>
            </a:xfrm>
          </p:grpSpPr>
          <p:sp>
            <p:nvSpPr>
              <p:cNvPr id="300" name=""/>
              <p:cNvSpPr/>
              <p:nvPr/>
            </p:nvSpPr>
            <p:spPr>
              <a:xfrm>
                <a:off x="3200400" y="3048120"/>
                <a:ext cx="2895480" cy="10666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81280" y="312408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VIH/sida : changement démographique des tranches d’â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867280" y="2971800"/>
              <a:ext cx="2971800" cy="1143000"/>
              <a:chOff x="5867280" y="2971800"/>
              <a:chExt cx="2971800" cy="1143000"/>
            </a:xfrm>
          </p:grpSpPr>
          <p:sp>
            <p:nvSpPr>
              <p:cNvPr id="303" name=""/>
              <p:cNvSpPr/>
              <p:nvPr/>
            </p:nvSpPr>
            <p:spPr>
              <a:xfrm>
                <a:off x="5867280" y="2971800"/>
                <a:ext cx="297180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48520" y="320040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Tradition de soins familiau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838080" y="4419720"/>
            <a:ext cx="7848720" cy="1143000"/>
            <a:chOff x="838080" y="4419720"/>
            <a:chExt cx="7848720" cy="1143000"/>
          </a:xfrm>
        </p:grpSpPr>
        <p:sp>
          <p:nvSpPr>
            <p:cNvPr id="306" name=""/>
            <p:cNvSpPr/>
            <p:nvPr/>
          </p:nvSpPr>
          <p:spPr>
            <a:xfrm>
              <a:off x="838080" y="449892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cc"/>
                  </a:solidFill>
                  <a:latin typeface="Arial Black"/>
                </a:rPr>
                <a:t>Liées à la motivation/aux at</a:t>
              </a:r>
              <a:r>
                <a:rPr b="0" lang="en-GB" sz="1800" spc="-1" strike="noStrike">
                  <a:solidFill>
                    <a:srgbClr val="0066cc"/>
                  </a:solidFill>
                  <a:latin typeface="Arial Black"/>
                </a:rPr>
                <a:t>titu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048120" y="4495680"/>
              <a:ext cx="3200400" cy="1067040"/>
              <a:chOff x="3048120" y="4495680"/>
              <a:chExt cx="3200400" cy="1067040"/>
            </a:xfrm>
          </p:grpSpPr>
          <p:sp>
            <p:nvSpPr>
              <p:cNvPr id="308" name=""/>
              <p:cNvSpPr/>
              <p:nvPr/>
            </p:nvSpPr>
            <p:spPr>
              <a:xfrm>
                <a:off x="3048120" y="4495680"/>
                <a:ext cx="3200400" cy="10670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0532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uil collecti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095880" y="4419720"/>
              <a:ext cx="2590920" cy="1143000"/>
              <a:chOff x="6095880" y="4419720"/>
              <a:chExt cx="2590920" cy="1143000"/>
            </a:xfrm>
          </p:grpSpPr>
          <p:sp>
            <p:nvSpPr>
              <p:cNvPr id="311" name=""/>
              <p:cNvSpPr/>
              <p:nvPr/>
            </p:nvSpPr>
            <p:spPr>
              <a:xfrm>
                <a:off x="6095880" y="4419720"/>
                <a:ext cx="2590920" cy="114300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2200" y="4648320"/>
                <a:ext cx="2286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Engagement à l’édu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E023-24EF-4D91-B249-44BE230D9A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Gestion des catastrop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505320" y="1300320"/>
            <a:ext cx="2133360" cy="704520"/>
            <a:chOff x="3505320" y="1300320"/>
            <a:chExt cx="2133360" cy="704520"/>
          </a:xfrm>
        </p:grpSpPr>
        <p:sp>
          <p:nvSpPr>
            <p:cNvPr id="315" name=""/>
            <p:cNvSpPr/>
            <p:nvPr/>
          </p:nvSpPr>
          <p:spPr>
            <a:xfrm>
              <a:off x="3641760" y="1324080"/>
              <a:ext cx="1905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établis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1300320"/>
              <a:ext cx="2133360" cy="544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403280" y="1916280"/>
            <a:ext cx="1633680" cy="566640"/>
            <a:chOff x="1403280" y="1916280"/>
            <a:chExt cx="1633680" cy="566640"/>
          </a:xfrm>
        </p:grpSpPr>
        <p:sp>
          <p:nvSpPr>
            <p:cNvPr id="318" name=""/>
            <p:cNvSpPr/>
            <p:nvPr/>
          </p:nvSpPr>
          <p:spPr>
            <a:xfrm>
              <a:off x="1660680" y="194940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o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03280" y="1916280"/>
              <a:ext cx="1633680" cy="53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124080" y="2819520"/>
            <a:ext cx="2971800" cy="99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GESTION DES CATASTROP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29400" y="2819520"/>
            <a:ext cx="220968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924360"/>
            <a:ext cx="22100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é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480060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éhabil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5181480"/>
            <a:ext cx="22096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4800600"/>
            <a:ext cx="16761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é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3943440"/>
            <a:ext cx="12189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95280" y="2852640"/>
            <a:ext cx="2309760" cy="684360"/>
            <a:chOff x="395280" y="2852640"/>
            <a:chExt cx="2309760" cy="684360"/>
          </a:xfrm>
        </p:grpSpPr>
        <p:sp>
          <p:nvSpPr>
            <p:cNvPr id="328" name=""/>
            <p:cNvSpPr/>
            <p:nvPr/>
          </p:nvSpPr>
          <p:spPr>
            <a:xfrm>
              <a:off x="395280" y="2852640"/>
              <a:ext cx="2060640" cy="533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1680" y="2855880"/>
              <a:ext cx="21333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répa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084720" y="1773360"/>
            <a:ext cx="2286000" cy="760320"/>
            <a:chOff x="6084720" y="1773360"/>
            <a:chExt cx="2286000" cy="760320"/>
          </a:xfrm>
        </p:grpSpPr>
        <p:sp>
          <p:nvSpPr>
            <p:cNvPr id="331" name=""/>
            <p:cNvSpPr/>
            <p:nvPr/>
          </p:nvSpPr>
          <p:spPr>
            <a:xfrm>
              <a:off x="6084720" y="1773360"/>
              <a:ext cx="22860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pping des risq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1773360"/>
              <a:ext cx="2133720" cy="760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553080" y="5715000"/>
            <a:ext cx="2286000" cy="520200"/>
          </a:xfrm>
          <a:prstGeom prst="rect">
            <a:avLst/>
          </a:prstGeom>
          <a:noFill/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Extrait de : “Reducing Ris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20D2-FED0-4600-9D08-D0780FAE6B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PAUS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D814-7272-47C9-8524-6856764BBF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Objectifs de l’apprenti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765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Identifier les éléments clés des définitions les plus 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fréquente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s d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tastrophe, danger, risque, capacité et vulnérabilité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276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xpliquer la différence ent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éparation aux catastrophes, la prévention des catastrophes e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atténuation des effets des catastrop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8C41-5018-4D6D-81F6-2201E3A45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Suppositions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193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es populations affectées par une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catastrophe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ont le droit 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de recevoir une assistanc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à la catastroph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de déterminer le type d’assistance dont elles o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819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a p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réparation aux catastrophes donne des 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Black"/>
              </a:rPr>
              <a:t>occasions de participa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ion basée sur les dro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809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a préparation constitue une étape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mportante dans le sens de la qualité et de la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redev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94FE-AB47-433C-B95C-D6F45B4657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7080" y="838080"/>
            <a:ext cx="888984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’est-ce qu’une catastrophe 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06080" y="420696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6781680" cy="3967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47242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Discutez des éléments communs figurant dans la plupart des définitions d’une catastroph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81C6-9A42-4E13-9298-624D6C52CC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Les éléments commun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800" y="11430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ffecte les person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6800" y="1828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général déclenchée par un 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6800" y="2514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irectement liée à la vulné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6800" y="3200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passe les capacité d’un ménage, d’une communauté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 d’un groupe de personnes de faire face à la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6800" y="4191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 processus sociaux jouent un rôle impor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960" y="48769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us à voir avec la société qu’avec des phénomèn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atur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B7BB-03F1-48E6-9394-93B4E80F5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Discute</a:t>
            </a: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r et se mettre d’accord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676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D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5146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Ris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3526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Vulnér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1911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Capacit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A633-096D-4186-B85A-F9F479B10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’est-ce qu’un dang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0200" y="1523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 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ger est un événement physique ou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’origine humaine qui peu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tentiellement  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éclencher une catastroph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048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 voici des exemples : tremblements de terre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ulées de boue, éruptions volcaniques, tsunami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écheresse, effondrement de l’économie e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uer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8769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 événements physiques en eux-mêm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’aboutissent pas forcément à une catastrop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teyehe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441F-F531-4691-8BD1-BA7FCF45CD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Foubert</cp:lastModifiedBy>
  <dcterms:modified xsi:type="dcterms:W3CDTF">2005-01-14T18:32:04Z</dcterms:modified>
  <cp:revision>314</cp:revision>
  <dc:subject/>
  <dc:title>No Slide Title</dc:title>
</cp:coreProperties>
</file>