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3399-DDB7-44BE-A430-1443CBEEE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AA66-F078-4F7E-B715-3D0D33445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5EC5-38BF-4D85-AA8D-A8435BBC6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092F-E82B-4A30-93A4-1CC8D927A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6795-4586-436F-9F1D-B10A2B11E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9439-66AC-4EA4-8DA7-67B09BAB3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6A48-EDA8-4C40-B232-F12924869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E5FE-1B75-414B-ABCC-2D74BB342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B560-51E9-42EA-8628-63297F26F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4757-2C47-4C83-B8AE-8384DAADA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9B5D-067E-41A1-B541-39CA1CE2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5175-4F75-4C00-840D-04EED81B6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Proyecto Esfe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9C2-04D8-4D62-8400-2C0B4F74AB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sfera y la preparación para desa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44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5323-3807-4996-B5EC-6F182600CE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un ries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676520"/>
            <a:ext cx="8613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obabilidad o posibilidad de que sobreveng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desa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8120"/>
            <a:ext cx="84567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l análisis de riesg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siste en la determina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a probabilidad de que sobrevenga el desa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1A80-DE85-445F-9AEC-09B575CEE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la capacidad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s capacidades son los recursos 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ersonas individuales, las familias y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omunidades para hacer frente a un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menaza o resistir el impacto de un pelig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24280"/>
            <a:ext cx="4284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¿Qué capac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ueden ser usadas o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sarrolladas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umentar la capacidad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 las personas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frentarse con l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ituación?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91120" y="2982960"/>
            <a:ext cx="4800600" cy="30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953B-4CB8-4A64-97AB-088E91087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la vulnerabilidad hum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19320"/>
            <a:ext cx="86137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vulnerabilidad humana es: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en que las personas son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susceptib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padec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s, daños, sufrimientos y muerte, en una situación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stre. </a:t>
            </a:r>
            <a:br>
              <a:rPr sz="2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924280"/>
            <a:ext cx="84535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Todo esto es función de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físicas, económicas, sociales, política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, ideológicas, culturales, educativas, ecológicas 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tu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80" y="4653000"/>
            <a:ext cx="87440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vulnerabilidad se relaciona con: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pacidad del individuo o la comunidad para hac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ente a amenazas específicas.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5F6-02CF-4C75-9110-FEFC07800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Cuáles son los ingredientes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80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38280" y="200196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809880"/>
            <a:ext cx="219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Black"/>
              </a:rPr>
              <a:t>Peligro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(amena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8920" y="18288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80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0640" y="380988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 Black"/>
              </a:rPr>
              <a:t>Vulnerabi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2057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Arial Black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3480" y="19051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80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80988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 Black"/>
              </a:rPr>
              <a:t>Capa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07324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2520" y="184464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80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62720" y="3809880"/>
            <a:ext cx="17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 Black"/>
              </a:rPr>
              <a:t>Riesgo</a:t>
            </a:r>
            <a:br>
              <a:rPr sz="2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0B61-4E4A-480E-8686-25485BD73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Peligro (</a:t>
            </a:r>
            <a:r>
              <a:rPr b="0" lang="es-ES_tradnl" sz="2800" spc="-1" strike="noStrike">
                <a:solidFill>
                  <a:srgbClr val="00cc99"/>
                </a:solidFill>
                <a:latin typeface="Arial Black"/>
              </a:rPr>
              <a:t>amenaz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Vulnerabilidad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pacidad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Riesgo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Desastre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   Materialización de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   un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5640" y="1371600"/>
            <a:ext cx="7772400" cy="4684320"/>
            <a:chOff x="755640" y="1371600"/>
            <a:chExt cx="7772400" cy="4684320"/>
          </a:xfrm>
        </p:grpSpPr>
        <p:sp>
          <p:nvSpPr>
            <p:cNvPr id="111" name=""/>
            <p:cNvSpPr/>
            <p:nvPr/>
          </p:nvSpPr>
          <p:spPr>
            <a:xfrm>
              <a:off x="755640" y="5119200"/>
              <a:ext cx="777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5640" y="1371600"/>
              <a:ext cx="7772400" cy="468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1280" y="2492280"/>
            <a:ext cx="7619400" cy="1143000"/>
            <a:chOff x="611280" y="2492280"/>
            <a:chExt cx="7619400" cy="1143000"/>
          </a:xfrm>
        </p:grpSpPr>
        <p:sp>
          <p:nvSpPr>
            <p:cNvPr id="114" name=""/>
            <p:cNvSpPr/>
            <p:nvPr/>
          </p:nvSpPr>
          <p:spPr>
            <a:xfrm>
              <a:off x="611280" y="249228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 Black"/>
                </a:rPr>
                <a:t>Vulnerabilidad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r>
                <a:rPr b="0" lang="es-ES_tradnl" sz="2800" spc="-1" strike="noStrike">
                  <a:solidFill>
                    <a:srgbClr val="ff0000"/>
                  </a:solidFill>
                  <a:latin typeface="Arial Black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92560" y="2568240"/>
              <a:ext cx="4038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Arial"/>
                </a:rPr>
                <a:t>Exposición y susceptibilidad a perder la vida o la dignida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9480" y="1371600"/>
            <a:ext cx="7772400" cy="1143000"/>
            <a:chOff x="609480" y="1371600"/>
            <a:chExt cx="7772400" cy="1143000"/>
          </a:xfrm>
        </p:grpSpPr>
        <p:sp>
          <p:nvSpPr>
            <p:cNvPr id="117" name=""/>
            <p:cNvSpPr/>
            <p:nvPr/>
          </p:nvSpPr>
          <p:spPr>
            <a:xfrm>
              <a:off x="4191120" y="1447920"/>
              <a:ext cx="4190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Arial"/>
                </a:rPr>
                <a:t>Amenaza potencial que puede amenazar a seres humanos o su bienesta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137160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Arial Black"/>
                </a:rPr>
                <a:t>Peligro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3333cc"/>
                  </a:solidFill>
                  <a:latin typeface="Arial Black"/>
                </a:rPr>
                <a:t>(amenaza)</a:t>
              </a:r>
              <a:br>
                <a:rPr sz="2800"/>
              </a:br>
              <a:r>
                <a:rPr b="0" lang="es-ES_tradnl" sz="2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09480" y="3276720"/>
            <a:ext cx="8077320" cy="1143000"/>
            <a:chOff x="609480" y="3276720"/>
            <a:chExt cx="8077320" cy="1143000"/>
          </a:xfrm>
        </p:grpSpPr>
        <p:sp>
          <p:nvSpPr>
            <p:cNvPr id="120" name=""/>
            <p:cNvSpPr/>
            <p:nvPr/>
          </p:nvSpPr>
          <p:spPr>
            <a:xfrm>
              <a:off x="4191120" y="3429000"/>
              <a:ext cx="4495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Arial"/>
                </a:rPr>
                <a:t>Recursos disponibles y potenci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327672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Arial Black"/>
                </a:rPr>
                <a:t>Capacidad </a:t>
              </a:r>
              <a:br>
                <a:rPr sz="2800"/>
              </a:br>
              <a:r>
                <a:rPr b="0" lang="es-ES_tradnl" sz="28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14400" y="4343400"/>
            <a:ext cx="7772400" cy="838080"/>
            <a:chOff x="914400" y="4343400"/>
            <a:chExt cx="7772400" cy="838080"/>
          </a:xfrm>
        </p:grpSpPr>
        <p:sp>
          <p:nvSpPr>
            <p:cNvPr id="123" name=""/>
            <p:cNvSpPr/>
            <p:nvPr/>
          </p:nvSpPr>
          <p:spPr>
            <a:xfrm>
              <a:off x="4191120" y="4419720"/>
              <a:ext cx="44956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3333cc"/>
                  </a:solidFill>
                  <a:latin typeface="Arial"/>
                </a:rPr>
                <a:t>Probabilidad de que sobrevenga el desastr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4343400"/>
              <a:ext cx="2286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Arial Black"/>
                </a:rPr>
                <a:t>Riesgo</a:t>
              </a:r>
              <a:br>
                <a:rPr sz="24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4CD2-0C01-4F9F-8C22-C4552D3D99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diferencia hay entre…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eparación para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49228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Mitigación de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357720"/>
            <a:ext cx="5545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evención de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FF7F-B5B4-4922-91F4-90513B25E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la preparación para desast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219320"/>
            <a:ext cx="832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Medidas con las que se asegura el estado de preparación y la capacidad de la sociedad en cuestión par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637000"/>
            <a:ext cx="8096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nosticar y tomar medidas preventivas co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telación a un peligro o amenaza inmi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716280"/>
            <a:ext cx="831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ccionar frente a los efectos del desastre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rontarlos organizando y prestando asistencia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y de modo eficaz.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22936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La participación es esencial en todas las etapa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42AB-AE83-4632-95B3-CBAA9DA505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jemplos de actividades de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12536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ar y someter a pruebas los sistema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rta tempr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06064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planes de evac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2819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blecer polític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riterios de actuaci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78936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r plan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79736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tener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5445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72120" y="2657520"/>
            <a:ext cx="3819600" cy="28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55A6-81B3-411A-8860-89046E393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vención, mitigación y preparación para desa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268280"/>
            <a:ext cx="8145360" cy="489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42920" y="1413000"/>
            <a:ext cx="2514600" cy="1944360"/>
            <a:chOff x="1042920" y="1413000"/>
            <a:chExt cx="2514600" cy="1944360"/>
          </a:xfrm>
        </p:grpSpPr>
        <p:sp>
          <p:nvSpPr>
            <p:cNvPr id="145" name=""/>
            <p:cNvSpPr/>
            <p:nvPr/>
          </p:nvSpPr>
          <p:spPr>
            <a:xfrm>
              <a:off x="1042920" y="1413000"/>
              <a:ext cx="190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0000"/>
                  </a:solidFill>
                  <a:latin typeface="Arial Black"/>
                </a:rPr>
                <a:t>Prevención de desa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2920" y="2547000"/>
              <a:ext cx="25146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Actividades destinadas a proporcionar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200" spc="-1" strike="noStrike">
                  <a:solidFill>
                    <a:srgbClr val="ff0000"/>
                  </a:solidFill>
                  <a:latin typeface="Arial"/>
                </a:rPr>
                <a:t>protección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200" spc="-1" strike="noStrike">
                  <a:solidFill>
                    <a:srgbClr val="ff0000"/>
                  </a:solidFill>
                  <a:latin typeface="Arial"/>
                </a:rPr>
                <a:t>permanente</a:t>
              </a:r>
              <a:br>
                <a:rPr sz="2200"/>
              </a:b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frente a los desastre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08360" y="1341360"/>
            <a:ext cx="2286000" cy="1951200"/>
            <a:chOff x="3708360" y="1341360"/>
            <a:chExt cx="2286000" cy="1951200"/>
          </a:xfrm>
        </p:grpSpPr>
        <p:sp>
          <p:nvSpPr>
            <p:cNvPr id="148" name=""/>
            <p:cNvSpPr/>
            <p:nvPr/>
          </p:nvSpPr>
          <p:spPr>
            <a:xfrm>
              <a:off x="3708360" y="2530440"/>
              <a:ext cx="2286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Medidas tomadas anticipadamente al desastre con el objetivo de </a:t>
              </a:r>
              <a:r>
                <a:rPr b="0" lang="es-ES_tradnl" sz="2200" spc="-1" strike="noStrike">
                  <a:solidFill>
                    <a:srgbClr val="ff0000"/>
                  </a:solidFill>
                  <a:latin typeface="Arial"/>
                </a:rPr>
                <a:t>reducir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 su impacto en la sociedad y en el medio ambient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08360" y="1341360"/>
              <a:ext cx="1905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0000"/>
                  </a:solidFill>
                  <a:latin typeface="Arial Black"/>
                </a:rPr>
                <a:t>Mitigación de desa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0800" y="1371600"/>
            <a:ext cx="2362320" cy="1905120"/>
            <a:chOff x="6400800" y="1371600"/>
            <a:chExt cx="2362320" cy="1905120"/>
          </a:xfrm>
        </p:grpSpPr>
        <p:sp>
          <p:nvSpPr>
            <p:cNvPr id="151" name=""/>
            <p:cNvSpPr/>
            <p:nvPr/>
          </p:nvSpPr>
          <p:spPr>
            <a:xfrm>
              <a:off x="6400800" y="2514600"/>
              <a:ext cx="2362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Capacidad para </a:t>
              </a:r>
              <a:r>
                <a:rPr b="0" lang="es-ES_tradnl" sz="2200" spc="-1" strike="noStrike">
                  <a:solidFill>
                    <a:srgbClr val="ff0000"/>
                  </a:solidFill>
                  <a:latin typeface="Arial"/>
                </a:rPr>
                <a:t>predecir, responder y afrontar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Arial"/>
                </a:rPr>
                <a:t> los efectos de un desastre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1371600"/>
              <a:ext cx="22860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0000"/>
                  </a:solidFill>
                  <a:latin typeface="Arial Black"/>
                </a:rPr>
                <a:t>Preparación para casos de desastres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59A9-D667-4C2D-A97C-41A3C2A334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Prevención y mitigación de desas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la prevención se intenta eliminar el riesg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41300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la mitigación se intenta reducir el riesg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844640"/>
            <a:ext cx="831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la prevención y mitigación apropiadas de desastre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avanza sobre la base de las capacidades y cual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 poseen las personas, y se hace frente a las causas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ulnerabilidad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3716280"/>
            <a:ext cx="47019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El empoderamiento de la comunidad y su derecho a participar son factores de importancia central de la buena preparación y mi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8862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595E-884C-4C7D-A451-24B0FBD65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 del Módulo 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73360"/>
            <a:ext cx="3961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nalizar el marco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onceptual básico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lacionado con l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reparación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s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437000"/>
            <a:ext cx="4483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xplorar cómo s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laciona este marco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onceptual con el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Manual de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4052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08A6-34C6-4773-9DBA-5C23C4C06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Mitigación: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ómo se pueden reducir los riesg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981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Reducción de pelig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0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Reducción de la vulnera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637000"/>
            <a:ext cx="388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lización de mejor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av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429000"/>
            <a:ext cx="3744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zamiento 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deras para impedir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imientos de tierr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deslav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9417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ción de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es focos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4130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 de medid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protección contr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206064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on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tes contra seísm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285264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s microsísmic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redecir zon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uln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386064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lado lejos 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beras de los ríos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46530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roducción de mejor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salud y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410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cun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82B2-502C-4244-853D-24950BC756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4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2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Preparación para desastres 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Estudio de un c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174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C818-EE68-41A3-9701-82A65A035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676520"/>
            <a:ext cx="8397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r cómo aplicar el Manual de Esfer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omo punto de referencia para la planificación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paración para desastr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5000"/>
            <a:ext cx="8453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licar de qué modo la Carta Humanitaria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con su énfasis en la participación, tiene rela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a con la preparación para desastres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3EA8-411E-47FF-9EAE-7C0A811D8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studio de caso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mist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2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r una iniciativa sobre preparación pa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stres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924280"/>
            <a:ext cx="838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r la iniciativa a un grupo de donant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que “financ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esta inici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191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el Manual de Esfera lo más que sea po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7FF6-1AD5-48C6-8874-907B837F7F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La Carta Huma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mperativo Humanitario: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Entendemos por ello la convicción de que se deben tomar todas las medidas posibles para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veni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alivia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sufrimiento humano 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5053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5812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Arial Black"/>
              </a:rPr>
              <a:t>Entendemos que el derecho de una persona a la vida entraña el derecho a que se adopten medidas para preservar la vida toda vez que ésta esté amenazada, así como el correspondiente deber de otras personas de adoptar tales medidas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9506-9C50-47B8-BC12-AFEE6ACC2A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42210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tiene una relación directa con este 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planteamiento</a:t>
            </a:r>
            <a:br>
              <a:rPr sz="2000"/>
            </a:b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sustenta el enfoque de la mitigación y 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preparación para desas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1557360"/>
            <a:ext cx="4276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Las personas tienen derecho a las Normas mí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733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E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362320"/>
            <a:ext cx="3662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Las personas tienen derecho a vivir con dig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2362320"/>
            <a:ext cx="37465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Las personas tienen derecho a recibir apoyo en su propias actividades de mitigación y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A077-E89C-4C91-BAD3-24776FFC80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reparación básica para desast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120" y="3124080"/>
            <a:ext cx="8076960" cy="1295640"/>
            <a:chOff x="762120" y="3124080"/>
            <a:chExt cx="8076960" cy="1295640"/>
          </a:xfrm>
        </p:grpSpPr>
        <p:sp>
          <p:nvSpPr>
            <p:cNvPr id="198" name=""/>
            <p:cNvSpPr/>
            <p:nvPr/>
          </p:nvSpPr>
          <p:spPr>
            <a:xfrm>
              <a:off x="4038480" y="3382920"/>
              <a:ext cx="1524240" cy="10368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62120" y="3124080"/>
              <a:ext cx="8076960" cy="913680"/>
              <a:chOff x="762120" y="3124080"/>
              <a:chExt cx="8076960" cy="913680"/>
            </a:xfrm>
          </p:grpSpPr>
          <p:sp>
            <p:nvSpPr>
              <p:cNvPr id="200" name=""/>
              <p:cNvSpPr/>
              <p:nvPr/>
            </p:nvSpPr>
            <p:spPr>
              <a:xfrm>
                <a:off x="762120" y="3124080"/>
                <a:ext cx="8076960" cy="88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52480" y="3148560"/>
                <a:ext cx="6324840" cy="88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 Black"/>
                  </a:rPr>
                  <a:t>Metas / puntos de referencia (Esfera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762120" y="5599080"/>
            <a:ext cx="8076960" cy="1143000"/>
            <a:chOff x="762120" y="5599080"/>
            <a:chExt cx="8076960" cy="1143000"/>
          </a:xfrm>
        </p:grpSpPr>
        <p:sp>
          <p:nvSpPr>
            <p:cNvPr id="203" name=""/>
            <p:cNvSpPr/>
            <p:nvPr/>
          </p:nvSpPr>
          <p:spPr>
            <a:xfrm>
              <a:off x="762120" y="5599080"/>
              <a:ext cx="8076960" cy="6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62080" y="5599080"/>
              <a:ext cx="540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3200" spc="-1" strike="noStrike">
                  <a:solidFill>
                    <a:srgbClr val="ff0000"/>
                  </a:solidFill>
                  <a:latin typeface="Arial Black"/>
                </a:rPr>
                <a:t>RESPUES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4419720"/>
            <a:ext cx="8076960" cy="1218960"/>
            <a:chOff x="762120" y="4419720"/>
            <a:chExt cx="8076960" cy="1218960"/>
          </a:xfrm>
        </p:grpSpPr>
        <p:sp>
          <p:nvSpPr>
            <p:cNvPr id="206" name=""/>
            <p:cNvSpPr/>
            <p:nvPr/>
          </p:nvSpPr>
          <p:spPr>
            <a:xfrm>
              <a:off x="4114800" y="4724280"/>
              <a:ext cx="1371600" cy="9144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62120" y="4419720"/>
              <a:ext cx="8076960" cy="990360"/>
              <a:chOff x="762120" y="4419720"/>
              <a:chExt cx="8076960" cy="990360"/>
            </a:xfrm>
          </p:grpSpPr>
          <p:sp>
            <p:nvSpPr>
              <p:cNvPr id="208" name=""/>
              <p:cNvSpPr/>
              <p:nvPr/>
            </p:nvSpPr>
            <p:spPr>
              <a:xfrm>
                <a:off x="762120" y="4419720"/>
                <a:ext cx="8076960" cy="6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5280" y="4419720"/>
                <a:ext cx="716292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 Black"/>
                  </a:rPr>
                  <a:t>Estrategia organizativa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3124080" y="16765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16765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23623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1447920"/>
            <a:ext cx="1941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4479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Análisis de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1447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Coordinación y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F583-C6F9-413D-8357-CE4D06919B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plicación de Esfera a la preparación para desa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990720"/>
            <a:ext cx="8326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66cc"/>
                </a:solidFill>
                <a:latin typeface="Arial"/>
              </a:rPr>
              <a:t>i una buena respuesta requiere ciertas normas, se sigue que es necesario que las medidas de preparación tengan en cuenta esas norma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2666880"/>
            <a:ext cx="3957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l proceso de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eparación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articipación y coordinación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11280" y="2349360"/>
            <a:ext cx="3886200" cy="1143000"/>
            <a:chOff x="611280" y="2349360"/>
            <a:chExt cx="3886200" cy="1143000"/>
          </a:xfrm>
        </p:grpSpPr>
        <p:sp>
          <p:nvSpPr>
            <p:cNvPr id="220" name=""/>
            <p:cNvSpPr/>
            <p:nvPr/>
          </p:nvSpPr>
          <p:spPr>
            <a:xfrm>
              <a:off x="611280" y="2425320"/>
              <a:ext cx="3200400" cy="10670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87600" y="2349360"/>
              <a:ext cx="3809880" cy="1143000"/>
              <a:chOff x="687600" y="2349360"/>
              <a:chExt cx="3809880" cy="1143000"/>
            </a:xfrm>
          </p:grpSpPr>
          <p:sp>
            <p:nvSpPr>
              <p:cNvPr id="222" name=""/>
              <p:cNvSpPr/>
              <p:nvPr/>
            </p:nvSpPr>
            <p:spPr>
              <a:xfrm>
                <a:off x="687600" y="2425680"/>
                <a:ext cx="3276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 Black"/>
                  </a:rPr>
                  <a:t>Esfera tiene una relación directa con</a:t>
                </a: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11680" y="2349360"/>
                <a:ext cx="685800" cy="11430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4643280" y="4419720"/>
            <a:ext cx="38149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l producto de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la preparación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edidas concreta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E59D-0A76-42B8-A04E-5B302FDC4F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jercicios op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228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0D6B-F6EE-474E-978D-51887D0A07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00cc99"/>
                </a:solidFill>
                <a:latin typeface="Arial"/>
              </a:rPr>
              <a:t>Estudio de caso op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iensa en tres cuestiones importantes relacionadas con la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lanificación y la coordinación que afectan a la respuest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nciona recomendaciones sobre cómo introducir mejoras co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cto a la experiencia previ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3040" y="1341360"/>
            <a:ext cx="844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numera cinco ejemplos específicos de normas pertinentes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ara afrontar este tipo de situación en el futuro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menciona referencias tomadas del Manual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ta cuatro formas de mitigar o reducir la gravedad de un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osible desastre futur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plica cómo pueden participar en estas iniciativas las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ersonas que se encuentran en peligro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D348-EC51-4260-B2F3-C1FA5D7C3A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4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Concepto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54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7D1E-B029-4044-81F3-D5D660797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reparación para situaciones de emergenci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052640"/>
            <a:ext cx="7997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eparación para las situaciones d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mergencia hace referencia a la rapidez con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que una sociedad puede afrontar un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otencial desastre.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2997360"/>
            <a:ext cx="403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das las accione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ealizadas para qu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s personas y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ganizaciones estén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stas para reaccionar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y responder ante un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ituación d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sastr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572000" cy="390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65640" y="5775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grafí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B0F6-6D1E-4FBF-A3F9-75D16D3469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nálisis de riesgos: ¿quién debe participar?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 un buen análisis de riesgos participan las comunidades organizándose par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2421000"/>
            <a:ext cx="417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dentificar y cuantificar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eligr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vulnerabilidad</a:t>
            </a:r>
            <a:br>
              <a:rPr sz="3200"/>
            </a:b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apaci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8400" y="562284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4221000"/>
            <a:ext cx="5112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man medidas ellas mismas o solicita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acciones con las cuales reducir las vulnerabilidades y los pelig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5220-DED3-43AA-8ADD-50274816DB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Una sencilla herramienta para el análisis de riesg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2880" y="1219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Desastre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     B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  D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Riesgo tota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Peligr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Vulnerabil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abil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Historia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(A+B+C+D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7320" y="187956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rremot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quía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turbios civiles Emergencia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undacion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clon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uracan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rmentas de nieve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rrame químico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rrame biológico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rnad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sunami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viones de lodo/barro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cidentes en el transport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905120"/>
            <a:ext cx="80769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20176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43036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8954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14496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368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0384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43117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73400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96080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568944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1562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35240" y="11430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11430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1430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11430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11430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186048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8604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18604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18604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186048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5812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0A81-C905-4DDA-BDE5-3485894396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nálisis de Capacidades y Vulnerabilidades (AC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644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¿Quién lo podrá facilitar?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720" y="12985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¿Quién necesitará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076560"/>
            <a:ext cx="8569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odas las comunidades poseen capac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720" y="3652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mitigación y la preparación se desarrollan 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artir de la base de amb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220840"/>
            <a:ext cx="8748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 análisis de las vulnerabilidades se equilibr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or medio del 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nálisis 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capacidad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5180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sfera se basa en el principio de reconocer l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apacidad y los diferentes roles 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organizaciones que intervienen en la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7114-8339-4C95-9C22-5E3AFA6903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nálisis de Capacidades y Vulnerabilidades (AC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600200"/>
            <a:ext cx="80010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81952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26708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Vulner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Arial Black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1670040"/>
            <a:ext cx="8077320" cy="1225440"/>
            <a:chOff x="838080" y="1670040"/>
            <a:chExt cx="8077320" cy="1225440"/>
          </a:xfrm>
        </p:grpSpPr>
        <p:sp>
          <p:nvSpPr>
            <p:cNvPr id="290" name=""/>
            <p:cNvSpPr/>
            <p:nvPr/>
          </p:nvSpPr>
          <p:spPr>
            <a:xfrm>
              <a:off x="3352680" y="1676520"/>
              <a:ext cx="3048120" cy="121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838080" y="1670040"/>
              <a:ext cx="8077320" cy="1073160"/>
              <a:chOff x="838080" y="1670040"/>
              <a:chExt cx="8077320" cy="1073160"/>
            </a:xfrm>
          </p:grpSpPr>
          <p:sp>
            <p:nvSpPr>
              <p:cNvPr id="292" name=""/>
              <p:cNvSpPr/>
              <p:nvPr/>
            </p:nvSpPr>
            <p:spPr>
              <a:xfrm>
                <a:off x="838080" y="1670040"/>
                <a:ext cx="160020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cc"/>
                    </a:solidFill>
                    <a:latin typeface="Arial Black"/>
                  </a:rPr>
                  <a:t>Físicas / materiales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29000" y="1752480"/>
                <a:ext cx="27432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ifícil para personas ancianas, y para niños y niñas, obtener ayuda alimenta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6172200" y="1828800"/>
                <a:ext cx="2743200" cy="914400"/>
                <a:chOff x="6172200" y="1828800"/>
                <a:chExt cx="2743200" cy="914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172200" y="1828800"/>
                  <a:ext cx="2743200" cy="914400"/>
                </a:xfrm>
                <a:prstGeom prst="ellipse">
                  <a:avLst/>
                </a:prstGeom>
                <a:noFill/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400800" y="1905120"/>
                  <a:ext cx="22860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96920"/>
                      <a:tab algn="l" pos="393840"/>
                      <a:tab algn="l" pos="590400"/>
                      <a:tab algn="l" pos="787320"/>
                      <a:tab algn="l" pos="984240"/>
                      <a:tab algn="l" pos="1181160"/>
                      <a:tab algn="l" pos="1378080"/>
                      <a:tab algn="l" pos="1574640"/>
                      <a:tab algn="l" pos="1771560"/>
                      <a:tab algn="l" pos="1968480"/>
                      <a:tab algn="l" pos="2165400"/>
                      <a:tab algn="l" pos="2362320"/>
                      <a:tab algn="l" pos="2558880"/>
                      <a:tab algn="l" pos="2755800"/>
                      <a:tab algn="l" pos="2952720"/>
                      <a:tab algn="l" pos="3149640"/>
                      <a:tab algn="l" pos="3346560"/>
                      <a:tab algn="l" pos="3543480"/>
                      <a:tab algn="l" pos="3740040"/>
                      <a:tab algn="l" pos="393696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limentos e ingresos procedentes de agricultores loc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7" name=""/>
          <p:cNvGrpSpPr/>
          <p:nvPr/>
        </p:nvGrpSpPr>
        <p:grpSpPr>
          <a:xfrm>
            <a:off x="838080" y="2997360"/>
            <a:ext cx="8001000" cy="1143000"/>
            <a:chOff x="838080" y="2997360"/>
            <a:chExt cx="8001000" cy="1143000"/>
          </a:xfrm>
        </p:grpSpPr>
        <p:grpSp>
          <p:nvGrpSpPr>
            <p:cNvPr id="298" name=""/>
            <p:cNvGrpSpPr/>
            <p:nvPr/>
          </p:nvGrpSpPr>
          <p:grpSpPr>
            <a:xfrm>
              <a:off x="838080" y="3048120"/>
              <a:ext cx="5257800" cy="1066680"/>
              <a:chOff x="838080" y="3048120"/>
              <a:chExt cx="5257800" cy="1066680"/>
            </a:xfrm>
          </p:grpSpPr>
          <p:sp>
            <p:nvSpPr>
              <p:cNvPr id="299" name=""/>
              <p:cNvSpPr/>
              <p:nvPr/>
            </p:nvSpPr>
            <p:spPr>
              <a:xfrm>
                <a:off x="838080" y="3048120"/>
                <a:ext cx="274320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cc"/>
                    </a:solidFill>
                    <a:latin typeface="Arial Black"/>
                  </a:rPr>
                  <a:t>Sociales / organizativas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3200400" y="3048120"/>
                <a:ext cx="2895480" cy="1066680"/>
                <a:chOff x="3200400" y="3048120"/>
                <a:chExt cx="2895480" cy="1066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200400" y="3048120"/>
                  <a:ext cx="2895480" cy="10666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581280" y="3124080"/>
                  <a:ext cx="22860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96920"/>
                      <a:tab algn="l" pos="393840"/>
                      <a:tab algn="l" pos="590400"/>
                      <a:tab algn="l" pos="787320"/>
                      <a:tab algn="l" pos="984240"/>
                      <a:tab algn="l" pos="1181160"/>
                      <a:tab algn="l" pos="1378080"/>
                      <a:tab algn="l" pos="1574640"/>
                      <a:tab algn="l" pos="1771560"/>
                      <a:tab algn="l" pos="1968480"/>
                      <a:tab algn="l" pos="2165400"/>
                      <a:tab algn="l" pos="2362320"/>
                      <a:tab algn="l" pos="2558880"/>
                      <a:tab algn="l" pos="2755800"/>
                      <a:tab algn="l" pos="2952720"/>
                      <a:tab algn="l" pos="3149640"/>
                      <a:tab algn="l" pos="3346560"/>
                      <a:tab algn="l" pos="3543480"/>
                      <a:tab algn="l" pos="3740040"/>
                      <a:tab algn="l" pos="393696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VIH/sida: cambios en la distribución demográfica por eda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5867280" y="2997360"/>
              <a:ext cx="2971800" cy="1143000"/>
              <a:chOff x="5867280" y="2997360"/>
              <a:chExt cx="2971800" cy="1143000"/>
            </a:xfrm>
          </p:grpSpPr>
          <p:sp>
            <p:nvSpPr>
              <p:cNvPr id="304" name=""/>
              <p:cNvSpPr/>
              <p:nvPr/>
            </p:nvSpPr>
            <p:spPr>
              <a:xfrm>
                <a:off x="5867280" y="2997360"/>
                <a:ext cx="297180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48520" y="322596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Tradición de cuidados familia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838080" y="4419720"/>
            <a:ext cx="7848720" cy="1143000"/>
            <a:chOff x="838080" y="4419720"/>
            <a:chExt cx="7848720" cy="1143000"/>
          </a:xfrm>
        </p:grpSpPr>
        <p:sp>
          <p:nvSpPr>
            <p:cNvPr id="307" name=""/>
            <p:cNvSpPr/>
            <p:nvPr/>
          </p:nvSpPr>
          <p:spPr>
            <a:xfrm>
              <a:off x="838080" y="4498920"/>
              <a:ext cx="22860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66cc"/>
                  </a:solidFill>
                  <a:latin typeface="Arial Black"/>
                </a:rPr>
                <a:t>Motivacionales / atitudinales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48120" y="4495680"/>
              <a:ext cx="3200400" cy="1067040"/>
              <a:chOff x="3048120" y="4495680"/>
              <a:chExt cx="3200400" cy="1067040"/>
            </a:xfrm>
          </p:grpSpPr>
          <p:sp>
            <p:nvSpPr>
              <p:cNvPr id="309" name=""/>
              <p:cNvSpPr/>
              <p:nvPr/>
            </p:nvSpPr>
            <p:spPr>
              <a:xfrm>
                <a:off x="3048120" y="4495680"/>
                <a:ext cx="32004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0532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Sentimiento colectivo de due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095880" y="4419720"/>
              <a:ext cx="2590920" cy="1143000"/>
              <a:chOff x="6095880" y="4419720"/>
              <a:chExt cx="2590920" cy="114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095880" y="4419720"/>
                <a:ext cx="259092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220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Compromiso con la educ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30A7-153F-4D1D-BCA2-B317054926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Gestión de desa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05320" y="1300320"/>
            <a:ext cx="2286000" cy="680760"/>
            <a:chOff x="3505320" y="1300320"/>
            <a:chExt cx="2286000" cy="680760"/>
          </a:xfrm>
        </p:grpSpPr>
        <p:sp>
          <p:nvSpPr>
            <p:cNvPr id="316" name=""/>
            <p:cNvSpPr/>
            <p:nvPr/>
          </p:nvSpPr>
          <p:spPr>
            <a:xfrm>
              <a:off x="3886560" y="1300320"/>
              <a:ext cx="19047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1300320"/>
              <a:ext cx="2133720" cy="54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371600" y="1905120"/>
            <a:ext cx="1752480" cy="533160"/>
            <a:chOff x="1371600" y="1905120"/>
            <a:chExt cx="1752480" cy="533160"/>
          </a:xfrm>
        </p:grpSpPr>
        <p:sp>
          <p:nvSpPr>
            <p:cNvPr id="319" name=""/>
            <p:cNvSpPr/>
            <p:nvPr/>
          </p:nvSpPr>
          <p:spPr>
            <a:xfrm>
              <a:off x="1752480" y="19051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soco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71600" y="1905120"/>
              <a:ext cx="163368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24080" y="2819520"/>
            <a:ext cx="29718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GESTIÓN DE DESA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29400" y="2819520"/>
            <a:ext cx="22096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3924360"/>
            <a:ext cx="22100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80060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habil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5181480"/>
            <a:ext cx="22096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4800600"/>
            <a:ext cx="16761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3573360"/>
            <a:ext cx="2448000" cy="922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álisis de Capacidades y Vulnerabilidades (AC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0880" y="2824200"/>
            <a:ext cx="2133720" cy="680760"/>
            <a:chOff x="380880" y="2824200"/>
            <a:chExt cx="2133720" cy="680760"/>
          </a:xfrm>
        </p:grpSpPr>
        <p:sp>
          <p:nvSpPr>
            <p:cNvPr id="329" name=""/>
            <p:cNvSpPr/>
            <p:nvPr/>
          </p:nvSpPr>
          <p:spPr>
            <a:xfrm>
              <a:off x="380880" y="2824200"/>
              <a:ext cx="205992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2824200"/>
              <a:ext cx="21337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repa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56360" y="1989000"/>
            <a:ext cx="2453760" cy="544320"/>
            <a:chOff x="6156360" y="1989000"/>
            <a:chExt cx="2453760" cy="544320"/>
          </a:xfrm>
        </p:grpSpPr>
        <p:sp>
          <p:nvSpPr>
            <p:cNvPr id="332" name=""/>
            <p:cNvSpPr/>
            <p:nvPr/>
          </p:nvSpPr>
          <p:spPr>
            <a:xfrm>
              <a:off x="6235560" y="1989000"/>
              <a:ext cx="237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apeo de riesg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6360" y="1989000"/>
              <a:ext cx="2216520" cy="54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788000" y="5877000"/>
            <a:ext cx="4051080" cy="307080"/>
          </a:xfrm>
          <a:prstGeom prst="rect">
            <a:avLst/>
          </a:prstGeom>
          <a:noFill/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cc"/>
                </a:solidFill>
                <a:latin typeface="Arial"/>
              </a:rPr>
              <a:t>Tomado de</a:t>
            </a: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: “Reducing risk” (</a:t>
            </a:r>
            <a:r>
              <a:rPr b="0" lang="es-ES_tradnl" sz="1400" spc="-1" strike="noStrike">
                <a:solidFill>
                  <a:srgbClr val="0066cc"/>
                </a:solidFill>
                <a:latin typeface="Arial"/>
              </a:rPr>
              <a:t>Reducir el riesgo</a:t>
            </a:r>
            <a:r>
              <a:rPr b="0" lang="en-GB" sz="14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2A9D-FFF7-4D6B-A4CB-7950C9A00E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¡DESCAN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0D5F-6B6D-487B-A416-FCC894F638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Identificar los elementos clave</a:t>
            </a:r>
            <a:r>
              <a:rPr b="0" lang="en-GB" sz="2400" spc="-1" strike="noStrike">
                <a:solidFill>
                  <a:srgbClr val="00cc99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 l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finiciones más comúnmente usadas d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desastre, peligro, riesgo, capacidad y vulnerabilida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276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xplicar la diferencia entr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preparación para desastres, prevención de desastre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y mitigación de desastr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238A-E9A3-436C-9EC3-ABE9E5920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Supuestos adoptados</a:t>
            </a: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36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(planteamientos inic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97000"/>
            <a:ext cx="8137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s poblaciones afectadas por los desastre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ienen derecho a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recibir asistencia en casos de desastr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determinar el tipo de asistencia que neces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819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eparación para desastres ofrec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oportunidades de participación basada en lo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rech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4370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eparación es un paso importante hacia l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buena calidad y la rendición de cuentas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(responsabilidad) en la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4F6E-FFB1-40B1-9E2D-FB54398B6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90200" cy="533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un desas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05720" y="4206960"/>
            <a:ext cx="9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grafí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6781680" cy="396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4724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Discutir los elementos comunes incluidos en la mayoría de las definiciones de lo que es un  desastr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E96A-5D72-443C-9970-2CD5C09B4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ementos comunes de los desast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05264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ectan a perso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2864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elen ser desencadenados por un peli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5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n directamente relacionados con l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ulner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3068640"/>
            <a:ext cx="845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den la capacidad de las familias, l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dad o el grupo de personas para afronta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it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365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rocesos sociales desempeñan u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te pa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22936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desastres tienen más que ver con l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ciedad que con fenómen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A675-C6C1-4CAD-9A37-ACF5901816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Discutir y ponerse de acuerdo sobre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eli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146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526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Vulner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Capa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6271-47F0-4191-9F96-59011B63F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un peligro (o amenaz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052640"/>
            <a:ext cx="8353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peligro es un acontecimiento físico natural 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usado por la acción humana que pue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desencadenar un desastre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5304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ejemplos se pueden citar: terremotos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uviones de lodo, inundaciones, erup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olcánicas, tsunamis (maremotos), sequías, el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rrumbamiento de la economía y la guerr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4483080"/>
            <a:ext cx="860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os acontecimientos naturales en sí mismos n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por qué resultar necesariamente en u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str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A52C-98EB-4BC2-8424-2A77D4684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26T09:39:35Z</dcterms:modified>
  <cp:revision>302</cp:revision>
  <dc:subject/>
  <dc:title>No Slide Title</dc:title>
</cp:coreProperties>
</file>