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CC45-BFFD-490E-AF7E-D5B662263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2B5F-9A21-4A45-96FA-46CC5804D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33DE-9996-44D3-BB02-462D4C4D7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5040-6A60-42A5-9805-60FAD0CCD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7D31-3125-4CD7-AD10-3B51F1840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A622-CFAC-48DA-9BD4-E96CD4F02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20B2-D1D3-4EDB-AF47-35CD78A82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3ABC-A132-4477-B082-6D3AC2FBF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1F6A-C457-44EF-ABD3-6554A66F8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9314-D00E-4AC2-8315-0EB4D059E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71EA-F721-462D-A0E2-44B72A5E3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29DE-5950-4A7B-B7CD-F5134CD29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here 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B70-9E24-495A-B298-53AA33A880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Training Module 4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Sphere and Disaster Prepare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7A2F-E561-43F5-B01B-16C5587E95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is ris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0200" y="1676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/likelihood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isaster happening.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048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determin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probability of the disaster 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4316-2798-4550-ADFD-38C4ABFB88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What is capacity?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apacity is the resources of individuals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 households and communities to cop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 a threat or resist the impact of a haz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195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hat capaciti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 can be used 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 developed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 increase people’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 capacity to cope?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91120" y="2982960"/>
            <a:ext cx="4800600" cy="30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508F-69A8-474F-8739-49A38516EE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is human vulnerabi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02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man vulnerability i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to which peopl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lo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damage, suffering and death, in the event of a disaster. </a:t>
            </a:r>
            <a:br>
              <a:rPr sz="24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66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 is a function 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, economic, social, political, technica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ideological, cultural, educational, ecological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institutional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419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Vulnerability relates to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dividual's or community's capacity to cop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specific threats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EA98-0E0C-4237-A44D-699878B212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The ingredients?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9480" y="1676520"/>
            <a:ext cx="2514600" cy="2438280"/>
            <a:chOff x="609480" y="1676520"/>
            <a:chExt cx="2514600" cy="2438280"/>
          </a:xfrm>
        </p:grpSpPr>
        <p:sp>
          <p:nvSpPr>
            <p:cNvPr id="90" name=""/>
            <p:cNvSpPr/>
            <p:nvPr/>
          </p:nvSpPr>
          <p:spPr>
            <a:xfrm>
              <a:off x="609480" y="16765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8000" spc="-1" strike="noStrike">
                  <a:solidFill>
                    <a:srgbClr val="000000"/>
                  </a:solidFill>
                  <a:latin typeface="Arial Black"/>
                </a:rPr>
                <a:t>H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19051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48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0200" y="3352680"/>
              <a:ext cx="21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Hazar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133720" y="1676520"/>
            <a:ext cx="6476760" cy="2438280"/>
            <a:chOff x="2133720" y="1676520"/>
            <a:chExt cx="6476760" cy="2438280"/>
          </a:xfrm>
        </p:grpSpPr>
        <p:sp>
          <p:nvSpPr>
            <p:cNvPr id="94" name=""/>
            <p:cNvSpPr/>
            <p:nvPr/>
          </p:nvSpPr>
          <p:spPr>
            <a:xfrm>
              <a:off x="2438280" y="16765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80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3352680"/>
              <a:ext cx="6476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Vulner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81280" y="1676520"/>
            <a:ext cx="3962520" cy="2438280"/>
            <a:chOff x="3581280" y="1676520"/>
            <a:chExt cx="3962520" cy="2438280"/>
          </a:xfrm>
        </p:grpSpPr>
        <p:sp>
          <p:nvSpPr>
            <p:cNvPr id="97" name=""/>
            <p:cNvSpPr/>
            <p:nvPr/>
          </p:nvSpPr>
          <p:spPr>
            <a:xfrm>
              <a:off x="3581280" y="175248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6000" spc="-1" strike="noStrike">
                  <a:solidFill>
                    <a:srgbClr val="ff0000"/>
                  </a:solidFill>
                  <a:latin typeface="Arial Black"/>
                </a:rPr>
                <a:t>-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191120" y="1676520"/>
              <a:ext cx="3352680" cy="2438280"/>
              <a:chOff x="4191120" y="1676520"/>
              <a:chExt cx="3352680" cy="2438280"/>
            </a:xfrm>
          </p:grpSpPr>
          <p:sp>
            <p:nvSpPr>
              <p:cNvPr id="99" name=""/>
              <p:cNvSpPr/>
              <p:nvPr/>
            </p:nvSpPr>
            <p:spPr>
              <a:xfrm>
                <a:off x="4191120" y="1676520"/>
                <a:ext cx="13716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fr-CH" sz="8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05520" y="3352680"/>
                <a:ext cx="24382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-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 Black"/>
                  </a:rPr>
                  <a:t> Capacit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5181480" y="1676520"/>
            <a:ext cx="3581640" cy="2438280"/>
            <a:chOff x="5181480" y="1676520"/>
            <a:chExt cx="3581640" cy="2438280"/>
          </a:xfrm>
        </p:grpSpPr>
        <p:sp>
          <p:nvSpPr>
            <p:cNvPr id="102" name=""/>
            <p:cNvSpPr/>
            <p:nvPr/>
          </p:nvSpPr>
          <p:spPr>
            <a:xfrm>
              <a:off x="5181480" y="19051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48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867280" y="1676520"/>
              <a:ext cx="2895840" cy="2438280"/>
              <a:chOff x="5867280" y="1676520"/>
              <a:chExt cx="2895840" cy="2438280"/>
            </a:xfrm>
          </p:grpSpPr>
          <p:sp>
            <p:nvSpPr>
              <p:cNvPr id="104" name=""/>
              <p:cNvSpPr/>
              <p:nvPr/>
            </p:nvSpPr>
            <p:spPr>
              <a:xfrm>
                <a:off x="5867280" y="1676520"/>
                <a:ext cx="13716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fr-CH" sz="8000" spc="-1" strike="noStrike">
                    <a:solidFill>
                      <a:srgbClr val="000000"/>
                    </a:solidFill>
                    <a:latin typeface="Arial Black"/>
                  </a:rPr>
                  <a:t>R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62920" y="3352680"/>
                <a:ext cx="16002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 Black"/>
                  </a:rPr>
                  <a:t> Risk</a:t>
                </a:r>
                <a:br>
                  <a:rPr sz="2400"/>
                </a:br>
                <a:r>
                  <a:rPr b="0" lang="fr-CH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9D81-2F3C-41A9-921F-D0077A5762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zard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ulnerability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pacity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Risk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1814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Disaster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  Realisation of a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2120" y="1295280"/>
            <a:ext cx="7772400" cy="4572000"/>
            <a:chOff x="762120" y="1295280"/>
            <a:chExt cx="7772400" cy="4572000"/>
          </a:xfrm>
        </p:grpSpPr>
        <p:sp>
          <p:nvSpPr>
            <p:cNvPr id="109" name=""/>
            <p:cNvSpPr/>
            <p:nvPr/>
          </p:nvSpPr>
          <p:spPr>
            <a:xfrm>
              <a:off x="762120" y="4952880"/>
              <a:ext cx="7772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1295280"/>
              <a:ext cx="7772400" cy="4572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09480" y="2362320"/>
            <a:ext cx="7620120" cy="1143000"/>
            <a:chOff x="609480" y="2362320"/>
            <a:chExt cx="7620120" cy="1143000"/>
          </a:xfrm>
        </p:grpSpPr>
        <p:sp>
          <p:nvSpPr>
            <p:cNvPr id="112" name=""/>
            <p:cNvSpPr/>
            <p:nvPr/>
          </p:nvSpPr>
          <p:spPr>
            <a:xfrm>
              <a:off x="609480" y="236232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Vulnerability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2438280"/>
              <a:ext cx="4038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Exposure and susceptibility to loss of life or dign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9480" y="1371600"/>
            <a:ext cx="7772400" cy="1143000"/>
            <a:chOff x="609480" y="1371600"/>
            <a:chExt cx="7772400" cy="1143000"/>
          </a:xfrm>
        </p:grpSpPr>
        <p:sp>
          <p:nvSpPr>
            <p:cNvPr id="115" name=""/>
            <p:cNvSpPr/>
            <p:nvPr/>
          </p:nvSpPr>
          <p:spPr>
            <a:xfrm>
              <a:off x="4191120" y="1447920"/>
              <a:ext cx="4190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Potential threat to humans and their welfa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137160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Hazard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09480" y="3276720"/>
            <a:ext cx="8077320" cy="1143000"/>
            <a:chOff x="609480" y="3276720"/>
            <a:chExt cx="8077320" cy="1143000"/>
          </a:xfrm>
        </p:grpSpPr>
        <p:sp>
          <p:nvSpPr>
            <p:cNvPr id="118" name=""/>
            <p:cNvSpPr/>
            <p:nvPr/>
          </p:nvSpPr>
          <p:spPr>
            <a:xfrm>
              <a:off x="4191120" y="3429000"/>
              <a:ext cx="4495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Available and potential resour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327672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Capac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914400" y="4343400"/>
            <a:ext cx="7772400" cy="838080"/>
            <a:chOff x="914400" y="4343400"/>
            <a:chExt cx="7772400" cy="838080"/>
          </a:xfrm>
        </p:grpSpPr>
        <p:sp>
          <p:nvSpPr>
            <p:cNvPr id="121" name=""/>
            <p:cNvSpPr/>
            <p:nvPr/>
          </p:nvSpPr>
          <p:spPr>
            <a:xfrm>
              <a:off x="4191120" y="4419720"/>
              <a:ext cx="44956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"/>
                </a:rPr>
                <a:t>Probability of disaster occurr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14400" y="4343400"/>
              <a:ext cx="2286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Risk</a:t>
              </a:r>
              <a:br>
                <a:rPr sz="24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C3D3-0BD9-4836-9F27-73985D24B1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What is the difference?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676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Disaster prepar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5146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Disaster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3526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Disaster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0368-9B7B-4333-8565-D97D960510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is disaster prepared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easures that ensure the readiness and ability of a society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62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and take precautionary measure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dvance of an imminent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429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and cope with disaster effects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organising and delivering timely and effec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sistance.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105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Participation is essential at all stages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9EB2-A17B-4269-86DC-5DCF8A943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Examples of preparedness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800" y="1295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test early warn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6800" y="2057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evacua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6800" y="2819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6800" y="3581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operational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4343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2400" y="51055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HCR" descr=""/>
          <p:cNvPicPr/>
          <p:nvPr/>
        </p:nvPicPr>
        <p:blipFill>
          <a:blip r:embed="rId1"/>
          <a:stretch/>
        </p:blipFill>
        <p:spPr>
          <a:xfrm>
            <a:off x="5172120" y="2657520"/>
            <a:ext cx="3819600" cy="28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E89E-E046-4619-899F-286FEC5E6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, mitigation and prepar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143000"/>
            <a:ext cx="800100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66680" y="1371600"/>
            <a:ext cx="2514600" cy="1828800"/>
            <a:chOff x="1066680" y="1371600"/>
            <a:chExt cx="2514600" cy="1828800"/>
          </a:xfrm>
        </p:grpSpPr>
        <p:sp>
          <p:nvSpPr>
            <p:cNvPr id="143" name=""/>
            <p:cNvSpPr/>
            <p:nvPr/>
          </p:nvSpPr>
          <p:spPr>
            <a:xfrm>
              <a:off x="1066680" y="1371600"/>
              <a:ext cx="19051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 Black"/>
                </a:rPr>
                <a:t>Disast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 Black"/>
                </a:rPr>
                <a:t>prevention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2438280"/>
              <a:ext cx="2514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ed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provid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ermanent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ote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om disast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733920" y="1371600"/>
            <a:ext cx="2286000" cy="1828800"/>
            <a:chOff x="3733920" y="1371600"/>
            <a:chExt cx="2286000" cy="1828800"/>
          </a:xfrm>
        </p:grpSpPr>
        <p:sp>
          <p:nvSpPr>
            <p:cNvPr id="146" name=""/>
            <p:cNvSpPr/>
            <p:nvPr/>
          </p:nvSpPr>
          <p:spPr>
            <a:xfrm>
              <a:off x="3733920" y="2438280"/>
              <a:ext cx="2286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s taken in advance of a disaster aimed at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educ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ts impact on society and the environm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1371600"/>
              <a:ext cx="19047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 Black"/>
                </a:rPr>
                <a:t>Disast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 Black"/>
                </a:rPr>
                <a:t>mitigation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400800" y="1371600"/>
            <a:ext cx="2362320" cy="1828800"/>
            <a:chOff x="6400800" y="1371600"/>
            <a:chExt cx="2362320" cy="1828800"/>
          </a:xfrm>
        </p:grpSpPr>
        <p:sp>
          <p:nvSpPr>
            <p:cNvPr id="149" name=""/>
            <p:cNvSpPr/>
            <p:nvPr/>
          </p:nvSpPr>
          <p:spPr>
            <a:xfrm>
              <a:off x="6400800" y="2438280"/>
              <a:ext cx="2362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bility to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edict, respond to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nd cop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the effect of a disas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0800" y="137160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 Black"/>
                </a:rPr>
                <a:t>Disast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 Black"/>
                </a:rPr>
                <a:t>preparedness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D8FE-C691-42DB-892C-EB8A714160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Disaster prevention and mit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ion aims to eliminate ris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tigation aims to reduce ris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438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 disaster prevention and mitig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‘builds on people’s strength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and tackles the cause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of vulnerability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419720"/>
            <a:ext cx="441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munity empowerment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the right to participat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 central to good preparedness and miti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quater%20in%20Freetown" descr=""/>
          <p:cNvPicPr/>
          <p:nvPr/>
        </p:nvPicPr>
        <p:blipFill>
          <a:blip r:embed="rId1"/>
          <a:stretch/>
        </p:blipFill>
        <p:spPr>
          <a:xfrm>
            <a:off x="4952880" y="3065400"/>
            <a:ext cx="388620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6D8C-400E-4DF2-9B3E-2F84569E73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Aim for Module 4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051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Analyse the basic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conceptual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framework related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to disaster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prepar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1784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Explore how this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conceptual framework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relates to the Sphere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hand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ars%20in%20Venezuela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4052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58F5-A239-4252-824F-FAFBC9BFF1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itigation: </a:t>
            </a: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How risks can be reduced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Hazard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3334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Vulnerability reducti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66688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27672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hill-sid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8862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ng the princip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te of an in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8288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ng floo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8622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resist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nstruc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26956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-seismic studie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redict vulnerabl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61476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cating from ri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ank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45244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health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5410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a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5423-D041-4BD3-9F5E-8A0DFB093F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4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2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Disaster preparedness </a:t>
            </a:r>
            <a:br>
              <a:rPr sz="36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7B87-5AC2-472E-AEDC-E66EDB7D4E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200" y="1676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describe how to apply the Sphere handbook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as a planning benchmark in disast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preparedness planning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200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how the Humanitarian Char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its emphasis on participation has direc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elevance to disaster preparednes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F741-23A2-46F9-9613-631EB09362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Case study: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om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02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disaster preparedness initiativ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your initiative to a group of don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o “fund” this initi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809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handbook as much as you 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9834-B274-4307-A35D-AD62861F82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295280"/>
            <a:ext cx="8686800" cy="1981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Humanitarian Ch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5238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umanitarian Imperative: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By this we mean that all possible steps should be taken t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vent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eviate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suffering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505320"/>
            <a:ext cx="8534160" cy="22096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66cc"/>
                </a:solidFill>
                <a:latin typeface="Arial Black"/>
              </a:rPr>
              <a:t>We understand an individual’s right to life to entail the right to have steps taken to preserve life where it is threatened, and a corresponding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Arial Black"/>
              </a:rPr>
              <a:t>duty on others to take such step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6875-8E0C-4DD4-AA95-AFDBB73559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8534160" cy="4876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3434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has direct relevance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underpins the approach to disaster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           mitigation and prepared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3716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People have a right to minimum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7339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ff0000"/>
                </a:solidFill>
                <a:latin typeface="Arial Black"/>
              </a:rPr>
              <a:t>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362320"/>
            <a:ext cx="358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People have a right to life with dig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3623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People have a right to be supported in their own mitigation and preparedness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3CE4-DD22-4F06-B4AD-26A363F715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Basic disaster preparedn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3276720"/>
            <a:ext cx="8076960" cy="1143000"/>
            <a:chOff x="762120" y="3276720"/>
            <a:chExt cx="8076960" cy="1143000"/>
          </a:xfrm>
        </p:grpSpPr>
        <p:sp>
          <p:nvSpPr>
            <p:cNvPr id="192" name=""/>
            <p:cNvSpPr/>
            <p:nvPr/>
          </p:nvSpPr>
          <p:spPr>
            <a:xfrm>
              <a:off x="4038480" y="3505320"/>
              <a:ext cx="1524240" cy="914400"/>
            </a:xfrm>
            <a:prstGeom prst="flowChartManualOperation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120" y="3276720"/>
              <a:ext cx="8076960" cy="704880"/>
              <a:chOff x="762120" y="3276720"/>
              <a:chExt cx="8076960" cy="70488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120" y="3276720"/>
                <a:ext cx="8076960" cy="685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52480" y="3295800"/>
                <a:ext cx="632484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 Black"/>
                  </a:rPr>
                  <a:t>Goals / benchmarks (Sphere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762120" y="5486400"/>
            <a:ext cx="8076960" cy="1143000"/>
            <a:chOff x="762120" y="5486400"/>
            <a:chExt cx="8076960" cy="1143000"/>
          </a:xfrm>
        </p:grpSpPr>
        <p:sp>
          <p:nvSpPr>
            <p:cNvPr id="197" name=""/>
            <p:cNvSpPr/>
            <p:nvPr/>
          </p:nvSpPr>
          <p:spPr>
            <a:xfrm>
              <a:off x="762120" y="5486400"/>
              <a:ext cx="8076960" cy="6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62080" y="5486400"/>
              <a:ext cx="540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 Black"/>
                </a:rPr>
                <a:t>RESPON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4419720"/>
            <a:ext cx="8076960" cy="1218960"/>
            <a:chOff x="762120" y="4419720"/>
            <a:chExt cx="8076960" cy="1218960"/>
          </a:xfrm>
        </p:grpSpPr>
        <p:sp>
          <p:nvSpPr>
            <p:cNvPr id="200" name=""/>
            <p:cNvSpPr/>
            <p:nvPr/>
          </p:nvSpPr>
          <p:spPr>
            <a:xfrm>
              <a:off x="4114800" y="4724280"/>
              <a:ext cx="1371600" cy="914400"/>
            </a:xfrm>
            <a:prstGeom prst="flowChartManualOperation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62120" y="4419720"/>
              <a:ext cx="8076960" cy="990360"/>
              <a:chOff x="762120" y="4419720"/>
              <a:chExt cx="807696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762120" y="4419720"/>
                <a:ext cx="8076960" cy="685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5280" y="4419720"/>
                <a:ext cx="716292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 Black"/>
                  </a:rPr>
                  <a:t>Organisational strategy</a:t>
                </a: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3124080" y="175248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5248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43828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4479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Risk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144792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Capacities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1447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Coordination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&amp;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B47D-A9A1-4A8E-AC93-6F4057E4BF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Applying Sphere to disaster prepar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0200" y="990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response requires standard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eparedness measures need to consider these standard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26668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prepared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ticipation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coordination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09480" y="2362320"/>
            <a:ext cx="3886200" cy="1143000"/>
            <a:chOff x="609480" y="2362320"/>
            <a:chExt cx="3886200" cy="1143000"/>
          </a:xfrm>
        </p:grpSpPr>
        <p:sp>
          <p:nvSpPr>
            <p:cNvPr id="214" name=""/>
            <p:cNvSpPr/>
            <p:nvPr/>
          </p:nvSpPr>
          <p:spPr>
            <a:xfrm>
              <a:off x="609480" y="2438280"/>
              <a:ext cx="3200400" cy="106704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85800" y="2362320"/>
              <a:ext cx="3809880" cy="1143000"/>
              <a:chOff x="685800" y="2362320"/>
              <a:chExt cx="3809880" cy="1143000"/>
            </a:xfrm>
          </p:grpSpPr>
          <p:sp>
            <p:nvSpPr>
              <p:cNvPr id="216" name=""/>
              <p:cNvSpPr/>
              <p:nvPr/>
            </p:nvSpPr>
            <p:spPr>
              <a:xfrm>
                <a:off x="685800" y="2438640"/>
                <a:ext cx="32767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Sphere is directly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relevant to</a:t>
                </a:r>
                <a:r>
                  <a:rPr b="0" lang="en-GB" sz="2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br>
                  <a:rPr sz="2800"/>
                </a:b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09880" y="2362320"/>
                <a:ext cx="685800" cy="11430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4648320" y="44197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duct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prepared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crete preparedn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meas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4E4A-4E4E-43BE-95C4-2E60C4B66B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4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Optional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0836-C994-4874-B7C1-011A96DD6E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400" spc="-1" strike="noStrike">
                <a:solidFill>
                  <a:srgbClr val="ccccff"/>
                </a:solidFill>
                <a:latin typeface="Arial"/>
              </a:rPr>
              <a:t>Optional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ist three major planning and coord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issues that affect the 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recommendations on how to impr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from previous experienc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990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Giv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ve specific examples of relev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standards to deal with this type of situ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in the 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give references from the handbook.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ist four ways to mitigate or reduce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severity of a future disast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plain how people at risk can particip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in these initiativ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D901-A2ED-4A4A-8A3C-C794A1292F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Training Module 4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1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7461-493D-4253-90DE-7DE7B6617B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Emergency preparednes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mergency preparedness is the readin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of a society to confront a potential disaster.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8195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ll actions take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in order for peop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and organisa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to be ready to react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and respond to a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disaster situ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262%20Within%20the%20Movement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572000" cy="3905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088400" y="57754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: Chris Bl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D40B-E192-4529-B3EB-31C11F1C15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294%20Interact,%20with%20donors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Risk analysis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- who should be involved?</a:t>
            </a: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eps in a good risk analysis involve communities organising t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43828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dentify and measu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az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ulnerability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8400" y="562284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: Chris Bl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5720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ct or demand ac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 reduce vulnerabiliti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nd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5389-7263-4457-8F8D-F36C52064D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A simple risk analysis tool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2120" y="1143000"/>
            <a:ext cx="8076960" cy="4952880"/>
            <a:chOff x="762120" y="1143000"/>
            <a:chExt cx="8076960" cy="4952880"/>
          </a:xfrm>
        </p:grpSpPr>
        <p:sp>
          <p:nvSpPr>
            <p:cNvPr id="239" name=""/>
            <p:cNvSpPr/>
            <p:nvPr/>
          </p:nvSpPr>
          <p:spPr>
            <a:xfrm>
              <a:off x="762120" y="1143000"/>
              <a:ext cx="8076960" cy="4952880"/>
            </a:xfrm>
            <a:prstGeom prst="rect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2880" y="1219320"/>
              <a:ext cx="8001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Disast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     B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  D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otal ris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Hazar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Vulnerability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Historica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(A+B+C+D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7320" y="1879560"/>
              <a:ext cx="1600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thquak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ough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vil Emergenc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oo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yclon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nd stor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ow stor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al spil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ologic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rnad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dal w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d slid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20" y="1905120"/>
              <a:ext cx="807696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220968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20" y="247644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273060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300996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2120" y="327672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353052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120" y="380988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408924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435600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120" y="462276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488952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541008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568944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515628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35240" y="1143000"/>
              <a:ext cx="0" cy="495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0400" y="1143000"/>
              <a:ext cx="0" cy="495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4280" y="1143000"/>
              <a:ext cx="0" cy="495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1143000"/>
              <a:ext cx="0" cy="495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1143000"/>
              <a:ext cx="0" cy="495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514600" y="18288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A454-3287-47DF-A3CF-E75FB597F1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Capacity and vulnerability analysis (C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o can provide wha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0666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Who will need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352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very community has capa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3962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tigation and preparedness builds on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ulnerability analysis counter-balan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through ‘capacity analysis’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9320" y="4648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here is based on the principle of capa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recognition and the various roles of respo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organis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192E-4B84-4B0C-8071-97CFE565DA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ff"/>
                </a:solidFill>
                <a:latin typeface="Arial"/>
              </a:rPr>
              <a:t>Capacity and vulnerability analysi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600200"/>
            <a:ext cx="80010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81952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26708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Vulner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 Black"/>
              </a:rPr>
              <a:t>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38080" y="1670040"/>
            <a:ext cx="8077320" cy="1225440"/>
            <a:chOff x="838080" y="1670040"/>
            <a:chExt cx="8077320" cy="1225440"/>
          </a:xfrm>
        </p:grpSpPr>
        <p:sp>
          <p:nvSpPr>
            <p:cNvPr id="283" name=""/>
            <p:cNvSpPr/>
            <p:nvPr/>
          </p:nvSpPr>
          <p:spPr>
            <a:xfrm>
              <a:off x="838080" y="1670040"/>
              <a:ext cx="16002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cc"/>
                  </a:solidFill>
                  <a:latin typeface="Arial Black"/>
                </a:rPr>
                <a:t>Physical/ Material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352680" y="1676520"/>
              <a:ext cx="3048120" cy="1218960"/>
              <a:chOff x="3352680" y="1676520"/>
              <a:chExt cx="3048120" cy="1218960"/>
            </a:xfrm>
          </p:grpSpPr>
          <p:sp>
            <p:nvSpPr>
              <p:cNvPr id="285" name=""/>
              <p:cNvSpPr/>
              <p:nvPr/>
            </p:nvSpPr>
            <p:spPr>
              <a:xfrm>
                <a:off x="3352680" y="1676520"/>
                <a:ext cx="3048120" cy="12189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29000" y="1828800"/>
                <a:ext cx="27432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Elderly people and children - difficult to get food a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172200" y="1828800"/>
              <a:ext cx="2743200" cy="914400"/>
              <a:chOff x="6172200" y="1828800"/>
              <a:chExt cx="2743200" cy="914400"/>
            </a:xfrm>
          </p:grpSpPr>
          <p:sp>
            <p:nvSpPr>
              <p:cNvPr id="288" name=""/>
              <p:cNvSpPr/>
              <p:nvPr/>
            </p:nvSpPr>
            <p:spPr>
              <a:xfrm>
                <a:off x="6172200" y="1828800"/>
                <a:ext cx="2743200" cy="9144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00800" y="19051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Food and income from local farm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838080" y="2971800"/>
            <a:ext cx="8001000" cy="1267200"/>
            <a:chOff x="838080" y="2971800"/>
            <a:chExt cx="8001000" cy="1267200"/>
          </a:xfrm>
        </p:grpSpPr>
        <p:sp>
          <p:nvSpPr>
            <p:cNvPr id="291" name=""/>
            <p:cNvSpPr/>
            <p:nvPr/>
          </p:nvSpPr>
          <p:spPr>
            <a:xfrm>
              <a:off x="838080" y="3048120"/>
              <a:ext cx="27432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cc"/>
                  </a:solidFill>
                  <a:latin typeface="Arial Black"/>
                </a:rPr>
                <a:t>Social/ Organisational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200400" y="3048120"/>
              <a:ext cx="2895480" cy="1066680"/>
              <a:chOff x="3200400" y="3048120"/>
              <a:chExt cx="2895480" cy="1066680"/>
            </a:xfrm>
          </p:grpSpPr>
          <p:sp>
            <p:nvSpPr>
              <p:cNvPr id="293" name=""/>
              <p:cNvSpPr/>
              <p:nvPr/>
            </p:nvSpPr>
            <p:spPr>
              <a:xfrm>
                <a:off x="3200400" y="3048120"/>
                <a:ext cx="2895480" cy="10666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81280" y="312408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HIV / AIDS: demographic age shi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867280" y="2971800"/>
              <a:ext cx="2971800" cy="1143000"/>
              <a:chOff x="5867280" y="2971800"/>
              <a:chExt cx="2971800" cy="1143000"/>
            </a:xfrm>
          </p:grpSpPr>
          <p:sp>
            <p:nvSpPr>
              <p:cNvPr id="296" name=""/>
              <p:cNvSpPr/>
              <p:nvPr/>
            </p:nvSpPr>
            <p:spPr>
              <a:xfrm>
                <a:off x="5867280" y="2971800"/>
                <a:ext cx="297180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48520" y="320040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radition of </a:t>
                </a:r>
                <a:br>
                  <a:rPr sz="2000"/>
                </a:b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family c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838080" y="4419720"/>
            <a:ext cx="7848720" cy="1143000"/>
            <a:chOff x="838080" y="4419720"/>
            <a:chExt cx="7848720" cy="1143000"/>
          </a:xfrm>
        </p:grpSpPr>
        <p:sp>
          <p:nvSpPr>
            <p:cNvPr id="299" name=""/>
            <p:cNvSpPr/>
            <p:nvPr/>
          </p:nvSpPr>
          <p:spPr>
            <a:xfrm>
              <a:off x="838080" y="449892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cc"/>
                  </a:solidFill>
                  <a:latin typeface="Arial Black"/>
                </a:rPr>
                <a:t>Motivational/ Attitudinal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048120" y="4495680"/>
              <a:ext cx="3200400" cy="1067040"/>
              <a:chOff x="3048120" y="4495680"/>
              <a:chExt cx="3200400" cy="10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3048120" y="4495680"/>
                <a:ext cx="3200400" cy="1067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0532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 bereav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095880" y="4419720"/>
              <a:ext cx="2590920" cy="1143000"/>
              <a:chOff x="6095880" y="4419720"/>
              <a:chExt cx="2590920" cy="1143000"/>
            </a:xfrm>
          </p:grpSpPr>
          <p:sp>
            <p:nvSpPr>
              <p:cNvPr id="304" name=""/>
              <p:cNvSpPr/>
              <p:nvPr/>
            </p:nvSpPr>
            <p:spPr>
              <a:xfrm>
                <a:off x="6095880" y="4419720"/>
                <a:ext cx="259092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7220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ommitment to edu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A044-63E5-422D-8328-82450F4619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Disas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505320" y="1300320"/>
            <a:ext cx="2286000" cy="680760"/>
            <a:chOff x="3505320" y="1300320"/>
            <a:chExt cx="2286000" cy="680760"/>
          </a:xfrm>
        </p:grpSpPr>
        <p:sp>
          <p:nvSpPr>
            <p:cNvPr id="308" name=""/>
            <p:cNvSpPr/>
            <p:nvPr/>
          </p:nvSpPr>
          <p:spPr>
            <a:xfrm>
              <a:off x="3886560" y="1300320"/>
              <a:ext cx="19047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05320" y="1300320"/>
              <a:ext cx="2133720" cy="544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371600" y="1905120"/>
            <a:ext cx="1752480" cy="533160"/>
            <a:chOff x="1371600" y="1905120"/>
            <a:chExt cx="1752480" cy="533160"/>
          </a:xfrm>
        </p:grpSpPr>
        <p:sp>
          <p:nvSpPr>
            <p:cNvPr id="311" name=""/>
            <p:cNvSpPr/>
            <p:nvPr/>
          </p:nvSpPr>
          <p:spPr>
            <a:xfrm>
              <a:off x="1752480" y="19051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eli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71600" y="1905120"/>
              <a:ext cx="1633680" cy="53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124080" y="2819520"/>
            <a:ext cx="29718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DISASTE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2819520"/>
            <a:ext cx="220968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3924360"/>
            <a:ext cx="22100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480060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5181480"/>
            <a:ext cx="22096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4800600"/>
            <a:ext cx="16761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3943440"/>
            <a:ext cx="12189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80880" y="2824200"/>
            <a:ext cx="2133720" cy="680760"/>
            <a:chOff x="380880" y="2824200"/>
            <a:chExt cx="2133720" cy="680760"/>
          </a:xfrm>
        </p:grpSpPr>
        <p:sp>
          <p:nvSpPr>
            <p:cNvPr id="321" name=""/>
            <p:cNvSpPr/>
            <p:nvPr/>
          </p:nvSpPr>
          <p:spPr>
            <a:xfrm>
              <a:off x="380880" y="2824200"/>
              <a:ext cx="2059920" cy="53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880" y="2824200"/>
              <a:ext cx="21337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pared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095880" y="1893960"/>
            <a:ext cx="2362320" cy="544320"/>
            <a:chOff x="6095880" y="1893960"/>
            <a:chExt cx="2362320" cy="544320"/>
          </a:xfrm>
        </p:grpSpPr>
        <p:sp>
          <p:nvSpPr>
            <p:cNvPr id="324" name=""/>
            <p:cNvSpPr/>
            <p:nvPr/>
          </p:nvSpPr>
          <p:spPr>
            <a:xfrm>
              <a:off x="6172200" y="1893960"/>
              <a:ext cx="2286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isk ma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1893960"/>
              <a:ext cx="2133720" cy="544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553080" y="5715000"/>
            <a:ext cx="2286000" cy="307080"/>
          </a:xfrm>
          <a:prstGeom prst="rect">
            <a:avLst/>
          </a:prstGeom>
          <a:noFill/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From: “Reducing Ris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2C87-145E-4E5A-A069-64C43E2E34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BREA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55F7-7043-46DB-924C-3A3EEB5A6D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To identify key elements of most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commonly used definitions: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- disaster, hazard, risk, capacity and vulner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276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To explain the difference between: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disaster preparedness, disaster prevention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and disaster miti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1A8B-29CE-41D8-A7B0-1B63D1F945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Assumption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Populations affected by disasters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have a right to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disaster assistance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determine the type of assistance they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19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Disaster preparedness provides opportunities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for rights-based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Preparedness is an important step towards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good quality and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A916-7333-4FCC-8B96-76D218A54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7080" y="838080"/>
            <a:ext cx="8889840" cy="5181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What is a disas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06080" y="420696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loods%20in%20Somalia%20Juba%20Valley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6781680" cy="396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7242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Discuss common elements included in most definitions of a disaster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3A0C-2147-45C2-9CBE-CC8C51CFCB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common el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800" y="1143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ffects peo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68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Usually triggered by a haz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6800" y="2514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rectly related to vuln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6800" y="3200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xceeds capacity of household, community 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or group of people to 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4191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processes play an important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960" y="4876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to do with society than natural pheno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ED5E-DC76-4B23-ABAB-2CC46C1033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Discuss and agree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Haz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5146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3526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Vuln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1911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BAEE-A965-432B-A590-61C8EE2B7A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is a haza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0200" y="1523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 hazard 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or human-made ev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hat can potential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igger a disas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include earthquakes, mud-slid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floods, volcanic eruptions, tsunamis, drough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economic collapse, and w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572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hysical events need not necessar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esult in disast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6B14-5C42-4F16-8C03-EE41215A5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Phil</cp:lastModifiedBy>
  <dcterms:modified xsi:type="dcterms:W3CDTF">2003-09-10T19:09:47Z</dcterms:modified>
  <cp:revision>262</cp:revision>
  <dc:subject/>
  <dc:title>No Slide Title</dc:title>
</cp:coreProperties>
</file>