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A6EF-2345-48DD-9B4F-9551FC0FB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74A9-9708-4602-B388-B56F3FA90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D9D8-1706-402A-A8BA-E7D6A6C7A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6C2A-244C-438B-BE99-71A1CBA074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D3AE-0041-45A9-9820-6B5ADEEE04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FA5F-87EF-491F-9125-B7978A7E5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253F-0E5A-46BA-A755-00CA2E0A1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56B3-4563-4EA5-871C-E2BB2134B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8966-3C3B-4D2A-A8FD-7D0B05340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3A58-4FF4-4CC7-9752-20F290E28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C3CB-BCAF-4F9B-9E3E-23C3AB856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AB2E-F25B-4DC1-8A28-02244518A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here Pro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6371-0EF8-4294-B116-CDB09208FA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27080" y="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1</a:t>
            </a:r>
            <a:br>
              <a:rPr sz="4400"/>
            </a:br>
            <a:br>
              <a:rPr sz="44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1</a:t>
            </a: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What is Sphere and why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is it impor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8848-DE37-447A-A400-FA4F9F43AF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Sphere hand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6800" y="1981080"/>
            <a:ext cx="76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umanitarian Charter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de of Conduct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s Common to all sectors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agram and contents for each technical chapter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roduction 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dex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choose your favourite chapter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look at th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tandards in that ch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6800" y="1066680"/>
            <a:ext cx="8148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 and mark these sections in your book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help you find key topics quick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981080"/>
            <a:ext cx="4496040" cy="403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Humanitarian Cha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1981080"/>
            <a:ext cx="4495680" cy="403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Code of Con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057400"/>
            <a:ext cx="4495680" cy="4038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ndards Common to all se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2057400"/>
            <a:ext cx="4495680" cy="4038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diagram and contents for each technical chap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2057400"/>
            <a:ext cx="4495680" cy="4038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2057400"/>
            <a:ext cx="4495680" cy="4038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ind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1981080"/>
            <a:ext cx="4572000" cy="4114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ow choose your favourite chapter, and look at the standards in that chap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CB07-5141-4013-BFF4-232E237A21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Sphere hand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6800" y="1981080"/>
            <a:ext cx="76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umanitarian Charter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de of Conduct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s Common to all sectors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agram and contents for each technical chapter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roduction 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dex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choose your favourite chapter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look at th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tandards in that ch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6800" y="1066680"/>
            <a:ext cx="8148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 and mark these sections in your book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help you find key topics quick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3716-3326-4322-AE9F-AC0768CF76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19920" y="48769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181480"/>
            <a:ext cx="822960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3809880"/>
            <a:ext cx="1371600" cy="53352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352680"/>
            <a:ext cx="815364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30481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21337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4114800"/>
            <a:ext cx="82296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143000"/>
            <a:ext cx="784872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2590920"/>
            <a:ext cx="701064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Humanitarian Charter: Se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ommitment to promo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- observance of fundamental humanitarian princip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- appreciation of our own ethical oblig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35268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scription of roles, duties &amp;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590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tatement of humanitarian principles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038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ommitment to consistently achieve th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  minimum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5105520"/>
            <a:ext cx="822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cknowledgement that our fundamenta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 accountability is to those we seek to as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835E-E8FE-4CA2-9D7B-9DB12349E3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2400" spc="-1" strike="noStrike">
                <a:solidFill>
                  <a:srgbClr val="ccccff"/>
                </a:solidFill>
                <a:latin typeface="Arial"/>
              </a:rPr>
              <a:t>Humanitarian Charter: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formed by international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2193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Right to life with dign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Universal Declaration of Human Righ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Civil, political, economic and social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covenan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The Geneva Convention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Convention against Tor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Rights of the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266688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The distinction between  </a:t>
            </a:r>
            <a:br>
              <a:rPr sz="2000"/>
            </a:b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   combatants and </a:t>
            </a:r>
            <a:br>
              <a:rPr sz="2000"/>
            </a:b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   non-combatants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- Geneva Convention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- Rights of the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1911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The principal of non-refoulement</a:t>
            </a:r>
            <a:br>
              <a:rPr sz="2000"/>
            </a:b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vention on the Status of Refuge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Convention against Torture</a:t>
            </a:r>
            <a:br>
              <a:rPr sz="1800"/>
            </a:b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ights of the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0B43-9FA7-42A3-B956-0F1FD65268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3429000"/>
            <a:ext cx="8229600" cy="2209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371600"/>
            <a:ext cx="8229600" cy="160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What is a minimum standar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600200"/>
            <a:ext cx="7691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The minimum level of service to b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attained in humanitarian assistanc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6800" y="3657600"/>
            <a:ext cx="7691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General nutritional support standard 1: </a:t>
            </a:r>
            <a:r>
              <a:rPr b="0" lang="fr-CH" sz="3200" spc="-1" strike="noStrike">
                <a:solidFill>
                  <a:srgbClr val="ffffff"/>
                </a:solidFill>
                <a:latin typeface="Arial Black"/>
              </a:rPr>
              <a:t>Nutrient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876920"/>
            <a:ext cx="7691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The nutritional needs of the population are met.</a:t>
            </a:r>
            <a:br>
              <a:rPr sz="2000"/>
            </a:b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e page 90/1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71228-C805-4944-B6B3-00807AF25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1143000"/>
            <a:ext cx="86868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What are key indica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1430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ignals that show whether a standard has been attained.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 They provide a way of measuring and communicating both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 the impact, or result, of programmes as well as the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 process, or methods, used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 The indicators may be qualitative or quantitative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733920"/>
            <a:ext cx="8534160" cy="2438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844800"/>
            <a:ext cx="815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y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cc"/>
                </a:solidFill>
                <a:latin typeface="Times New Roman"/>
              </a:rPr>
              <a:t>•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vels of moderate malnutrition are stable at, or declining t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ceptable lev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cc"/>
                </a:solidFill>
                <a:latin typeface="Times New Roman"/>
              </a:rPr>
              <a:t>•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re are no cases of scurvy, pellagra or beri-be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cc"/>
                </a:solidFill>
                <a:latin typeface="Times New Roman"/>
              </a:rPr>
              <a:t>•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tes of xeropthalmia or iodine deficiency disorders are not of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ealth significance (see guidance notes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e page 90/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BA09-5FC1-43CE-83B1-91C77FD988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1295280"/>
            <a:ext cx="8686800" cy="19814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What are guidance no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52388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They disseminate experience, illuminate areas of controversy, and help use indicators properly in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733920"/>
            <a:ext cx="8534160" cy="2438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3946680"/>
            <a:ext cx="79250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Guidance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“…</a:t>
            </a: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deciding whether levels of malnutrition are acceptable requires analysis of the current situation in light of local norms...”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0" lang="en-GB" sz="1800" spc="-1" strike="noStrike">
                <a:solidFill>
                  <a:srgbClr val="0066cc"/>
                </a:solidFill>
                <a:latin typeface="Arial"/>
              </a:rPr>
              <a:t>see page 92/</a:t>
            </a: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1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E18D-3F61-4DBB-B591-041D8B13B8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981080" y="335268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182880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191120"/>
            <a:ext cx="48769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295280"/>
            <a:ext cx="502920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743200"/>
            <a:ext cx="49528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ccccff"/>
                </a:solidFill>
                <a:latin typeface="Arial Black"/>
              </a:rPr>
              <a:t>Standards, key indicators and </a:t>
            </a:r>
            <a:br>
              <a:rPr sz="2400"/>
            </a:br>
            <a:r>
              <a:rPr b="0" lang="fr-CH" sz="2400" spc="-1" strike="noStrike">
                <a:solidFill>
                  <a:srgbClr val="ccccff"/>
                </a:solidFill>
                <a:latin typeface="Arial Black"/>
              </a:rPr>
              <a:t>guidance notes</a:t>
            </a: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29528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Minimum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0480" y="4267080"/>
            <a:ext cx="540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uidanc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819520"/>
            <a:ext cx="716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Key indica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257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sked, please find examples of each of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your hand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9484-5CD1-4D4E-B9E3-EB6596142D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In conclusion: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Humanitarian crises contin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981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haotic growth of humanitarian organisations 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  and agen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3124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essures on humanitarians to better define, 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  coordinate and account for humanitarian 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 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724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Inter-agency process to clarify the humanitarian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  basis for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EBE1-4170-404B-B94B-70217E712C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657600" y="35053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800600"/>
            <a:ext cx="1371600" cy="53352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1337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3962520"/>
            <a:ext cx="78487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143000"/>
            <a:ext cx="784872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514600"/>
            <a:ext cx="784872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In conclusion: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Humanitarian Charter: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the framework to convert the appreci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of rights into 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8862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Key indicators: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signals to assess whether the standards hav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be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59092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Minimum standards: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standards to aspire to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able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257800"/>
            <a:ext cx="7696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uidance notes: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information to help apply indicators in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5BA2A-8F6D-4EBE-BFAB-2C0733921A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Learning objectives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scribe why the Sphere Project i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scribe the Sphere Project’s structure and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scribe the Sphere handbook’s basic stru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scribe the difference betwee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Minimum standard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Key indicato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uidanc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iscuss some current trends or events that have impacted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understanding of </a:t>
            </a:r>
            <a:r>
              <a:rPr b="0" lang="en-GB" sz="6000" spc="-1" strike="noStrike">
                <a:solidFill>
                  <a:srgbClr val="0066cc"/>
                </a:solidFill>
                <a:latin typeface="Arial"/>
              </a:rPr>
              <a:t>“humanitarianism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F11F-3DB5-47CC-A211-E408448DD5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BREA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7080" y="990720"/>
            <a:ext cx="888984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E9CD-9C1D-4F62-A139-6ECAC4F20C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1</a:t>
            </a:r>
            <a:br>
              <a:rPr sz="4400"/>
            </a:br>
            <a:br>
              <a:rPr sz="44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2</a:t>
            </a: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How does the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Sphere handbook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957E-309A-4465-81F9-67CD3461B9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10666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o discuss how to use the handbook in practical 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  humanitarian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057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o highlight the Sphere handbook’s role in 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  mitigating the effects of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048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o debate challenges and opportunities of using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  the Sphere hand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038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o explore evidence and experience emerging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  from the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8FA1-594D-4642-8F8C-F09EDD7F76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1295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Strengthen advoca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asur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2514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Rationalise resourc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124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nable coordination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- more than 20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114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Inform training curric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724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mote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257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valuate policies and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0B56-00A8-47A6-B1C1-CA67CA53EA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pplications: projec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523880" y="1902240"/>
            <a:ext cx="2820960" cy="1526760"/>
            <a:chOff x="1523880" y="1902240"/>
            <a:chExt cx="2820960" cy="1526760"/>
          </a:xfrm>
        </p:grpSpPr>
        <p:sp>
          <p:nvSpPr>
            <p:cNvPr id="232" name=""/>
            <p:cNvSpPr/>
            <p:nvPr/>
          </p:nvSpPr>
          <p:spPr>
            <a:xfrm>
              <a:off x="1523880" y="2743200"/>
              <a:ext cx="2362320" cy="6858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Evalu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0800">
              <a:off x="3581280" y="1903320"/>
              <a:ext cx="762120" cy="8384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962520" y="4800600"/>
            <a:ext cx="3657600" cy="1143000"/>
            <a:chOff x="3962520" y="4800600"/>
            <a:chExt cx="3657600" cy="1143000"/>
          </a:xfrm>
        </p:grpSpPr>
        <p:sp>
          <p:nvSpPr>
            <p:cNvPr id="235" name=""/>
            <p:cNvSpPr/>
            <p:nvPr/>
          </p:nvSpPr>
          <p:spPr>
            <a:xfrm>
              <a:off x="5105520" y="4800600"/>
              <a:ext cx="251460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ogramme plan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62520" y="5105520"/>
              <a:ext cx="1143000" cy="533160"/>
            </a:xfrm>
            <a:prstGeom prst="leftArrow">
              <a:avLst>
                <a:gd name="adj1" fmla="val 50000"/>
                <a:gd name="adj2" fmla="val 5359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572000" y="1523880"/>
            <a:ext cx="3513960" cy="999000"/>
            <a:chOff x="4572000" y="1523880"/>
            <a:chExt cx="3513960" cy="999000"/>
          </a:xfrm>
        </p:grpSpPr>
        <p:sp>
          <p:nvSpPr>
            <p:cNvPr id="238" name=""/>
            <p:cNvSpPr/>
            <p:nvPr/>
          </p:nvSpPr>
          <p:spPr>
            <a:xfrm>
              <a:off x="4572000" y="1523880"/>
              <a:ext cx="2819520" cy="6858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ssess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316600">
              <a:off x="7352640" y="1790280"/>
              <a:ext cx="762120" cy="6858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28600" y="1371600"/>
            <a:ext cx="4191120" cy="609480"/>
            <a:chOff x="228600" y="1371600"/>
            <a:chExt cx="4191120" cy="609480"/>
          </a:xfrm>
        </p:grpSpPr>
        <p:sp>
          <p:nvSpPr>
            <p:cNvPr id="241" name=""/>
            <p:cNvSpPr/>
            <p:nvPr/>
          </p:nvSpPr>
          <p:spPr>
            <a:xfrm>
              <a:off x="228600" y="1371600"/>
              <a:ext cx="2971800" cy="60948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repared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0400" y="1523880"/>
              <a:ext cx="1219320" cy="304920"/>
            </a:xfrm>
            <a:prstGeom prst="rightArrow">
              <a:avLst>
                <a:gd name="adj1" fmla="val 50000"/>
                <a:gd name="adj2" fmla="val 99970"/>
              </a:avLst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523880" y="3654720"/>
            <a:ext cx="2362320" cy="2288880"/>
            <a:chOff x="1523880" y="3654720"/>
            <a:chExt cx="2362320" cy="2288880"/>
          </a:xfrm>
        </p:grpSpPr>
        <p:sp>
          <p:nvSpPr>
            <p:cNvPr id="244" name=""/>
            <p:cNvSpPr/>
            <p:nvPr/>
          </p:nvSpPr>
          <p:spPr>
            <a:xfrm>
              <a:off x="1523880" y="4800600"/>
              <a:ext cx="236232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Impact monitor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34200">
              <a:off x="1523880" y="3962160"/>
              <a:ext cx="1143000" cy="533520"/>
            </a:xfrm>
            <a:prstGeom prst="leftArrow">
              <a:avLst>
                <a:gd name="adj1" fmla="val 50000"/>
                <a:gd name="adj2" fmla="val 535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781680" y="2743200"/>
            <a:ext cx="1981440" cy="2817360"/>
            <a:chOff x="6781680" y="2743200"/>
            <a:chExt cx="1981440" cy="2817360"/>
          </a:xfrm>
        </p:grpSpPr>
        <p:sp>
          <p:nvSpPr>
            <p:cNvPr id="247" name=""/>
            <p:cNvSpPr/>
            <p:nvPr/>
          </p:nvSpPr>
          <p:spPr>
            <a:xfrm>
              <a:off x="6781680" y="2743200"/>
              <a:ext cx="1981440" cy="121932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oblem</a:t>
              </a:r>
              <a:br>
                <a:rPr sz="3200"/>
              </a:b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nalys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7695720" y="3962520"/>
              <a:ext cx="762480" cy="1598040"/>
              <a:chOff x="7695720" y="3962520"/>
              <a:chExt cx="762480" cy="1598040"/>
            </a:xfrm>
          </p:grpSpPr>
          <p:sp>
            <p:nvSpPr>
              <p:cNvPr id="249" name=""/>
              <p:cNvSpPr/>
              <p:nvPr/>
            </p:nvSpPr>
            <p:spPr>
              <a:xfrm rot="10800000">
                <a:off x="7695720" y="4647960"/>
                <a:ext cx="762120" cy="91260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229600" y="3962520"/>
                <a:ext cx="228600" cy="761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0" y="2374920"/>
            <a:ext cx="16066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43E7-8BF2-4C58-B99F-53479769E5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4920" y="1219320"/>
            <a:ext cx="8534160" cy="4876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Using Sphere to mitigate b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129528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Wider community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215040" y="2514600"/>
            <a:ext cx="1862280" cy="1830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943600" y="434340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To a person with 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a hammer every 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problem looks 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like a nai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80880" y="1139760"/>
            <a:ext cx="5333760" cy="4578120"/>
            <a:chOff x="380880" y="1139760"/>
            <a:chExt cx="5333760" cy="4578120"/>
          </a:xfrm>
        </p:grpSpPr>
        <p:sp>
          <p:nvSpPr>
            <p:cNvPr id="258" name=""/>
            <p:cNvSpPr/>
            <p:nvPr/>
          </p:nvSpPr>
          <p:spPr>
            <a:xfrm>
              <a:off x="1350720" y="1139760"/>
              <a:ext cx="3297240" cy="3297240"/>
            </a:xfrm>
            <a:prstGeom prst="ellipse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2420640"/>
              <a:ext cx="3297240" cy="3297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17400" y="2400120"/>
              <a:ext cx="3297240" cy="3297240"/>
            </a:xfrm>
            <a:prstGeom prst="ellipse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676520" y="1600200"/>
            <a:ext cx="281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Organisational mandate or specialty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351936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BIAS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435780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Resources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43434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Humanitarian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1461-6FB1-4143-8B07-73992EF11F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hallenges and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3962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For the applications listed earl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44956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scuss the challenges, risks or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5029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scuss the opportunities or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55627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scuss strategies to mitigate 1 and maximis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00280" y="990720"/>
            <a:ext cx="5600520" cy="29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B9E3-A127-4CCA-805C-BD522C4081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Sphere repres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laration that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pulations affected by confli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nd calam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ave a right to as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057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itment towards a defined and measurable level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of competence and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895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illation of current global knowledge and experienc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into a practical tool for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ndividual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- their organisat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- the humanitarian commun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4800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 to all actors in the humanitarian communi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for increased accountability and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D3D7-E510-4EBC-9EE3-E57D7A4226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www.sphereproject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n the web-site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752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 in English, French, Spanish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ussian and Arabi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26668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aterial and trainer’s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320040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3733920"/>
            <a:ext cx="5181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s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nstitutionalising 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4648320"/>
            <a:ext cx="419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rep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4038840" cy="30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2689-1B53-4A38-9F97-FC3364BA6A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1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Optional toolk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A190-7CFF-48D2-89B6-94EEE2FBCB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7080" y="838080"/>
            <a:ext cx="8889840" cy="5181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Context and 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2mother%20&amp;%20baby%20fleeing" descr=""/>
          <p:cNvPicPr/>
          <p:nvPr/>
        </p:nvPicPr>
        <p:blipFill>
          <a:blip r:embed="rId2"/>
          <a:srcRect l="0" t="0" r="0" b="37503"/>
          <a:stretch/>
        </p:blipFill>
        <p:spPr>
          <a:xfrm>
            <a:off x="838080" y="1447920"/>
            <a:ext cx="30798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1760" y="494676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- UNHC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osnia" descr=""/>
          <p:cNvPicPr/>
          <p:nvPr/>
        </p:nvPicPr>
        <p:blipFill>
          <a:blip r:embed="rId3"/>
          <a:srcRect l="0" t="0" r="39443" b="0"/>
          <a:stretch/>
        </p:blipFill>
        <p:spPr>
          <a:xfrm>
            <a:off x="4038480" y="1447920"/>
            <a:ext cx="3505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A5D5-E6D5-4EFA-B575-DE2EE37142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Example milestones in human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676520"/>
            <a:ext cx="838224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90720" y="1066680"/>
            <a:ext cx="1523880" cy="2438640"/>
            <a:chOff x="990720" y="1066680"/>
            <a:chExt cx="1523880" cy="2438640"/>
          </a:xfrm>
        </p:grpSpPr>
        <p:sp>
          <p:nvSpPr>
            <p:cNvPr id="290" name=""/>
            <p:cNvSpPr/>
            <p:nvPr/>
          </p:nvSpPr>
          <p:spPr>
            <a:xfrm>
              <a:off x="1295280" y="106668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90720" y="2895480"/>
              <a:ext cx="1218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Plag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0020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219320" y="1066680"/>
            <a:ext cx="1904760" cy="4191120"/>
            <a:chOff x="1219320" y="1066680"/>
            <a:chExt cx="1904760" cy="4191120"/>
          </a:xfrm>
        </p:grpSpPr>
        <p:sp>
          <p:nvSpPr>
            <p:cNvPr id="294" name=""/>
            <p:cNvSpPr/>
            <p:nvPr/>
          </p:nvSpPr>
          <p:spPr>
            <a:xfrm>
              <a:off x="1828800" y="106668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19320" y="4648320"/>
              <a:ext cx="1904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ealth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knowledge increases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uman life s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3372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743200" y="1066680"/>
            <a:ext cx="1523880" cy="4191120"/>
            <a:chOff x="2743200" y="1066680"/>
            <a:chExt cx="1523880" cy="4191120"/>
          </a:xfrm>
        </p:grpSpPr>
        <p:sp>
          <p:nvSpPr>
            <p:cNvPr id="298" name=""/>
            <p:cNvSpPr/>
            <p:nvPr/>
          </p:nvSpPr>
          <p:spPr>
            <a:xfrm>
              <a:off x="2895480" y="106668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19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WW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0" y="464832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ave the Children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ague of N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532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133720" y="1066680"/>
            <a:ext cx="1218960" cy="2514600"/>
            <a:chOff x="2133720" y="1066680"/>
            <a:chExt cx="1218960" cy="2514600"/>
          </a:xfrm>
        </p:grpSpPr>
        <p:sp>
          <p:nvSpPr>
            <p:cNvPr id="302" name=""/>
            <p:cNvSpPr/>
            <p:nvPr/>
          </p:nvSpPr>
          <p:spPr>
            <a:xfrm>
              <a:off x="2133720" y="1066680"/>
              <a:ext cx="1218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Solferino 1859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9680" y="29718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Red 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4320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429000" y="1066680"/>
            <a:ext cx="1371600" cy="2514600"/>
            <a:chOff x="3429000" y="1066680"/>
            <a:chExt cx="1371600" cy="2514600"/>
          </a:xfrm>
        </p:grpSpPr>
        <p:sp>
          <p:nvSpPr>
            <p:cNvPr id="306" name=""/>
            <p:cNvSpPr/>
            <p:nvPr/>
          </p:nvSpPr>
          <p:spPr>
            <a:xfrm>
              <a:off x="3505320" y="1066680"/>
              <a:ext cx="1218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45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WW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29000" y="297180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fr-CH" sz="1600" spc="-1" strike="noStrike">
                  <a:solidFill>
                    <a:srgbClr val="ff0000"/>
                  </a:solidFill>
                  <a:latin typeface="Arial"/>
                </a:rPr>
                <a:t>UN Charter</a:t>
              </a:r>
              <a:br>
                <a:rPr sz="1600"/>
              </a:br>
              <a:r>
                <a:rPr b="1" lang="fr-CH" sz="16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br>
                <a:rPr sz="1600"/>
              </a:br>
              <a:r>
                <a:rPr b="1" lang="fr-CH" sz="1600" spc="-1" strike="noStrike">
                  <a:solidFill>
                    <a:srgbClr val="ff0000"/>
                  </a:solidFill>
                  <a:latin typeface="Arial"/>
                </a:rPr>
                <a:t>Oxfam</a:t>
              </a:r>
              <a:br>
                <a:rPr sz="1600"/>
              </a:br>
              <a:r>
                <a:rPr b="1" lang="fr-CH" sz="1600" spc="-1" strike="noStrike">
                  <a:solidFill>
                    <a:srgbClr val="ff0000"/>
                  </a:solidFill>
                  <a:latin typeface="Arial"/>
                </a:rPr>
                <a:t>LWF</a:t>
              </a:r>
              <a:br>
                <a:rPr sz="1600"/>
              </a:br>
              <a:r>
                <a:rPr b="1" lang="fr-CH" sz="1600" spc="-1" strike="noStrike">
                  <a:solidFill>
                    <a:srgbClr val="ff0000"/>
                  </a:solidFill>
                  <a:latin typeface="Arial"/>
                </a:rPr>
                <a:t>I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1480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809880" y="1066680"/>
            <a:ext cx="1828800" cy="4191120"/>
            <a:chOff x="3809880" y="1066680"/>
            <a:chExt cx="1828800" cy="4191120"/>
          </a:xfrm>
        </p:grpSpPr>
        <p:sp>
          <p:nvSpPr>
            <p:cNvPr id="310" name=""/>
            <p:cNvSpPr/>
            <p:nvPr/>
          </p:nvSpPr>
          <p:spPr>
            <a:xfrm>
              <a:off x="4419720" y="1066680"/>
              <a:ext cx="9903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48/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09880" y="464832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eva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ventions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UD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0" y="1066680"/>
            <a:ext cx="1600200" cy="4191120"/>
            <a:chOff x="0" y="1066680"/>
            <a:chExt cx="1600200" cy="4191120"/>
          </a:xfrm>
        </p:grpSpPr>
        <p:sp>
          <p:nvSpPr>
            <p:cNvPr id="314" name=""/>
            <p:cNvSpPr/>
            <p:nvPr/>
          </p:nvSpPr>
          <p:spPr>
            <a:xfrm>
              <a:off x="380880" y="106668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000 A.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464832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rder of M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08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419720" y="1066680"/>
            <a:ext cx="1828800" cy="2514600"/>
            <a:chOff x="4419720" y="1066680"/>
            <a:chExt cx="1828800" cy="2514600"/>
          </a:xfrm>
        </p:grpSpPr>
        <p:sp>
          <p:nvSpPr>
            <p:cNvPr id="318" name=""/>
            <p:cNvSpPr/>
            <p:nvPr/>
          </p:nvSpPr>
          <p:spPr>
            <a:xfrm>
              <a:off x="4800600" y="10666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297180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Refugee Convention 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&amp; UNH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562720" y="1066680"/>
            <a:ext cx="990360" cy="4191120"/>
            <a:chOff x="5562720" y="1066680"/>
            <a:chExt cx="990360" cy="4191120"/>
          </a:xfrm>
        </p:grpSpPr>
        <p:sp>
          <p:nvSpPr>
            <p:cNvPr id="322" name=""/>
            <p:cNvSpPr/>
            <p:nvPr/>
          </p:nvSpPr>
          <p:spPr>
            <a:xfrm>
              <a:off x="5562720" y="1066680"/>
              <a:ext cx="9903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69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iaf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2720" y="4648320"/>
              <a:ext cx="761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S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-76320" y="1066680"/>
            <a:ext cx="1447920" cy="2743200"/>
            <a:chOff x="-76320" y="1066680"/>
            <a:chExt cx="1447920" cy="2743200"/>
          </a:xfrm>
        </p:grpSpPr>
        <p:sp>
          <p:nvSpPr>
            <p:cNvPr id="326" name=""/>
            <p:cNvSpPr/>
            <p:nvPr/>
          </p:nvSpPr>
          <p:spPr>
            <a:xfrm>
              <a:off x="76320" y="1066680"/>
              <a:ext cx="1218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460 B.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-76320" y="3200400"/>
              <a:ext cx="144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Hippocr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88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1066680"/>
            <a:ext cx="1828800" cy="4648320"/>
            <a:chOff x="5638680" y="1066680"/>
            <a:chExt cx="1828800" cy="4648320"/>
          </a:xfrm>
        </p:grpSpPr>
        <p:sp>
          <p:nvSpPr>
            <p:cNvPr id="330" name=""/>
            <p:cNvSpPr/>
            <p:nvPr/>
          </p:nvSpPr>
          <p:spPr>
            <a:xfrm>
              <a:off x="6095880" y="10666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76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38680" y="510552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International 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Bill of 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Rights 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rat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1676520"/>
              <a:ext cx="0" cy="32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629400" y="1066680"/>
            <a:ext cx="1828800" cy="4191120"/>
            <a:chOff x="6629400" y="1066680"/>
            <a:chExt cx="1828800" cy="4191120"/>
          </a:xfrm>
        </p:grpSpPr>
        <p:sp>
          <p:nvSpPr>
            <p:cNvPr id="334" name=""/>
            <p:cNvSpPr/>
            <p:nvPr/>
          </p:nvSpPr>
          <p:spPr>
            <a:xfrm>
              <a:off x="7162560" y="10666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29400" y="464832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old War 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e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43800" y="1676520"/>
              <a:ext cx="0" cy="2819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696080" y="1066680"/>
            <a:ext cx="1828800" cy="2514600"/>
            <a:chOff x="7696080" y="1066680"/>
            <a:chExt cx="1828800" cy="2514600"/>
          </a:xfrm>
        </p:grpSpPr>
        <p:sp>
          <p:nvSpPr>
            <p:cNvPr id="338" name=""/>
            <p:cNvSpPr/>
            <p:nvPr/>
          </p:nvSpPr>
          <p:spPr>
            <a:xfrm>
              <a:off x="876312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10666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6080" y="297180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Guiding Principals 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on IDPs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62920" y="1295280"/>
            <a:ext cx="1828800" cy="4800600"/>
            <a:chOff x="7162920" y="1295280"/>
            <a:chExt cx="1828800" cy="4800600"/>
          </a:xfrm>
        </p:grpSpPr>
        <p:sp>
          <p:nvSpPr>
            <p:cNvPr id="342" name=""/>
            <p:cNvSpPr/>
            <p:nvPr/>
          </p:nvSpPr>
          <p:spPr>
            <a:xfrm>
              <a:off x="7620120" y="12952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62920" y="548640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wanda genocide, RC/RC Code of Con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77320" y="167652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324480" y="1295280"/>
            <a:ext cx="1524240" cy="2286000"/>
            <a:chOff x="6324480" y="1295280"/>
            <a:chExt cx="1524240" cy="2286000"/>
          </a:xfrm>
        </p:grpSpPr>
        <p:sp>
          <p:nvSpPr>
            <p:cNvPr id="346" name=""/>
            <p:cNvSpPr/>
            <p:nvPr/>
          </p:nvSpPr>
          <p:spPr>
            <a:xfrm>
              <a:off x="6553080" y="12952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24480" y="297180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thiopian Fa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86600" y="16765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802D-4326-49B1-AC9B-7F0BD0D165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ccccff"/>
                </a:solidFill>
                <a:latin typeface="Arial"/>
              </a:rPr>
              <a:t>Tools to put principles and values int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297180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Chapter incl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5812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666880" y="1066680"/>
            <a:ext cx="2133720" cy="681120"/>
            <a:chOff x="2666880" y="1066680"/>
            <a:chExt cx="2133720" cy="681120"/>
          </a:xfrm>
        </p:grpSpPr>
        <p:sp>
          <p:nvSpPr>
            <p:cNvPr id="58" name=""/>
            <p:cNvSpPr/>
            <p:nvPr/>
          </p:nvSpPr>
          <p:spPr>
            <a:xfrm>
              <a:off x="2666880" y="1066680"/>
              <a:ext cx="19051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What is Sphere?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6880" y="1066680"/>
              <a:ext cx="2133720" cy="54468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867280" y="4267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49528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051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Cod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f Con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05120"/>
            <a:ext cx="1633680" cy="5331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1676520"/>
            <a:ext cx="1676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2004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2176560" y="2095560"/>
            <a:ext cx="528480" cy="156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666880" y="1905120"/>
            <a:ext cx="2133720" cy="917280"/>
            <a:chOff x="2666880" y="1905120"/>
            <a:chExt cx="2133720" cy="917280"/>
          </a:xfrm>
        </p:grpSpPr>
        <p:sp>
          <p:nvSpPr>
            <p:cNvPr id="67" name=""/>
            <p:cNvSpPr/>
            <p:nvPr/>
          </p:nvSpPr>
          <p:spPr>
            <a:xfrm>
              <a:off x="2666880" y="1905120"/>
              <a:ext cx="1676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he Humanitarian Char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6880" y="1905120"/>
              <a:ext cx="2133720" cy="5331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31200">
              <a:off x="3351960" y="2514240"/>
              <a:ext cx="685800" cy="304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666880" y="2895480"/>
            <a:ext cx="2895840" cy="3048120"/>
            <a:chOff x="2666880" y="2895480"/>
            <a:chExt cx="2895840" cy="3048120"/>
          </a:xfrm>
        </p:grpSpPr>
        <p:sp>
          <p:nvSpPr>
            <p:cNvPr id="71" name=""/>
            <p:cNvSpPr/>
            <p:nvPr/>
          </p:nvSpPr>
          <p:spPr>
            <a:xfrm>
              <a:off x="2666880" y="2895480"/>
              <a:ext cx="21337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66880" y="2895480"/>
              <a:ext cx="1905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ndards common to all se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3200400"/>
              <a:ext cx="0" cy="27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666880" y="3580920"/>
            <a:ext cx="2895840" cy="533880"/>
            <a:chOff x="2666880" y="3580920"/>
            <a:chExt cx="2895840" cy="533880"/>
          </a:xfrm>
        </p:grpSpPr>
        <p:sp>
          <p:nvSpPr>
            <p:cNvPr id="76" name=""/>
            <p:cNvSpPr/>
            <p:nvPr/>
          </p:nvSpPr>
          <p:spPr>
            <a:xfrm>
              <a:off x="2666880" y="3581280"/>
              <a:ext cx="21337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666880" y="3580920"/>
              <a:ext cx="2895840" cy="533880"/>
              <a:chOff x="2666880" y="3580920"/>
              <a:chExt cx="2895840" cy="533880"/>
            </a:xfrm>
          </p:grpSpPr>
          <p:sp>
            <p:nvSpPr>
              <p:cNvPr id="78" name=""/>
              <p:cNvSpPr/>
              <p:nvPr/>
            </p:nvSpPr>
            <p:spPr>
              <a:xfrm>
                <a:off x="2666880" y="3581280"/>
                <a:ext cx="22100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Water Supply, Sanitation and Hygiene Promo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6199400">
                <a:off x="4726440" y="3730680"/>
                <a:ext cx="52884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105520" y="38098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" name=""/>
          <p:cNvGrpSpPr/>
          <p:nvPr/>
        </p:nvGrpSpPr>
        <p:grpSpPr>
          <a:xfrm>
            <a:off x="2666880" y="4267080"/>
            <a:ext cx="2895840" cy="533520"/>
            <a:chOff x="2666880" y="4267080"/>
            <a:chExt cx="2895840" cy="533520"/>
          </a:xfrm>
        </p:grpSpPr>
        <p:sp>
          <p:nvSpPr>
            <p:cNvPr id="82" name=""/>
            <p:cNvSpPr/>
            <p:nvPr/>
          </p:nvSpPr>
          <p:spPr>
            <a:xfrm>
              <a:off x="2666880" y="426708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ood Security, Nutrition and Food A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66880" y="4267080"/>
              <a:ext cx="21337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199400">
              <a:off x="4725000" y="4421880"/>
              <a:ext cx="52848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055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666880" y="4952520"/>
            <a:ext cx="2895840" cy="533880"/>
            <a:chOff x="2666880" y="4952520"/>
            <a:chExt cx="2895840" cy="533880"/>
          </a:xfrm>
        </p:grpSpPr>
        <p:sp>
          <p:nvSpPr>
            <p:cNvPr id="87" name=""/>
            <p:cNvSpPr/>
            <p:nvPr/>
          </p:nvSpPr>
          <p:spPr>
            <a:xfrm>
              <a:off x="2666880" y="4952880"/>
              <a:ext cx="1905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helter, Settlement and Non-Food i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6880" y="4952880"/>
              <a:ext cx="21337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199400">
              <a:off x="4726440" y="5102280"/>
              <a:ext cx="52884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05520" y="5181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666880" y="5638680"/>
            <a:ext cx="2895840" cy="533520"/>
            <a:chOff x="2666880" y="5638680"/>
            <a:chExt cx="2895840" cy="533520"/>
          </a:xfrm>
        </p:grpSpPr>
        <p:sp>
          <p:nvSpPr>
            <p:cNvPr id="92" name=""/>
            <p:cNvSpPr/>
            <p:nvPr/>
          </p:nvSpPr>
          <p:spPr>
            <a:xfrm>
              <a:off x="2666880" y="5638680"/>
              <a:ext cx="1676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ealth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6880" y="5638680"/>
              <a:ext cx="21337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199400">
              <a:off x="4726800" y="5793480"/>
              <a:ext cx="52848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05520" y="59436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8AC7-2903-4E76-9407-ABA923113F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400" spc="-1" strike="noStrike">
                <a:solidFill>
                  <a:srgbClr val="ccccff"/>
                </a:solidFill>
                <a:latin typeface="Arial"/>
              </a:rPr>
              <a:t>Why is the Sphere handbook neede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Post-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Rwanda 1994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- Multi-donor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valua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Unnecessary death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295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NGO concern with quality and accountability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- has been ongo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Historic practice no longer sufficien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- Increasing complexity of disaster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- Numbers of disasters increasing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- Changing nature of humanitarian community and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 increasing diversity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number of actor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different measur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of succes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8B27-BF2A-4CA4-8E83-BB47E16F61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158920" cy="2159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Extensive consul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837720" y="3733560"/>
            <a:ext cx="1676520" cy="1143000"/>
          </a:xfrm>
          <a:prstGeom prst="wedgeRoundRectCallout">
            <a:avLst>
              <a:gd name="adj1" fmla="val -121208"/>
              <a:gd name="adj2" fmla="val 81384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000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2666880" y="5105520"/>
            <a:ext cx="2286000" cy="914400"/>
          </a:xfrm>
          <a:prstGeom prst="wedgeRoundRectCallout">
            <a:avLst>
              <a:gd name="adj1" fmla="val -23819"/>
              <a:gd name="adj2" fmla="val 194092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5714640" y="4724280"/>
            <a:ext cx="2895480" cy="990720"/>
          </a:xfrm>
          <a:prstGeom prst="wedgeRoundRectCallout">
            <a:avLst>
              <a:gd name="adj1" fmla="val 81796"/>
              <a:gd name="adj2" fmla="val 144550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80 count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ound the wor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95880" y="1219320"/>
            <a:ext cx="2438640" cy="925560"/>
            <a:chOff x="6095880" y="1219320"/>
            <a:chExt cx="2438640" cy="925560"/>
          </a:xfrm>
        </p:grpSpPr>
        <p:sp>
          <p:nvSpPr>
            <p:cNvPr id="106" name=""/>
            <p:cNvSpPr/>
            <p:nvPr/>
          </p:nvSpPr>
          <p:spPr>
            <a:xfrm>
              <a:off x="6095880" y="1219320"/>
              <a:ext cx="2438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2400" spc="-1" strike="noStrike">
                  <a:solidFill>
                    <a:srgbClr val="0066cc"/>
                  </a:solidFill>
                  <a:latin typeface="Arial Black"/>
                </a:rPr>
                <a:t>2004</a:t>
              </a:r>
              <a:r>
                <a:rPr b="0" lang="fr-CH" sz="2400" spc="-1" strike="noStrike">
                  <a:solidFill>
                    <a:srgbClr val="0066cc"/>
                  </a:solidFill>
                  <a:latin typeface="Arial"/>
                </a:rPr>
                <a:t> handbook </a:t>
              </a:r>
              <a:br>
                <a:rPr sz="2400"/>
              </a:br>
              <a:r>
                <a:rPr b="0" lang="fr-CH" sz="2400" spc="-1" strike="noStrike">
                  <a:solidFill>
                    <a:srgbClr val="0066cc"/>
                  </a:solidFill>
                  <a:latin typeface="Arial"/>
                </a:rPr>
                <a:t>revised e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1219320"/>
              <a:ext cx="2438640" cy="9255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920" y="1219320"/>
            <a:ext cx="2743200" cy="925560"/>
            <a:chOff x="304920" y="1219320"/>
            <a:chExt cx="2743200" cy="925560"/>
          </a:xfrm>
        </p:grpSpPr>
        <p:sp>
          <p:nvSpPr>
            <p:cNvPr id="109" name=""/>
            <p:cNvSpPr/>
            <p:nvPr/>
          </p:nvSpPr>
          <p:spPr>
            <a:xfrm>
              <a:off x="380880" y="1219320"/>
              <a:ext cx="2286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2400" spc="-1" strike="noStrike">
                  <a:solidFill>
                    <a:srgbClr val="0066cc"/>
                  </a:solidFill>
                  <a:latin typeface="Arial Black"/>
                </a:rPr>
                <a:t>1997</a:t>
              </a:r>
              <a:r>
                <a:rPr b="0" lang="fr-CH" sz="2400" spc="-1" strike="noStrike">
                  <a:solidFill>
                    <a:srgbClr val="0066cc"/>
                  </a:solidFill>
                  <a:latin typeface="Arial"/>
                </a:rPr>
                <a:t> Initial</a:t>
              </a:r>
              <a:br>
                <a:rPr sz="2400"/>
              </a:br>
              <a:r>
                <a:rPr b="0" lang="fr-CH" sz="2400" spc="-1" strike="noStrike">
                  <a:solidFill>
                    <a:srgbClr val="0066cc"/>
                  </a:solidFill>
                  <a:latin typeface="Arial"/>
                </a:rPr>
                <a:t>consul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1219320"/>
              <a:ext cx="2057400" cy="9255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62320" y="1523880"/>
              <a:ext cx="685800" cy="381240"/>
            </a:xfrm>
            <a:prstGeom prst="rightArrow">
              <a:avLst>
                <a:gd name="adj1" fmla="val 50000"/>
                <a:gd name="adj2" fmla="val 449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48120" y="1219320"/>
            <a:ext cx="3047760" cy="925560"/>
            <a:chOff x="3048120" y="1219320"/>
            <a:chExt cx="3047760" cy="925560"/>
          </a:xfrm>
        </p:grpSpPr>
        <p:grpSp>
          <p:nvGrpSpPr>
            <p:cNvPr id="113" name=""/>
            <p:cNvGrpSpPr/>
            <p:nvPr/>
          </p:nvGrpSpPr>
          <p:grpSpPr>
            <a:xfrm>
              <a:off x="3048120" y="1219320"/>
              <a:ext cx="2457360" cy="925560"/>
              <a:chOff x="3048120" y="1219320"/>
              <a:chExt cx="2457360" cy="925560"/>
            </a:xfrm>
          </p:grpSpPr>
          <p:sp>
            <p:nvSpPr>
              <p:cNvPr id="114" name=""/>
              <p:cNvSpPr/>
              <p:nvPr/>
            </p:nvSpPr>
            <p:spPr>
              <a:xfrm>
                <a:off x="3056040" y="1219320"/>
                <a:ext cx="243036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fr-CH" sz="2400" spc="-1" strike="noStrike">
                    <a:solidFill>
                      <a:srgbClr val="0066cc"/>
                    </a:solidFill>
                    <a:latin typeface="Arial Black"/>
                  </a:rPr>
                  <a:t>2000</a:t>
                </a:r>
                <a:r>
                  <a:rPr b="0" lang="fr-CH" sz="2400" spc="-1" strike="noStrike">
                    <a:solidFill>
                      <a:srgbClr val="0066cc"/>
                    </a:solidFill>
                    <a:latin typeface="Arial"/>
                  </a:rPr>
                  <a:t> handbook launch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8120" y="1219320"/>
                <a:ext cx="2457360" cy="925560"/>
              </a:xfrm>
              <a:prstGeom prst="rect">
                <a:avLst/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486400" y="1523880"/>
              <a:ext cx="609480" cy="381240"/>
            </a:xfrm>
            <a:prstGeom prst="rightArrow">
              <a:avLst>
                <a:gd name="adj1" fmla="val 50000"/>
                <a:gd name="adj2" fmla="val 399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88040" y="2438280"/>
            <a:ext cx="14464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2458-4E17-449F-9566-1FAD7432CF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33920" y="327672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114800"/>
            <a:ext cx="8229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5867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74320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Sphere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29528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rgument for universal assistanc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0480" y="4191120"/>
            <a:ext cx="845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hieve consensus on technical standards and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438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greement on core principles and actions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867D-76BE-462E-8F3C-7727AA0B00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Main project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800" y="1600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Awareness rai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6800" y="2438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stributing the handbook and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6800" y="32767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echnical revisions of the hand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6800" y="4114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raining on how to apply the hand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6800" y="4952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to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7F1C-E846-4426-AC80-D135AC5A8A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400" spc="-1" strike="noStrike">
                <a:solidFill>
                  <a:srgbClr val="ccccff"/>
                </a:solidFill>
                <a:latin typeface="Arial"/>
              </a:rPr>
              <a:t>Management and fun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Additional fund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Australia, Belgium, Canada,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enmark, England, Finland,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reland, New Zealand, Norway, The Netherlands, Sweden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Spain, United Kingdom, United States and E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295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Member networks of Steering Committee for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  Humanitarian Respons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- 7 networks plus ICRC &amp; IFRC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VOICE and IC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46F9-A8B8-476D-8AA1-05D7F6A3E4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8:18:32Z</dcterms:created>
  <dc:creator>Phil</dc:creator>
  <dc:description/>
  <dc:language>en-US</dc:language>
  <cp:lastModifiedBy>Phil</cp:lastModifiedBy>
  <dcterms:modified xsi:type="dcterms:W3CDTF">2003-09-10T19:14:17Z</dcterms:modified>
  <cp:revision>185</cp:revision>
  <dc:subject/>
  <dc:title>No Slide Title</dc:title>
</cp:coreProperties>
</file>