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C28F4-5ADB-449B-8CB0-96CD1B151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CDB91-9A71-41F4-9FAA-2B7EA5B4E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D9E66-E33F-4ADB-B58C-53CD6313C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F9CB6-8DD8-494F-BE14-226BDEA925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F1677-52A8-47C1-BA18-A14A5F66D2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C0F31-A47A-4779-A4F7-444E38CED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F7F9E-529B-46BA-8FFF-FBC64CDA8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3AD78-C2A6-4710-BE0A-189B2E029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984E-603F-4D35-8BA1-B3C94786F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CD12E-02B8-45E2-A558-4417BB052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FC6A-79F4-4A99-9BCB-0B3ABB221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97F51-28F0-4AE4-9E55-8EFF03ABE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r>
              <a:rPr b="1" lang="fr-FR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Le Projet Sphère</a:t>
            </a: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358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27080" y="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890200" cy="1016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Module 1</a:t>
            </a:r>
            <a:br>
              <a:rPr sz="4400"/>
            </a:br>
            <a:br>
              <a:rPr sz="4400"/>
            </a:br>
            <a:r>
              <a:rPr b="0" lang="fr-CH" sz="3600" spc="-1" strike="noStrike">
                <a:solidFill>
                  <a:srgbClr val="ffffff"/>
                </a:solidFill>
                <a:latin typeface="Arial"/>
              </a:rPr>
              <a:t>Session 1</a:t>
            </a: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Qu’est-ce que Sphère et pourquoi est-il im</a:t>
            </a:r>
            <a:r>
              <a:rPr b="0" lang="fr-CH" sz="3200" spc="-1" strike="noStrike">
                <a:solidFill>
                  <a:srgbClr val="000000"/>
                </a:solidFill>
                <a:latin typeface="Arial Black"/>
              </a:rPr>
              <a:t>port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019920" y="1219320"/>
          <a:ext cx="2971800" cy="59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1219320"/>
                    <a:ext cx="29718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19920" y="121932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Garamond"/>
              </a:rPr>
              <a:t>Le Projet Sphè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72E83-3AE6-4F05-8882-AA45C55604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Manuel de Sph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6800" y="1981080"/>
            <a:ext cx="7691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Charte humanitaire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 Code de conduite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 normes communes à tous les secteurs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 diagramme et la table des matières pour chaque chapitre technique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’introduction 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’index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isissez maintenant votre chapitre préféré et examinez les normes qui y figur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066680"/>
            <a:ext cx="8591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Repérez et marquez ces sections dans votre manuel pour vous permettre de trouver rapidement les sujets clé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1981080"/>
            <a:ext cx="4496040" cy="403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 Charte humanit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79640" y="1989000"/>
            <a:ext cx="4495680" cy="403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 Code de condu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1989000"/>
            <a:ext cx="4495680" cy="403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s normes communes à tous les secteu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1989000"/>
            <a:ext cx="4495680" cy="403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 diagramme et la table des matières pour chaque chapitre tech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1989000"/>
            <a:ext cx="4495680" cy="403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’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79640" y="1989000"/>
            <a:ext cx="4495680" cy="403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’ind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916280"/>
            <a:ext cx="4572000" cy="4114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hoisissez maintenant votre chapitre préféré et examinez les normes qui y figur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7FBCA-10EA-4D42-A7C7-DD8D90ADBB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Manuel de Sph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6800" y="1981080"/>
            <a:ext cx="7691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Charte humanitaire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 Code de conduite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 normes communes à tous les secteurs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 diagramme et la table des matières pour chaqu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itre technique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’introduction 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’index</a:t>
            </a: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isissez maintenant votre chapitre préféré e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inez les normes qui y figur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066680"/>
            <a:ext cx="8591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Repérez et marquez ces sections dans votre manuel pour vous permettre de trouver rapidement les sujets clé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6C4C8-AF26-4713-8E16-C9583F25E5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19920" y="4876920"/>
            <a:ext cx="1371600" cy="53316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5181480"/>
            <a:ext cx="82296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3809880"/>
            <a:ext cx="1371600" cy="53352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3352680"/>
            <a:ext cx="815364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19520" y="3048120"/>
            <a:ext cx="1371600" cy="53316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2133720"/>
            <a:ext cx="1371600" cy="53316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4114800"/>
            <a:ext cx="822960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143000"/>
            <a:ext cx="7848720" cy="121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2590920"/>
            <a:ext cx="701064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La Charte humanitaire : </a:t>
            </a:r>
            <a:r>
              <a:rPr b="0" lang="fr-CH" sz="3200" spc="-1" strike="noStrike">
                <a:solidFill>
                  <a:srgbClr val="ccccff"/>
                </a:solidFill>
                <a:latin typeface="Arial"/>
              </a:rPr>
              <a:t>S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Engagement à promouvoi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’observation des principes humanitaires fondamentau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e reconnaissance de nos propres obligations éthiqu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35268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Description des rôles, des devoirs et des responsabi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590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Énoncé des principes humanitaires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40384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Engagement à satisfaire les normes minimales de manière cohé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5105520"/>
            <a:ext cx="822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Reconnaissance du fait que notre responsabilité fondamentale est celle que nous assumons vis-à-vis de ceux que nous nous efforçons d’a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E7012-B70D-4EE5-A866-A67A132346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La Charte humanitaire : 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éclairée par le droit internat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219320"/>
            <a:ext cx="510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Droit à vivre dans la dignité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- Déclaration universelle des droits de l’homm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- Pactes relatifs aux droits civils, politiques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économiques et sociaux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- Les Conventions de Genèv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- La Convention contre la tor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- La Convention relative aux droit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 l’enf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266688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La distinction entre les  </a:t>
            </a:r>
            <a:br>
              <a:rPr sz="2000"/>
            </a:b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   combattants et les non-</a:t>
            </a: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combattants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- Les Conventions de Genèv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- La Convention relative aux droi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 l’enf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19112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Le principe de non-refoulement</a:t>
            </a:r>
            <a:br>
              <a:rPr sz="2000"/>
            </a:b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La Convention relative au statut d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éfugié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- La Convention contre la torture</a:t>
            </a:r>
            <a:br>
              <a:rPr sz="1800"/>
            </a:br>
            <a:r>
              <a:rPr b="1" lang="en-GB" sz="18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La Convention relative aux droits d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’enf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F3203-1BB2-426D-9919-B4E249DCE1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429000"/>
            <a:ext cx="8229600" cy="252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371600"/>
            <a:ext cx="8229600" cy="1600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Qu’est-ce qu’une norme minimal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600200"/>
            <a:ext cx="7691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Le niveau minimum de service à atteindre dans le cadre de l’assistance humanitaire 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6800" y="3657600"/>
            <a:ext cx="7691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Norme 1 relative au soutien nutritionnel général </a:t>
            </a:r>
            <a:r>
              <a:rPr b="0" lang="fr-CH" sz="2400" spc="-1" strike="noStrike">
                <a:solidFill>
                  <a:srgbClr val="ffffff"/>
                </a:solidFill>
                <a:latin typeface="Arial Black"/>
              </a:rPr>
              <a:t>: 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pport de nutri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4876920"/>
            <a:ext cx="7691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Les besoins nutritionnels de la population sont satisfaits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.</a:t>
            </a:r>
            <a:br>
              <a:rPr sz="2000"/>
            </a:b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f. page 90/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C2614-4242-4CE2-89DA-5EA0B18513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1143000"/>
            <a:ext cx="86868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Que sont les indicateurs clé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14300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Des signaux qui indiquent si une norme a été satisfaite.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Ils constituent une manière de mesurer et de communiquer l’impact, ou le résultat, des programmes ainsi que le processus, ou les méthodes, utilisés.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Les indicateurs peuvent être qualitatifs ou quantitatifs. 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3500280"/>
            <a:ext cx="8534160" cy="2671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3645000"/>
            <a:ext cx="8153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Indicateurs c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66cc"/>
                </a:solidFill>
                <a:latin typeface="Times New Roman"/>
              </a:rPr>
              <a:t>•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Les niveaux de malnutrition modérée se maintiennent à un seuil acceptable ou diminuent jusqu’à ce qu’ils atteignent un tel seuil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66cc"/>
                </a:solidFill>
                <a:latin typeface="Times New Roman"/>
              </a:rPr>
              <a:t>•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l n’y a pas de cas de scorbut, de pellagre ou de béribér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66cc"/>
                </a:solidFill>
                <a:latin typeface="Times New Roman"/>
              </a:rPr>
              <a:t>•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Les taux d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éropthalmie et de trou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bles liés à la carence en iode ne sont pas assez élevés pour revêtir une importance sur le plan de la santé publique (Cf. notes d’orientation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f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page 90/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22175-5D9C-4B58-B8F5-84BBC2DB80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1295280"/>
            <a:ext cx="8686800" cy="19814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Que sont les notes d’orientati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152388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Elles diffusent l’expérience, éclairent les domaines controversés et aident à utiliser les indicateurs correctement dans le contex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3733920"/>
            <a:ext cx="8534160" cy="24382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3946680"/>
            <a:ext cx="79250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 Black"/>
              </a:rPr>
              <a:t>Notes d’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 Black"/>
              </a:rPr>
              <a:t>“…</a:t>
            </a:r>
            <a:r>
              <a:rPr b="0" lang="en-GB" sz="2400" spc="-1" strike="noStrike">
                <a:solidFill>
                  <a:srgbClr val="0066cc"/>
                </a:solidFill>
                <a:latin typeface="Arial Black"/>
              </a:rPr>
              <a:t>pour décider si les niveaux de malnutrition sont acceptables il faut analyser la situation à la lumière des normes locales...”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     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0" lang="en-GB" sz="1800" spc="-1" strike="noStrike">
                <a:solidFill>
                  <a:srgbClr val="0066cc"/>
                </a:solidFill>
                <a:latin typeface="Arial"/>
              </a:rPr>
              <a:t>Cf. page 92/</a:t>
            </a:r>
            <a:r>
              <a:rPr b="1" lang="en-GB" sz="1800" spc="-1" strike="noStrike">
                <a:solidFill>
                  <a:srgbClr val="0066cc"/>
                </a:solidFill>
                <a:latin typeface="Arial"/>
              </a:rPr>
              <a:t>1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C778A-30D7-41F9-8875-E7E3A17F26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81080" y="3352680"/>
            <a:ext cx="1828800" cy="91440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1828800"/>
            <a:ext cx="1828800" cy="91440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4191120"/>
            <a:ext cx="487692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1295280"/>
            <a:ext cx="502920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743200"/>
            <a:ext cx="495288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000" spc="-1" strike="noStrike">
                <a:solidFill>
                  <a:srgbClr val="ccccff"/>
                </a:solidFill>
                <a:latin typeface="Arial"/>
              </a:rPr>
              <a:t>Normes, indicateurs clés et notes d’ori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29528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Normes mini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0480" y="4267080"/>
            <a:ext cx="540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Notes d’ori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819520"/>
            <a:ext cx="7162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Indicateurs clé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5257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rsqu’on vous le demandera, veuillez trouver des exemples de chacun des éléments ci-dessus dans votre manu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742E1-7280-415F-9D53-8EA27DE566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Pour conclure : Chan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2193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s crises humanitaires se poursuivent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810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oissance chaotique du nombre d’organisatio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itaires et d’ordres du j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31240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ions sur le personnel humanitaire pour qu’i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éfinisse, coordonne et rende des comptes, c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 façon plus efficace, sur l’assistanc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it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50292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us interagences visant à clarifier la bas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itaire de l’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E0CB-E54C-4040-B9F6-76366CEE36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657600" y="3505320"/>
            <a:ext cx="1371600" cy="53316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4800600"/>
            <a:ext cx="1371600" cy="53352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5257800"/>
            <a:ext cx="856908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133720"/>
            <a:ext cx="1371600" cy="53316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933720"/>
            <a:ext cx="856764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1125360"/>
            <a:ext cx="8569080" cy="121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2514600"/>
            <a:ext cx="8569080" cy="129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Pour conclure :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05264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La Charte humanitaire :</a:t>
            </a:r>
            <a:br>
              <a:rPr sz="20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nit un cadre pour que la reconnaissance des droits aboutiss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à l’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3886200"/>
            <a:ext cx="8142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Les indicateurs clés :</a:t>
            </a:r>
            <a:br>
              <a:rPr sz="20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t des signaux permettant de juger si les normes ont été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isfa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2590920"/>
            <a:ext cx="79200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Les normes minimales :</a:t>
            </a:r>
            <a:br>
              <a:rPr sz="20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t des normes qu’il faut tenter de satisfaire</a:t>
            </a:r>
            <a:br>
              <a:rPr sz="2000"/>
            </a:b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nent les moyens de plan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5257800"/>
            <a:ext cx="8353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Les notes d’orientation :</a:t>
            </a:r>
            <a:br>
              <a:rPr sz="2000"/>
            </a:b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nissent des informations qui aident à appliquer les indicateur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ns le 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5A8ED-F275-415F-94AF-B7F690C2F5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200" spc="-1" strike="noStrike">
                <a:solidFill>
                  <a:srgbClr val="ccccff"/>
                </a:solidFill>
                <a:latin typeface="Arial"/>
              </a:rPr>
              <a:t>Objecti</a:t>
            </a: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fs de l’apprentissage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liqu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ourquoi le Projet Sphère est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04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écrire la structure et 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’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tion du Projet Sphè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58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écrire la structure de base du manuel de Sph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038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expliquer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la différence entre 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les normes minimal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les indicateurs clé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les notes d’ori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cuter des tendances ou des événements actuels qui ont un effet sur notre manière de comprendre </a:t>
            </a:r>
            <a:r>
              <a:rPr b="0" lang="en-GB" sz="6000" spc="-1" strike="noStrike">
                <a:solidFill>
                  <a:srgbClr val="0066cc"/>
                </a:solidFill>
                <a:latin typeface="Arial"/>
              </a:rPr>
              <a:t>“l’humanitarisme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98583-CBCE-41BF-B9FC-F4CF609832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PAUSE </a:t>
            </a:r>
            <a:r>
              <a:rPr b="0" lang="fr-CH" sz="3200" spc="-1" strike="noStrike">
                <a:solidFill>
                  <a:srgbClr val="cccc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27080" y="990720"/>
            <a:ext cx="8889840" cy="303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46C8C-CF4E-4046-9505-DBB5523A27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Module 1</a:t>
            </a:r>
            <a:br>
              <a:rPr sz="4400"/>
            </a:br>
            <a:br>
              <a:rPr sz="4400"/>
            </a:br>
            <a:r>
              <a:rPr b="0" lang="fr-CH" sz="3600" spc="-1" strike="noStrike">
                <a:solidFill>
                  <a:srgbClr val="ffffff"/>
                </a:solidFill>
                <a:latin typeface="Arial"/>
              </a:rPr>
              <a:t>Session 2</a:t>
            </a: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Comment fonctionne le manuel de Sphère </a:t>
            </a:r>
            <a:r>
              <a:rPr b="0" lang="fr-CH" sz="3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019920" y="1219320"/>
          <a:ext cx="2971800" cy="59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1219320"/>
                    <a:ext cx="29718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019920" y="121932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Garamond"/>
              </a:rPr>
              <a:t>Le Projet Sphè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8D5A4-A21E-4614-8D13-F32AE60904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fs de l’apprenti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0666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cuter des façons dont le manuel de Sphèr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ut être appliqué aux travaux humanitaires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096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uligner le rôle du manuel de Sphère dan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’atténuation des effets de la partialité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3526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ébattre des défis et des possibilités s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égageant du manuel de Sphè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4956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iner les données et les expériences tiré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 la pra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B8FB-FD50-4DD1-BDF7-73E9EB67E3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295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nforcer le plaidoyer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905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Mesurer les perform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2514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Rationalis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’utilisation des res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31240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mettre la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oordination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plus de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0 lang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4114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Éclairer les programmes de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724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omouvoir la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5257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val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r les politiques générales et les procé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97160-2951-4806-9B2C-F3AAC982BF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lications : Cycle du 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523880" y="1902240"/>
            <a:ext cx="2820960" cy="1526760"/>
            <a:chOff x="1523880" y="1902240"/>
            <a:chExt cx="2820960" cy="1526760"/>
          </a:xfrm>
        </p:grpSpPr>
        <p:sp>
          <p:nvSpPr>
            <p:cNvPr id="240" name=""/>
            <p:cNvSpPr/>
            <p:nvPr/>
          </p:nvSpPr>
          <p:spPr>
            <a:xfrm>
              <a:off x="1523880" y="2743200"/>
              <a:ext cx="2362320" cy="6858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É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alu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0800">
              <a:off x="3581280" y="1903320"/>
              <a:ext cx="762120" cy="83844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962520" y="4800600"/>
            <a:ext cx="3657600" cy="1218960"/>
            <a:chOff x="3962520" y="4800600"/>
            <a:chExt cx="3657600" cy="1218960"/>
          </a:xfrm>
        </p:grpSpPr>
        <p:sp>
          <p:nvSpPr>
            <p:cNvPr id="243" name=""/>
            <p:cNvSpPr/>
            <p:nvPr/>
          </p:nvSpPr>
          <p:spPr>
            <a:xfrm>
              <a:off x="5105520" y="4800600"/>
              <a:ext cx="2514600" cy="121896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lanification des program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5125680"/>
              <a:ext cx="1143000" cy="568440"/>
            </a:xfrm>
            <a:prstGeom prst="leftArrow">
              <a:avLst>
                <a:gd name="adj1" fmla="val 50000"/>
                <a:gd name="adj2" fmla="val 5026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572000" y="1295280"/>
            <a:ext cx="3516120" cy="1226880"/>
            <a:chOff x="4572000" y="1295280"/>
            <a:chExt cx="3516120" cy="1226880"/>
          </a:xfrm>
        </p:grpSpPr>
        <p:sp>
          <p:nvSpPr>
            <p:cNvPr id="246" name=""/>
            <p:cNvSpPr/>
            <p:nvPr/>
          </p:nvSpPr>
          <p:spPr>
            <a:xfrm>
              <a:off x="4572000" y="1295280"/>
              <a:ext cx="2819520" cy="84384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Évaluation initi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316600">
              <a:off x="7264800" y="1702080"/>
              <a:ext cx="937800" cy="685800"/>
            </a:xfrm>
            <a:custGeom>
              <a:avLst/>
              <a:gdLst>
                <a:gd name="textAreaLeft" fmla="*/ 0 w 937800"/>
                <a:gd name="textAreaRight" fmla="*/ 938160 w 937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28600" y="1371600"/>
            <a:ext cx="4191120" cy="609480"/>
            <a:chOff x="228600" y="1371600"/>
            <a:chExt cx="4191120" cy="609480"/>
          </a:xfrm>
        </p:grpSpPr>
        <p:sp>
          <p:nvSpPr>
            <p:cNvPr id="249" name=""/>
            <p:cNvSpPr/>
            <p:nvPr/>
          </p:nvSpPr>
          <p:spPr>
            <a:xfrm>
              <a:off x="228600" y="1371600"/>
              <a:ext cx="2971800" cy="609480"/>
            </a:xfrm>
            <a:prstGeom prst="rect">
              <a:avLst/>
            </a:prstGeom>
            <a:solidFill>
              <a:srgbClr val="0066cc"/>
            </a:solidFill>
            <a:ln w="507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Prépa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00400" y="1523880"/>
              <a:ext cx="1219320" cy="304920"/>
            </a:xfrm>
            <a:prstGeom prst="rightArrow">
              <a:avLst>
                <a:gd name="adj1" fmla="val 50000"/>
                <a:gd name="adj2" fmla="val 99970"/>
              </a:avLst>
            </a:prstGeom>
            <a:solidFill>
              <a:srgbClr val="0066cc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523880" y="3654720"/>
            <a:ext cx="2362320" cy="2364480"/>
            <a:chOff x="1523880" y="3654720"/>
            <a:chExt cx="2362320" cy="2364480"/>
          </a:xfrm>
        </p:grpSpPr>
        <p:sp>
          <p:nvSpPr>
            <p:cNvPr id="252" name=""/>
            <p:cNvSpPr/>
            <p:nvPr/>
          </p:nvSpPr>
          <p:spPr>
            <a:xfrm>
              <a:off x="1523880" y="4838400"/>
              <a:ext cx="2362320" cy="11808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Suivi de l’imp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34200">
              <a:off x="1504800" y="3980880"/>
              <a:ext cx="1180800" cy="533520"/>
            </a:xfrm>
            <a:prstGeom prst="leftArrow">
              <a:avLst>
                <a:gd name="adj1" fmla="val 50000"/>
                <a:gd name="adj2" fmla="val 55331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781680" y="2743200"/>
            <a:ext cx="1981440" cy="2817360"/>
            <a:chOff x="6781680" y="2743200"/>
            <a:chExt cx="1981440" cy="2817360"/>
          </a:xfrm>
        </p:grpSpPr>
        <p:sp>
          <p:nvSpPr>
            <p:cNvPr id="255" name=""/>
            <p:cNvSpPr/>
            <p:nvPr/>
          </p:nvSpPr>
          <p:spPr>
            <a:xfrm>
              <a:off x="6781680" y="2743200"/>
              <a:ext cx="1981440" cy="121932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Analyse des problè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7695720" y="3962520"/>
              <a:ext cx="762480" cy="1598040"/>
              <a:chOff x="7695720" y="3962520"/>
              <a:chExt cx="762480" cy="1598040"/>
            </a:xfrm>
          </p:grpSpPr>
          <p:sp>
            <p:nvSpPr>
              <p:cNvPr id="257" name=""/>
              <p:cNvSpPr/>
              <p:nvPr/>
            </p:nvSpPr>
            <p:spPr>
              <a:xfrm rot="10800000">
                <a:off x="7695720" y="4647960"/>
                <a:ext cx="762120" cy="912600"/>
              </a:xfrm>
              <a:custGeom>
                <a:avLst/>
                <a:gdLst>
                  <a:gd name="textAreaLeft" fmla="*/ 0 w 762120"/>
                  <a:gd name="textAreaRight" fmla="*/ 762480 w 7621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229600" y="3962520"/>
                <a:ext cx="228600" cy="7617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0" y="2374920"/>
            <a:ext cx="16066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0" name="hbfr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161136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9DFAD-8DDA-4FEF-9BD1-08E659CD97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1143000"/>
            <a:ext cx="8534160" cy="5181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Utilisation de Sphère pour atténuer les effets de la parti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1295280"/>
            <a:ext cx="236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Contexte communautaire lar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215040" y="2514600"/>
            <a:ext cx="1862280" cy="18302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943600" y="434340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Pour une personne munie d’un marteau, tous les problèmes ressemblen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à des clous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95280" y="1125360"/>
            <a:ext cx="5333760" cy="4578120"/>
            <a:chOff x="395280" y="1125360"/>
            <a:chExt cx="5333760" cy="4578120"/>
          </a:xfrm>
        </p:grpSpPr>
        <p:sp>
          <p:nvSpPr>
            <p:cNvPr id="267" name=""/>
            <p:cNvSpPr/>
            <p:nvPr/>
          </p:nvSpPr>
          <p:spPr>
            <a:xfrm>
              <a:off x="1365120" y="1125360"/>
              <a:ext cx="3297240" cy="3297240"/>
            </a:xfrm>
            <a:prstGeom prst="ellipse">
              <a:avLst/>
            </a:prstGeom>
            <a:solidFill>
              <a:srgbClr val="00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5280" y="2406240"/>
              <a:ext cx="3297240" cy="32972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31800" y="2385720"/>
              <a:ext cx="3297240" cy="3297240"/>
            </a:xfrm>
            <a:prstGeom prst="ellipse">
              <a:avLst/>
            </a:prstGeom>
            <a:solidFill>
              <a:srgbClr val="0066cc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676520" y="1600200"/>
            <a:ext cx="2819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Black"/>
              </a:rPr>
              <a:t>Mandat ou spécialité organisationnel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Arial Black"/>
              </a:rPr>
              <a:t>(le)</a:t>
            </a:r>
            <a:r>
              <a:rPr b="0" lang="fr-CH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68360" y="3519360"/>
            <a:ext cx="18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Black"/>
              </a:rPr>
              <a:t>Partialité</a:t>
            </a:r>
            <a:r>
              <a:rPr b="0" lang="fr-CH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4357800"/>
            <a:ext cx="2590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200" spc="-1" strike="noStrike">
                <a:solidFill>
                  <a:srgbClr val="ffffff"/>
                </a:solidFill>
                <a:latin typeface="Arial Black"/>
              </a:rPr>
              <a:t>Ressources</a:t>
            </a:r>
            <a:r>
              <a:rPr b="0" lang="fr-CH" sz="2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434340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Black"/>
              </a:rPr>
              <a:t>Besoins humanita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29CBE-B9BB-4FFA-AA34-02D75B8AB1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éfis et possi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39625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ur les applications citées précédemment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44956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iscutez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 défis, des risques ou des contrai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51055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iscutez d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ilités ou des avan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55627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 Black"/>
              </a:rPr>
              <a:t>3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iscutez des stratégies pour atténuer 1 et optimiser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00280" y="990720"/>
            <a:ext cx="5600520" cy="29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A2EC-E1A1-4FFD-A738-EB3907F3F6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 que Sphère représ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12193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e déclaration que les populations affectées par les conflits et les calamités ont le droit de recevoir une assis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20574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 engagement dans le sens d’un niveau défini et mesurable de compétence et de résulta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28954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 condensé des connaissances et des expériences mondiales actuelles en un outil pratique pour :</a:t>
            </a:r>
            <a:br>
              <a:rPr sz="22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personn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leurs organisations respectiv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la communauté humanitai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46483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 défi lancé à tous les acteurs de la communauté humanitaire pour qu’ils assurent une redevabilité et une qualité plus gran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AED8E-3901-4D88-A90F-A90D48357D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ww.sphereproject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2193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mi les 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ces du site web figure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17524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 manuel en anglais, français, espagnol, russe et arab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7240" y="2286000"/>
            <a:ext cx="7390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 Matériels de formation et le Guide du 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819520"/>
            <a:ext cx="5486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 études de 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3352680"/>
            <a:ext cx="518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 enseignements tiré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l’institutionnalisation d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h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4360" y="449568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 rapports annu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0292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 bulletins d’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952880" y="3200400"/>
            <a:ext cx="4038840" cy="301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8E1A7-A35D-40D7-A23C-2E1E469E445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27080" y="1041480"/>
            <a:ext cx="8889840" cy="10159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600" spc="-1" strike="noStrike">
                <a:solidFill>
                  <a:srgbClr val="ccccff"/>
                </a:solidFill>
                <a:latin typeface="Arial"/>
              </a:rPr>
              <a:t>Module 1</a:t>
            </a:r>
            <a:br>
              <a:rPr sz="4400"/>
            </a:br>
            <a:br>
              <a:rPr sz="44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Kit d’exercices facultat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019920" y="1219320"/>
          <a:ext cx="2971800" cy="59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1219320"/>
                    <a:ext cx="29718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6019920" y="121932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Garamond"/>
              </a:rPr>
              <a:t>Le Projet Sphè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19C18-85F5-413B-986A-92D8A9AA88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7080" y="838080"/>
            <a:ext cx="8889840" cy="51818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200" spc="-1" strike="noStrike">
                <a:solidFill>
                  <a:srgbClr val="ccccff"/>
                </a:solidFill>
                <a:latin typeface="Arial"/>
              </a:rPr>
              <a:t>Context</a:t>
            </a: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e et cont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0" t="0" r="0" b="37503"/>
          <a:stretch/>
        </p:blipFill>
        <p:spPr>
          <a:xfrm>
            <a:off x="838080" y="1447920"/>
            <a:ext cx="3079800" cy="3429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1040" y="4946760"/>
            <a:ext cx="141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– UNHCR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rcRect l="0" t="0" r="39443" b="0"/>
          <a:stretch/>
        </p:blipFill>
        <p:spPr>
          <a:xfrm>
            <a:off x="4038480" y="1447920"/>
            <a:ext cx="35053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F7CA3-FA2E-4BA1-84D2-A4873E4F88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Exemples d’événements marquants dans l’humanitar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676520"/>
            <a:ext cx="8382240" cy="0"/>
          </a:xfrm>
          <a:prstGeom prst="line">
            <a:avLst/>
          </a:prstGeom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990720" y="1066680"/>
            <a:ext cx="1523880" cy="2438640"/>
            <a:chOff x="990720" y="1066680"/>
            <a:chExt cx="1523880" cy="2438640"/>
          </a:xfrm>
        </p:grpSpPr>
        <p:sp>
          <p:nvSpPr>
            <p:cNvPr id="302" name=""/>
            <p:cNvSpPr/>
            <p:nvPr/>
          </p:nvSpPr>
          <p:spPr>
            <a:xfrm>
              <a:off x="1295280" y="1066680"/>
              <a:ext cx="1219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1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2895480"/>
              <a:ext cx="12189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Pes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00200" y="16765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219320" y="1066680"/>
            <a:ext cx="1904760" cy="4191120"/>
            <a:chOff x="1219320" y="1066680"/>
            <a:chExt cx="1904760" cy="4191120"/>
          </a:xfrm>
        </p:grpSpPr>
        <p:sp>
          <p:nvSpPr>
            <p:cNvPr id="306" name=""/>
            <p:cNvSpPr/>
            <p:nvPr/>
          </p:nvSpPr>
          <p:spPr>
            <a:xfrm>
              <a:off x="1828800" y="1066680"/>
              <a:ext cx="1219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7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19320" y="4648320"/>
              <a:ext cx="1904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nnaissances de santé publique allongent l’espérance de vie huma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33720" y="1676520"/>
              <a:ext cx="0" cy="28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743200" y="1066680"/>
            <a:ext cx="1523880" cy="4191120"/>
            <a:chOff x="2743200" y="1066680"/>
            <a:chExt cx="1523880" cy="4191120"/>
          </a:xfrm>
        </p:grpSpPr>
        <p:sp>
          <p:nvSpPr>
            <p:cNvPr id="310" name=""/>
            <p:cNvSpPr/>
            <p:nvPr/>
          </p:nvSpPr>
          <p:spPr>
            <a:xfrm>
              <a:off x="2895480" y="1066680"/>
              <a:ext cx="1219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1919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1ère G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43200" y="4648320"/>
              <a:ext cx="1523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ave the Children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ociété des N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05320" y="1676520"/>
              <a:ext cx="0" cy="28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2133720" y="1066680"/>
            <a:ext cx="1218960" cy="2514600"/>
            <a:chOff x="2133720" y="1066680"/>
            <a:chExt cx="1218960" cy="2514600"/>
          </a:xfrm>
        </p:grpSpPr>
        <p:sp>
          <p:nvSpPr>
            <p:cNvPr id="314" name=""/>
            <p:cNvSpPr/>
            <p:nvPr/>
          </p:nvSpPr>
          <p:spPr>
            <a:xfrm>
              <a:off x="2133720" y="1066680"/>
              <a:ext cx="12189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Solferino 1859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09680" y="2971800"/>
              <a:ext cx="99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roix-Rou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43200" y="16765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429000" y="1066680"/>
            <a:ext cx="1371600" cy="2514600"/>
            <a:chOff x="3429000" y="1066680"/>
            <a:chExt cx="1371600" cy="2514600"/>
          </a:xfrm>
        </p:grpSpPr>
        <p:sp>
          <p:nvSpPr>
            <p:cNvPr id="318" name=""/>
            <p:cNvSpPr/>
            <p:nvPr/>
          </p:nvSpPr>
          <p:spPr>
            <a:xfrm>
              <a:off x="3505320" y="1066680"/>
              <a:ext cx="12189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rial"/>
                </a:rPr>
                <a:t>1945</a:t>
              </a:r>
              <a:br>
                <a:rPr sz="1200"/>
              </a:br>
              <a:br>
                <a:rPr sz="1200"/>
              </a:br>
              <a:r>
                <a:rPr b="1" lang="en-GB" sz="1200" spc="-1" strike="noStrike">
                  <a:solidFill>
                    <a:srgbClr val="ff0000"/>
                  </a:solidFill>
                  <a:latin typeface="Arial"/>
                </a:rPr>
                <a:t>2ème G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29000" y="2971800"/>
              <a:ext cx="1371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fr-CH" sz="1600" spc="-1" strike="noStrike">
                  <a:solidFill>
                    <a:srgbClr val="ff0000"/>
                  </a:solidFill>
                  <a:latin typeface="Arial"/>
                </a:rPr>
                <a:t>Charte de l’ONU</a:t>
              </a:r>
              <a:br>
                <a:rPr sz="1600"/>
              </a:br>
              <a:r>
                <a:rPr b="1" lang="fr-CH" sz="1600" spc="-1" strike="noStrike">
                  <a:solidFill>
                    <a:srgbClr val="ff0000"/>
                  </a:solidFill>
                  <a:latin typeface="Arial"/>
                </a:rPr>
                <a:t>CARE</a:t>
              </a:r>
              <a:br>
                <a:rPr sz="1600"/>
              </a:br>
              <a:r>
                <a:rPr b="1" lang="fr-CH" sz="1600" spc="-1" strike="noStrike">
                  <a:solidFill>
                    <a:srgbClr val="ff0000"/>
                  </a:solidFill>
                  <a:latin typeface="Arial"/>
                </a:rPr>
                <a:t>Oxfam</a:t>
              </a:r>
              <a:br>
                <a:rPr sz="1600"/>
              </a:br>
              <a:r>
                <a:rPr b="1" lang="fr-CH" sz="1600" spc="-1" strike="noStrike">
                  <a:solidFill>
                    <a:srgbClr val="ff0000"/>
                  </a:solidFill>
                  <a:latin typeface="Arial"/>
                </a:rPr>
                <a:t>LWF</a:t>
              </a:r>
              <a:br>
                <a:rPr sz="1600"/>
              </a:br>
              <a:r>
                <a:rPr b="1" lang="fr-CH" sz="1600" spc="-1" strike="noStrike">
                  <a:solidFill>
                    <a:srgbClr val="ff0000"/>
                  </a:solidFill>
                  <a:latin typeface="Arial"/>
                </a:rPr>
                <a:t>I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14800" y="16765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809880" y="1066680"/>
            <a:ext cx="1828800" cy="4191120"/>
            <a:chOff x="3809880" y="1066680"/>
            <a:chExt cx="1828800" cy="4191120"/>
          </a:xfrm>
        </p:grpSpPr>
        <p:sp>
          <p:nvSpPr>
            <p:cNvPr id="322" name=""/>
            <p:cNvSpPr/>
            <p:nvPr/>
          </p:nvSpPr>
          <p:spPr>
            <a:xfrm>
              <a:off x="4419720" y="1066680"/>
              <a:ext cx="9903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48/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09880" y="464832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nventions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e Genève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UD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1676520"/>
              <a:ext cx="0" cy="28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0" y="1066680"/>
            <a:ext cx="1600200" cy="4191120"/>
            <a:chOff x="0" y="1066680"/>
            <a:chExt cx="1600200" cy="4191120"/>
          </a:xfrm>
        </p:grpSpPr>
        <p:sp>
          <p:nvSpPr>
            <p:cNvPr id="326" name=""/>
            <p:cNvSpPr/>
            <p:nvPr/>
          </p:nvSpPr>
          <p:spPr>
            <a:xfrm>
              <a:off x="380880" y="1066680"/>
              <a:ext cx="1219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000 A.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464832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rdre de Mal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8080" y="1676520"/>
              <a:ext cx="0" cy="28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419720" y="1066680"/>
            <a:ext cx="1828800" cy="2514600"/>
            <a:chOff x="4419720" y="1066680"/>
            <a:chExt cx="1828800" cy="2514600"/>
          </a:xfrm>
        </p:grpSpPr>
        <p:sp>
          <p:nvSpPr>
            <p:cNvPr id="330" name=""/>
            <p:cNvSpPr/>
            <p:nvPr/>
          </p:nvSpPr>
          <p:spPr>
            <a:xfrm>
              <a:off x="4800600" y="1066680"/>
              <a:ext cx="99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19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19720" y="297180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onvention</a:t>
              </a:r>
              <a:br>
                <a:rPr sz="1600"/>
              </a:b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sur les</a:t>
              </a:r>
              <a:br>
                <a:rPr sz="1600"/>
              </a:b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réfugiés</a:t>
              </a:r>
              <a:br>
                <a:rPr sz="1600"/>
              </a:b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et UNH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334120" y="16765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562720" y="1066680"/>
            <a:ext cx="990360" cy="4191120"/>
            <a:chOff x="5562720" y="1066680"/>
            <a:chExt cx="990360" cy="4191120"/>
          </a:xfrm>
        </p:grpSpPr>
        <p:sp>
          <p:nvSpPr>
            <p:cNvPr id="334" name=""/>
            <p:cNvSpPr/>
            <p:nvPr/>
          </p:nvSpPr>
          <p:spPr>
            <a:xfrm>
              <a:off x="5562720" y="1066680"/>
              <a:ext cx="9903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69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Biaf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62720" y="4648320"/>
              <a:ext cx="761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S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943600" y="1676520"/>
              <a:ext cx="0" cy="28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-76320" y="1066680"/>
            <a:ext cx="1447920" cy="2743200"/>
            <a:chOff x="-76320" y="1066680"/>
            <a:chExt cx="1447920" cy="2743200"/>
          </a:xfrm>
        </p:grpSpPr>
        <p:sp>
          <p:nvSpPr>
            <p:cNvPr id="338" name=""/>
            <p:cNvSpPr/>
            <p:nvPr/>
          </p:nvSpPr>
          <p:spPr>
            <a:xfrm>
              <a:off x="76320" y="1066680"/>
              <a:ext cx="12189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460 B.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-76320" y="3200400"/>
              <a:ext cx="1447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Hippoc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0880" y="16765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638680" y="1052640"/>
            <a:ext cx="1828800" cy="4647600"/>
            <a:chOff x="5638680" y="1052640"/>
            <a:chExt cx="1828800" cy="4647600"/>
          </a:xfrm>
        </p:grpSpPr>
        <p:sp>
          <p:nvSpPr>
            <p:cNvPr id="342" name=""/>
            <p:cNvSpPr/>
            <p:nvPr/>
          </p:nvSpPr>
          <p:spPr>
            <a:xfrm>
              <a:off x="6095880" y="1052640"/>
              <a:ext cx="99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1976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38680" y="5091120"/>
              <a:ext cx="182880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br>
                <a:rPr sz="1600"/>
              </a:b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Ratification de la Charte internationale des droits de l’hom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53080" y="1662120"/>
              <a:ext cx="0" cy="327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629400" y="1066680"/>
            <a:ext cx="1828800" cy="4191120"/>
            <a:chOff x="6629400" y="1066680"/>
            <a:chExt cx="1828800" cy="4191120"/>
          </a:xfrm>
        </p:grpSpPr>
        <p:sp>
          <p:nvSpPr>
            <p:cNvPr id="346" name=""/>
            <p:cNvSpPr/>
            <p:nvPr/>
          </p:nvSpPr>
          <p:spPr>
            <a:xfrm>
              <a:off x="7162560" y="1066680"/>
              <a:ext cx="99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198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29400" y="464832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Fin de la</a:t>
              </a:r>
              <a:br>
                <a:rPr sz="1600"/>
              </a:b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Guerre</a:t>
              </a:r>
              <a:br>
                <a:rPr sz="1600"/>
              </a:b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fro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43800" y="1676520"/>
              <a:ext cx="0" cy="2819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696080" y="1066680"/>
            <a:ext cx="1828800" cy="2514600"/>
            <a:chOff x="7696080" y="1066680"/>
            <a:chExt cx="1828800" cy="2514600"/>
          </a:xfrm>
        </p:grpSpPr>
        <p:sp>
          <p:nvSpPr>
            <p:cNvPr id="350" name=""/>
            <p:cNvSpPr/>
            <p:nvPr/>
          </p:nvSpPr>
          <p:spPr>
            <a:xfrm>
              <a:off x="8763120" y="16765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1880" y="1066680"/>
              <a:ext cx="99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19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96080" y="297180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Principes directeurs</a:t>
              </a:r>
              <a:br>
                <a:rPr sz="1600"/>
              </a:b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sur les</a:t>
              </a:r>
              <a:br>
                <a:rPr sz="1600"/>
              </a:b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IDP</a:t>
              </a:r>
              <a:br>
                <a:rPr sz="1600"/>
              </a:b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Sphè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162920" y="1295280"/>
            <a:ext cx="1828800" cy="4800600"/>
            <a:chOff x="7162920" y="1295280"/>
            <a:chExt cx="1828800" cy="4800600"/>
          </a:xfrm>
        </p:grpSpPr>
        <p:sp>
          <p:nvSpPr>
            <p:cNvPr id="354" name=""/>
            <p:cNvSpPr/>
            <p:nvPr/>
          </p:nvSpPr>
          <p:spPr>
            <a:xfrm>
              <a:off x="7620120" y="1295280"/>
              <a:ext cx="99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62920" y="548640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énocide rwandais, Code de conduite pour la CR/le 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077320" y="167652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324480" y="1295280"/>
            <a:ext cx="1524240" cy="2286000"/>
            <a:chOff x="6324480" y="1295280"/>
            <a:chExt cx="1524240" cy="2286000"/>
          </a:xfrm>
        </p:grpSpPr>
        <p:sp>
          <p:nvSpPr>
            <p:cNvPr id="358" name=""/>
            <p:cNvSpPr/>
            <p:nvPr/>
          </p:nvSpPr>
          <p:spPr>
            <a:xfrm>
              <a:off x="6553080" y="1295280"/>
              <a:ext cx="99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24480" y="297180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amine éthiopien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86600" y="167652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ED1E0-A3E3-49AA-A315-AFA1CED46A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Outils pour transformer les principes et les valeurs e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297180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que chapitre englo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581280"/>
            <a:ext cx="3276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 normes minim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666880" y="1066680"/>
            <a:ext cx="2133720" cy="681120"/>
            <a:chOff x="2666880" y="1066680"/>
            <a:chExt cx="2133720" cy="681120"/>
          </a:xfrm>
        </p:grpSpPr>
        <p:sp>
          <p:nvSpPr>
            <p:cNvPr id="61" name=""/>
            <p:cNvSpPr/>
            <p:nvPr/>
          </p:nvSpPr>
          <p:spPr>
            <a:xfrm>
              <a:off x="2666880" y="1066680"/>
              <a:ext cx="190512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roduction</a:t>
              </a:r>
              <a:br>
                <a:rPr sz="14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Qu’est-ce que Sphère ?</a:t>
              </a:r>
              <a:br>
                <a:rPr sz="14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66880" y="1066680"/>
              <a:ext cx="2133720" cy="54468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867280" y="42670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 indicateurs c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49528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 notes d’orien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85800" y="1676520"/>
            <a:ext cx="7238880" cy="1295280"/>
            <a:chOff x="685800" y="1676520"/>
            <a:chExt cx="7238880" cy="1295280"/>
          </a:xfrm>
        </p:grpSpPr>
        <p:sp>
          <p:nvSpPr>
            <p:cNvPr id="66" name=""/>
            <p:cNvSpPr/>
            <p:nvPr/>
          </p:nvSpPr>
          <p:spPr>
            <a:xfrm>
              <a:off x="685800" y="1905120"/>
              <a:ext cx="13716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Le Code de condu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1905120"/>
              <a:ext cx="1633680" cy="53316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48520" y="1676520"/>
              <a:ext cx="16761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en-GB" sz="2800" spc="-1" strike="noStrike">
                  <a:solidFill>
                    <a:srgbClr val="0066cc"/>
                  </a:solidFill>
                  <a:latin typeface="Arial"/>
                </a:rPr>
                <a:t>Édition 2004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176560" y="2095560"/>
              <a:ext cx="528480" cy="1569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666880" y="1905120"/>
            <a:ext cx="2133720" cy="917280"/>
            <a:chOff x="2666880" y="1905120"/>
            <a:chExt cx="2133720" cy="917280"/>
          </a:xfrm>
        </p:grpSpPr>
        <p:sp>
          <p:nvSpPr>
            <p:cNvPr id="71" name=""/>
            <p:cNvSpPr/>
            <p:nvPr/>
          </p:nvSpPr>
          <p:spPr>
            <a:xfrm>
              <a:off x="2666880" y="1905120"/>
              <a:ext cx="1676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La Charte humanita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66880" y="1905120"/>
              <a:ext cx="2133720" cy="53316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31200">
              <a:off x="3351960" y="2514240"/>
              <a:ext cx="685800" cy="304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666880" y="2895480"/>
            <a:ext cx="2895840" cy="3124080"/>
            <a:chOff x="2666880" y="2895480"/>
            <a:chExt cx="2895840" cy="3124080"/>
          </a:xfrm>
        </p:grpSpPr>
        <p:sp>
          <p:nvSpPr>
            <p:cNvPr id="75" name=""/>
            <p:cNvSpPr/>
            <p:nvPr/>
          </p:nvSpPr>
          <p:spPr>
            <a:xfrm>
              <a:off x="2666880" y="2895480"/>
              <a:ext cx="2133720" cy="546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666880" y="2895480"/>
              <a:ext cx="190512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rmes communes à tous les secteu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62720" y="3207960"/>
              <a:ext cx="0" cy="281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00600" y="320796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666880" y="3581280"/>
            <a:ext cx="2895840" cy="609480"/>
            <a:chOff x="2666880" y="3581280"/>
            <a:chExt cx="2895840" cy="609480"/>
          </a:xfrm>
        </p:grpSpPr>
        <p:sp>
          <p:nvSpPr>
            <p:cNvPr id="80" name=""/>
            <p:cNvSpPr/>
            <p:nvPr/>
          </p:nvSpPr>
          <p:spPr>
            <a:xfrm>
              <a:off x="2666880" y="3581280"/>
              <a:ext cx="213372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2666880" y="3581280"/>
              <a:ext cx="2895840" cy="609120"/>
              <a:chOff x="2666880" y="3581280"/>
              <a:chExt cx="2895840" cy="609120"/>
            </a:xfrm>
          </p:grpSpPr>
          <p:sp>
            <p:nvSpPr>
              <p:cNvPr id="82" name=""/>
              <p:cNvSpPr/>
              <p:nvPr/>
            </p:nvSpPr>
            <p:spPr>
              <a:xfrm>
                <a:off x="2666880" y="3581280"/>
                <a:ext cx="22100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Approvisionnement en eau, assainissement et promotion de l’hygiè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6199400">
                <a:off x="4689000" y="3768840"/>
                <a:ext cx="60408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05520" y="38422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2666880" y="4267080"/>
            <a:ext cx="2895840" cy="609480"/>
            <a:chOff x="2666880" y="4267080"/>
            <a:chExt cx="2895840" cy="609480"/>
          </a:xfrm>
        </p:grpSpPr>
        <p:sp>
          <p:nvSpPr>
            <p:cNvPr id="86" name=""/>
            <p:cNvSpPr/>
            <p:nvPr/>
          </p:nvSpPr>
          <p:spPr>
            <a:xfrm>
              <a:off x="2666880" y="4267080"/>
              <a:ext cx="2057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écurité alimentaire, nutrition et aide alimenta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66880" y="4267080"/>
              <a:ext cx="213372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199400">
              <a:off x="4687200" y="4459680"/>
              <a:ext cx="60372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05520" y="4528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666880" y="4952880"/>
            <a:ext cx="2895840" cy="609480"/>
            <a:chOff x="2666880" y="4952880"/>
            <a:chExt cx="2895840" cy="609480"/>
          </a:xfrm>
        </p:grpSpPr>
        <p:sp>
          <p:nvSpPr>
            <p:cNvPr id="91" name=""/>
            <p:cNvSpPr/>
            <p:nvPr/>
          </p:nvSpPr>
          <p:spPr>
            <a:xfrm>
              <a:off x="2666880" y="4952880"/>
              <a:ext cx="1905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bris, établissements et articles non alimentai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6880" y="4952880"/>
              <a:ext cx="213372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199400">
              <a:off x="4689000" y="5140440"/>
              <a:ext cx="60408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05520" y="52138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666880" y="5638680"/>
            <a:ext cx="2895840" cy="609480"/>
            <a:chOff x="2666880" y="5638680"/>
            <a:chExt cx="2895840" cy="609480"/>
          </a:xfrm>
        </p:grpSpPr>
        <p:sp>
          <p:nvSpPr>
            <p:cNvPr id="96" name=""/>
            <p:cNvSpPr/>
            <p:nvPr/>
          </p:nvSpPr>
          <p:spPr>
            <a:xfrm>
              <a:off x="2666880" y="5638680"/>
              <a:ext cx="1676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ervices de sant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66880" y="5638680"/>
              <a:ext cx="213372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199400">
              <a:off x="4689000" y="5831280"/>
              <a:ext cx="60372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05520" y="598716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6DF85-3DDF-40CE-A377-AFAFEAB1FF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ccccff"/>
                </a:solidFill>
                <a:latin typeface="Arial"/>
              </a:rPr>
              <a:t>Pourquoi a</a:t>
            </a: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-t-on besoin du</a:t>
            </a:r>
            <a:r>
              <a:rPr b="0" lang="fr-CH" sz="2800" spc="-1" strike="noStrike">
                <a:solidFill>
                  <a:srgbClr val="ccccff"/>
                </a:solidFill>
                <a:latin typeface="Arial"/>
              </a:rPr>
              <a:t> man</a:t>
            </a: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uel de Sphère </a:t>
            </a:r>
            <a:r>
              <a:rPr b="0" lang="fr-CH" sz="2800" spc="-1" strike="noStrike">
                <a:solidFill>
                  <a:srgbClr val="cccc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Post-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Rwanda 1994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Évaluation multibailleurs de fonds “Morts évitabl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2952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L’intérêt des ONG concernant la qualité et la redevabilité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’a cessé de croî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Les pratiques historiques ne suffisent plu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 catastrophes sont de plus en plus complexe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- le nombre des catastrophes augmente</a:t>
            </a:r>
            <a:br>
              <a:rPr sz="2000"/>
            </a:b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nature de la communauté humanitaire change et il y a une diversité croissante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 y a un nombre croissant d’acteurs obtenant différents degrés de succè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D13E2-6A64-47C7-A54A-492A6C3744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76720" y="2349360"/>
            <a:ext cx="2158920" cy="2159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Consultation de grande enver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837720" y="3733560"/>
            <a:ext cx="1676520" cy="1143000"/>
          </a:xfrm>
          <a:prstGeom prst="wedgeRoundRectCallout">
            <a:avLst>
              <a:gd name="adj1" fmla="val -121208"/>
              <a:gd name="adj2" fmla="val 81384"/>
              <a:gd name="adj3" fmla="val 16667"/>
            </a:avLst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+ de 4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2666880" y="5105520"/>
            <a:ext cx="2286000" cy="914400"/>
          </a:xfrm>
          <a:prstGeom prst="wedgeRoundRectCallout">
            <a:avLst>
              <a:gd name="adj1" fmla="val -23819"/>
              <a:gd name="adj2" fmla="val 194092"/>
              <a:gd name="adj3" fmla="val 16667"/>
            </a:avLst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rganis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714640" y="4724280"/>
            <a:ext cx="2895480" cy="990720"/>
          </a:xfrm>
          <a:prstGeom prst="wedgeRoundRectCallout">
            <a:avLst>
              <a:gd name="adj1" fmla="val 81796"/>
              <a:gd name="adj2" fmla="val 144550"/>
              <a:gd name="adj3" fmla="val 16667"/>
            </a:avLst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80 pays de 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 mon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95880" y="1219320"/>
            <a:ext cx="2438640" cy="1056960"/>
            <a:chOff x="6095880" y="1219320"/>
            <a:chExt cx="2438640" cy="1056960"/>
          </a:xfrm>
        </p:grpSpPr>
        <p:sp>
          <p:nvSpPr>
            <p:cNvPr id="110" name=""/>
            <p:cNvSpPr/>
            <p:nvPr/>
          </p:nvSpPr>
          <p:spPr>
            <a:xfrm>
              <a:off x="6095880" y="1219320"/>
              <a:ext cx="2438640" cy="8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fr-CH" sz="2400" spc="-1" strike="noStrike">
                  <a:solidFill>
                    <a:srgbClr val="0066cc"/>
                  </a:solidFill>
                  <a:latin typeface="Arial Black"/>
                </a:rPr>
                <a:t>2004</a:t>
              </a:r>
              <a:r>
                <a:rPr b="0" lang="fr-CH" sz="24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0" lang="fr-CH" sz="2000" spc="-1" strike="noStrike">
                  <a:solidFill>
                    <a:srgbClr val="0066cc"/>
                  </a:solidFill>
                  <a:latin typeface="Arial"/>
                </a:rPr>
                <a:t>Édition révisée du manu</a:t>
              </a:r>
              <a:r>
                <a:rPr b="0" lang="en-GB" sz="2000" spc="-1" strike="noStrike">
                  <a:solidFill>
                    <a:srgbClr val="0066cc"/>
                  </a:solidFill>
                  <a:latin typeface="Arial"/>
                </a:rPr>
                <a:t>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5880" y="1219320"/>
              <a:ext cx="2438640" cy="105696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24000" y="1197000"/>
            <a:ext cx="2743200" cy="1079280"/>
            <a:chOff x="324000" y="1197000"/>
            <a:chExt cx="2743200" cy="1079280"/>
          </a:xfrm>
        </p:grpSpPr>
        <p:sp>
          <p:nvSpPr>
            <p:cNvPr id="113" name=""/>
            <p:cNvSpPr/>
            <p:nvPr/>
          </p:nvSpPr>
          <p:spPr>
            <a:xfrm>
              <a:off x="399960" y="1197000"/>
              <a:ext cx="228600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0" lang="fr-CH" sz="2400" spc="-1" strike="noStrike">
                  <a:solidFill>
                    <a:srgbClr val="0066cc"/>
                  </a:solidFill>
                  <a:latin typeface="Arial Black"/>
                </a:rPr>
                <a:t>1997</a:t>
              </a:r>
              <a:r>
                <a:rPr b="0" lang="fr-CH" sz="24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0" lang="fr-CH" sz="2000" spc="-1" strike="noStrike">
                  <a:solidFill>
                    <a:srgbClr val="0066cc"/>
                  </a:solidFill>
                  <a:latin typeface="Arial"/>
                </a:rPr>
                <a:t>C</a:t>
              </a:r>
              <a:r>
                <a:rPr b="0" lang="en-GB" sz="2000" spc="-1" strike="noStrike">
                  <a:solidFill>
                    <a:srgbClr val="0066cc"/>
                  </a:solidFill>
                  <a:latin typeface="Arial"/>
                </a:rPr>
                <a:t>onsultation initi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00" y="1197000"/>
              <a:ext cx="2057400" cy="107928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81400" y="155196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048120" y="1219320"/>
            <a:ext cx="3047760" cy="1056600"/>
            <a:chOff x="3048120" y="1219320"/>
            <a:chExt cx="3047760" cy="1056600"/>
          </a:xfrm>
        </p:grpSpPr>
        <p:grpSp>
          <p:nvGrpSpPr>
            <p:cNvPr id="117" name=""/>
            <p:cNvGrpSpPr/>
            <p:nvPr/>
          </p:nvGrpSpPr>
          <p:grpSpPr>
            <a:xfrm>
              <a:off x="3048120" y="1219320"/>
              <a:ext cx="2457360" cy="1056600"/>
              <a:chOff x="3048120" y="1219320"/>
              <a:chExt cx="2457360" cy="1056600"/>
            </a:xfrm>
          </p:grpSpPr>
          <p:sp>
            <p:nvSpPr>
              <p:cNvPr id="118" name=""/>
              <p:cNvSpPr/>
              <p:nvPr/>
            </p:nvSpPr>
            <p:spPr>
              <a:xfrm>
                <a:off x="3056040" y="1219320"/>
                <a:ext cx="2430360" cy="8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r>
                  <a:rPr b="0" lang="fr-CH" sz="2400" spc="-1" strike="noStrike">
                    <a:solidFill>
                      <a:srgbClr val="0066cc"/>
                    </a:solidFill>
                    <a:latin typeface="Arial Black"/>
                  </a:rPr>
                  <a:t>2000</a:t>
                </a:r>
                <a:r>
                  <a:rPr b="0" lang="fr-CH" sz="2400" spc="-1" strike="noStrike">
                    <a:solidFill>
                      <a:srgbClr val="0066cc"/>
                    </a:solidFill>
                    <a:latin typeface="Arial"/>
                  </a:rPr>
                  <a:t> </a:t>
                </a:r>
                <a:r>
                  <a:rPr b="0" lang="fr-CH" sz="2000" spc="-1" strike="noStrike">
                    <a:solidFill>
                      <a:srgbClr val="0066cc"/>
                    </a:solidFill>
                    <a:latin typeface="Arial"/>
                  </a:rPr>
                  <a:t>Lancement du manu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48120" y="1219320"/>
                <a:ext cx="2457360" cy="1056600"/>
              </a:xfrm>
              <a:prstGeom prst="rect">
                <a:avLst/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6920"/>
                    <a:tab algn="l" pos="393840"/>
                    <a:tab algn="l" pos="590400"/>
                    <a:tab algn="l" pos="787320"/>
                    <a:tab algn="l" pos="984240"/>
                    <a:tab algn="l" pos="1181160"/>
                    <a:tab algn="l" pos="1378080"/>
                    <a:tab algn="l" pos="1574640"/>
                    <a:tab algn="l" pos="1771560"/>
                    <a:tab algn="l" pos="1968480"/>
                    <a:tab algn="l" pos="2165400"/>
                    <a:tab algn="l" pos="2362320"/>
                    <a:tab algn="l" pos="2558880"/>
                    <a:tab algn="l" pos="2755800"/>
                    <a:tab algn="l" pos="2952720"/>
                    <a:tab algn="l" pos="3149640"/>
                    <a:tab algn="l" pos="3346560"/>
                    <a:tab algn="l" pos="3543480"/>
                    <a:tab algn="l" pos="3740040"/>
                    <a:tab algn="l" pos="39369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486400" y="1567080"/>
              <a:ext cx="609480" cy="435240"/>
            </a:xfrm>
            <a:prstGeom prst="rightArrow">
              <a:avLst>
                <a:gd name="adj1" fmla="val 50000"/>
                <a:gd name="adj2" fmla="val 3500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088040" y="2438280"/>
            <a:ext cx="14464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hbfr" descr=""/>
          <p:cNvPicPr/>
          <p:nvPr/>
        </p:nvPicPr>
        <p:blipFill>
          <a:blip r:embed="rId3"/>
          <a:stretch/>
        </p:blipFill>
        <p:spPr>
          <a:xfrm>
            <a:off x="7077240" y="2438280"/>
            <a:ext cx="145080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5EAFC-3C80-4C39-B12C-7BCEC99EF7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733920" y="3276720"/>
            <a:ext cx="1828800" cy="91440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1828800"/>
            <a:ext cx="1828800" cy="914400"/>
          </a:xfrm>
          <a:prstGeom prst="flowChartManualOperation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114800"/>
            <a:ext cx="80773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295280"/>
            <a:ext cx="8077320" cy="83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2743200"/>
            <a:ext cx="80773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200" spc="-1" strike="noStrike">
                <a:solidFill>
                  <a:srgbClr val="ccccff"/>
                </a:solidFill>
                <a:latin typeface="Arial"/>
              </a:rPr>
              <a:t>Processus de Sphè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295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ésentation d’arguments en faveur de l’assistance universelle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480" y="4191120"/>
            <a:ext cx="845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ention d’un consensus sur des normes et des indicateurs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4382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br>
              <a:rPr sz="2400"/>
            </a:b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ention d’un consensus sur les principes et les actions essenti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D1BBA-A472-44E7-AF3A-29CB3D03E4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Principales activités du 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6800" y="16002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sibilisation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6800" y="24382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istribution du manuel et des autres out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6800" y="32767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évisions techniques du manu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6800" y="4114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ation sur la manière d’appliquer le manu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6800" y="49528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tien aux ag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4AE07-85A8-4C1F-91D3-C98DCD0113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3200" spc="-1" strike="noStrike">
                <a:solidFill>
                  <a:srgbClr val="ccccff"/>
                </a:solidFill>
                <a:latin typeface="Arial"/>
              </a:rPr>
              <a:t>Gestion et fina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Financement supplémentaire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gleterre, Australie, Belgique, Canada,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anemark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agne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États-Unis,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Finlande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rlande, Nouvelle-Zélande, Norvège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ys-Bas, Suède, Royaume-Uni, et E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Réseaux membres du 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Steering Committee for </a:t>
            </a:r>
            <a:br>
              <a:rPr sz="2000"/>
            </a:b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Humanitarian Response (Comit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é directeur pour l’action 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humanitaire)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- 7 réseaux plus le CICR et la FICR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fr-CH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VOICE et IC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157D7-7310-475D-8CF3-0982AACDDE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8:18:32Z</dcterms:created>
  <dc:creator>Phil</dc:creator>
  <dc:description/>
  <dc:language>en-US</dc:language>
  <cp:lastModifiedBy>Foubert</cp:lastModifiedBy>
  <dcterms:modified xsi:type="dcterms:W3CDTF">2005-01-14T17:13:07Z</dcterms:modified>
  <cp:revision>247</cp:revision>
  <dc:subject/>
  <dc:title>No Slide Title</dc:title>
</cp:coreProperties>
</file>