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10234613" cy="14662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66942-0A86-41F2-8F17-9279AD4C75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CFB68-CE74-41F9-A917-33817F6D5C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FF759-68A7-4EA8-A107-39A270D433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DC827-7CF8-499D-B9E4-635B602631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4AFC7-B5BD-46B4-9978-957ACE27E4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5E0FE-24EE-449B-BED9-D7742AF442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F738C-723D-4ED2-8111-B4793696EC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FCD5F-4713-41F3-8FA7-B09D06491A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4D343-5499-4D91-909E-9AC8B9F6A9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4D205-E15D-4778-84F1-337B55EB23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D35EA-539E-46C4-B9DC-31A00261B7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4BB1A-E9D5-449E-84C4-B95DBBDDB4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685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Black"/>
              </a:rPr>
              <a:t>Proyecto Esfer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ódu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3581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34FC2-B045-413F-8D93-C2C9E6594E2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27080" y="0"/>
            <a:ext cx="8889840" cy="101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7080" y="1041480"/>
            <a:ext cx="8889840" cy="1015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600" spc="-1" strike="noStrike">
                <a:solidFill>
                  <a:srgbClr val="ccccff"/>
                </a:solidFill>
                <a:latin typeface="Arial"/>
              </a:rPr>
              <a:t>Módulo 1</a:t>
            </a:r>
            <a:br>
              <a:rPr sz="4400"/>
            </a:br>
            <a:br>
              <a:rPr sz="4400"/>
            </a:b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Sesión 1</a:t>
            </a:r>
            <a:br>
              <a:rPr sz="36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s-ES_tradnl" sz="3200" spc="-1" strike="noStrike">
                <a:solidFill>
                  <a:srgbClr val="000000"/>
                </a:solidFill>
                <a:latin typeface="Arial Black"/>
              </a:rPr>
              <a:t>¿Qué es Esfera? ¿Por qué es importan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019920" y="1219320"/>
            <a:ext cx="3124080" cy="947160"/>
            <a:chOff x="6019920" y="1219320"/>
            <a:chExt cx="3124080" cy="947160"/>
          </a:xfrm>
        </p:grpSpPr>
        <p:graphicFrame>
          <p:nvGraphicFramePr>
            <p:cNvPr id="44" name=""/>
            <p:cNvGraphicFramePr/>
            <p:nvPr/>
          </p:nvGraphicFramePr>
          <p:xfrm>
            <a:off x="6019920" y="1219320"/>
            <a:ext cx="2971800" cy="590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019920" y="1219320"/>
                      <a:ext cx="2971800" cy="59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6" name=""/>
            <p:cNvSpPr/>
            <p:nvPr/>
          </p:nvSpPr>
          <p:spPr>
            <a:xfrm>
              <a:off x="6019920" y="1219320"/>
              <a:ext cx="3124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ff"/>
                  </a:solidFill>
                  <a:latin typeface="Garamond"/>
                </a:rPr>
                <a:t>El Proyecto Esfer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2FB7A-874A-4364-86A0-7F91B6923D8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Manual de Esf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66800" y="1981080"/>
            <a:ext cx="7691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Carta Humanitaria</a:t>
            </a:r>
            <a:br>
              <a:rPr sz="2400"/>
            </a:b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•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Código de Conducta</a:t>
            </a:r>
            <a:br>
              <a:rPr sz="2400"/>
            </a:b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normas comunes a todos los sectores</a:t>
            </a:r>
            <a:br>
              <a:rPr sz="2400"/>
            </a:b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diagrama y el contenido correspondientes a cada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pítulo técnico</a:t>
            </a:r>
            <a:br>
              <a:rPr sz="2400"/>
            </a:b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introducción </a:t>
            </a:r>
            <a:br>
              <a:rPr sz="2400"/>
            </a:b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índice de contenidos</a:t>
            </a:r>
            <a:br>
              <a:rPr sz="2400"/>
            </a:b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hora escoge tu capítulo favorito, y mira las normas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e hay en ese capít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1066680"/>
            <a:ext cx="8591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Busca y marca estas secciones en tu libro, lo que te ayudará a encontrar rápidamente los temas princip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40000" y="2060640"/>
            <a:ext cx="4495680" cy="4038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a Carta Humanitar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340000" y="2060640"/>
            <a:ext cx="4495680" cy="4038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l Código de Conduc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40000" y="2060640"/>
            <a:ext cx="4495680" cy="4038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as normas comunes a todos los secto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40000" y="2060640"/>
            <a:ext cx="4495680" cy="4038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l diagrama e índice de materias de cada capítulo técnic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40000" y="2060640"/>
            <a:ext cx="4495680" cy="4038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a introduc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340000" y="1989000"/>
            <a:ext cx="4495680" cy="40388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l índ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340000" y="1989000"/>
            <a:ext cx="4572000" cy="41148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Ahora escoge tu capítulo favorito, y mira las normas que hay en ese capítu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8A368-764D-4ACB-BCAF-146C6E36AA9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Manual de Esf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6800" y="1981080"/>
            <a:ext cx="7691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Carta Humanitaria</a:t>
            </a:r>
            <a:br>
              <a:rPr sz="2400"/>
            </a:b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•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Código de Conducta</a:t>
            </a:r>
            <a:br>
              <a:rPr sz="2400"/>
            </a:b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normas comunes a todos los sectores</a:t>
            </a:r>
            <a:br>
              <a:rPr sz="2400"/>
            </a:b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diagrama y el contenido correspondientes a cada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pítulo técnico</a:t>
            </a:r>
            <a:br>
              <a:rPr sz="2400"/>
            </a:b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introducción </a:t>
            </a:r>
            <a:br>
              <a:rPr sz="2400"/>
            </a:b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índice de contenidos</a:t>
            </a:r>
            <a:br>
              <a:rPr sz="2400"/>
            </a:b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hora escoge tu capítulo favorito, y mira las normas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e hay en ese capít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6800" y="1066680"/>
            <a:ext cx="8148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Busca y marca estas secciones en tu libro, lo que te ayudará a encontrar de prisa los temas princip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FC998-210D-463B-A26D-3BD30A736F9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019920" y="4876920"/>
            <a:ext cx="1371600" cy="533160"/>
          </a:xfrm>
          <a:prstGeom prst="flowChartManualOperation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5181480"/>
            <a:ext cx="8229600" cy="990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419720" y="3809880"/>
            <a:ext cx="1371600" cy="533520"/>
          </a:xfrm>
          <a:prstGeom prst="flowChartManualOperation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3352680"/>
            <a:ext cx="815364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3048120"/>
            <a:ext cx="1371600" cy="533160"/>
          </a:xfrm>
          <a:prstGeom prst="flowChartManualOperation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71600" y="2133720"/>
            <a:ext cx="1371600" cy="533160"/>
          </a:xfrm>
          <a:prstGeom prst="flowChartManualOperation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4114800"/>
            <a:ext cx="8229600" cy="838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1143000"/>
            <a:ext cx="7848720" cy="1295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2590920"/>
            <a:ext cx="7010640" cy="533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Carta Humanitaria: Sec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1066680"/>
            <a:ext cx="8153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2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 Black"/>
              </a:rPr>
              <a:t>Compromiso de promover</a:t>
            </a:r>
            <a:br>
              <a:rPr sz="2200"/>
            </a:b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la observancia de los principios humanitario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undamentales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- la apreciación de nuestras propias obligaciones ét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3352680"/>
            <a:ext cx="8534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2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 Black"/>
              </a:rPr>
              <a:t>Descripción de roles, deberes y responsabilida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2590920"/>
            <a:ext cx="7086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2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 Black"/>
              </a:rPr>
              <a:t>Declaración de principios humanitar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11480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2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 Black"/>
              </a:rPr>
              <a:t>Compromiso de alcanzar las Normas mínimas de </a:t>
            </a:r>
            <a:r>
              <a:rPr b="0" lang="es-ES_tradnl" sz="2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 Black"/>
              </a:rPr>
              <a:t>manera consist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105520"/>
            <a:ext cx="8224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 Black"/>
              </a:rPr>
              <a:t>Reconocimiento de que nuestra responsabilidad </a:t>
            </a:r>
            <a:r>
              <a:rPr b="0" lang="es-ES_tradnl" sz="2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 Black"/>
              </a:rPr>
              <a:t>principal es ante aquellos a quienes tratamos de </a:t>
            </a:r>
            <a:r>
              <a:rPr b="0" lang="es-ES_tradnl" sz="2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 Black"/>
              </a:rPr>
              <a:t>prestar asistenc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5D293-AD69-475C-9CBA-D13314BA67E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Carta Humanitaria: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ustentada por el derecho internacional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1219320"/>
            <a:ext cx="6248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66cc"/>
                </a:solidFill>
                <a:latin typeface="Arial"/>
              </a:rPr>
              <a:t>El derecho a vivir con dignidad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- La Declaración Universal de Derechos Humanos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- Los pactos de derechos civiles políticos y económicos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- Los Convenios de Ginebra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- La Convención contra la Tortura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- La Convención sobre los Derechos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l Ni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029200" y="2590920"/>
            <a:ext cx="4267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66cc"/>
                </a:solidFill>
                <a:latin typeface="Arial"/>
              </a:rPr>
              <a:t>La distinción entre </a:t>
            </a:r>
            <a:r>
              <a:rPr b="1" lang="es-ES_tradn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66cc"/>
                </a:solidFill>
                <a:latin typeface="Arial"/>
              </a:rPr>
              <a:t>combatientes y no </a:t>
            </a:r>
            <a:r>
              <a:rPr b="1" lang="es-ES_tradn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66cc"/>
                </a:solidFill>
                <a:latin typeface="Arial"/>
              </a:rPr>
              <a:t>combatientes</a:t>
            </a:r>
            <a:br>
              <a:rPr sz="2000"/>
            </a:b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- Los Convenios de Ginebra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- La Convención sobre lo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rechos del Ni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4191120"/>
            <a:ext cx="5181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66cc"/>
                </a:solidFill>
                <a:latin typeface="Arial"/>
              </a:rPr>
              <a:t>El principio de no devolución</a:t>
            </a:r>
            <a:br>
              <a:rPr sz="2000"/>
            </a:br>
            <a:r>
              <a:rPr b="1" lang="es-ES_tradnl" sz="20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La Convención sobre el Estatuto de los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fugiados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La Convención contra la Tortura</a:t>
            </a:r>
            <a:br>
              <a:rPr sz="1800"/>
            </a:br>
            <a:r>
              <a:rPr b="1" lang="es-ES_tradnl" sz="1800" spc="-1" strike="noStrike">
                <a:solidFill>
                  <a:srgbClr val="0066cc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La Convención sobre los Derechos del Niñ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5B5A5-713C-46CB-8210-A5D267CF66C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80880" y="3429000"/>
            <a:ext cx="8229600" cy="2514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0880" y="1371600"/>
            <a:ext cx="8229600" cy="1600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¿Qué es una Norma mínim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1600200"/>
            <a:ext cx="7691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El nivel mínimo de servicio que se ha de alcanzar en la asistencia humanitaria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6800" y="3657600"/>
            <a:ext cx="7691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Norma 1 relativa al apoyo nutricional general: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Suministro de nutri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62120" y="4876920"/>
            <a:ext cx="7691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Se atiende a las necesidades nutricionales de la población.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véase la página 90 /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16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7EACF-7E2A-459B-A2DA-C6716BFBD19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28600" y="1143000"/>
            <a:ext cx="86868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¿Qué son los indicadores cl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" y="1143000"/>
            <a:ext cx="8763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Son señales que muestran si se ha dado cumplimiento a una norma. Los indicadores proporcionan un modo de medir y comunicar el impacto, o resultado, de los programas y también el proceso, o métodos, que se han utilizado.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Los indicadores pueden ser cualitativos o cuantitativos</a:t>
            </a: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.</a:t>
            </a: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4920" y="3733920"/>
            <a:ext cx="8534160" cy="243828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3844800"/>
            <a:ext cx="8153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Indicadores cla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cc"/>
                </a:solidFill>
                <a:latin typeface="Times New Roman"/>
              </a:rPr>
              <a:t>•  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Los niveles de desnutrición moderada permanecen estables o bajan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hasta situarse en niveles acepta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cc"/>
                </a:solidFill>
                <a:latin typeface="Times New Roman"/>
              </a:rPr>
              <a:t>•  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No hay casos de escorbuto, pelagra ni beri-ber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cc"/>
                </a:solidFill>
                <a:latin typeface="Times New Roman"/>
              </a:rPr>
              <a:t>•  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Las tasas de xeroptalmia o carencia de yodo no son significativas en términos de salud pública (véanse las notas de orientación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véase la página 90/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16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F6B4B-C057-4CFE-A389-B877147892C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500"/>
                            </p:stCondLst>
                            <p:childTnLst>
                              <p:par>
                                <p:cTn id="4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28600" y="1295280"/>
            <a:ext cx="8686800" cy="19814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¿Qué son las notas de orientac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09480" y="1523880"/>
            <a:ext cx="8153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Diseminan la experiencia, iluminan áreas polémicas y son útiles para usar bien los indicadores en el contex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4920" y="3733920"/>
            <a:ext cx="8534160" cy="243828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3946680"/>
            <a:ext cx="7925040" cy="21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cc"/>
                </a:solidFill>
                <a:latin typeface="Arial Black"/>
              </a:rPr>
              <a:t>Notas de ori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cc"/>
                </a:solidFill>
                <a:latin typeface="Arial Black"/>
              </a:rPr>
              <a:t>“…</a:t>
            </a:r>
            <a:r>
              <a:rPr b="0" lang="es-ES_tradnl" sz="2400" spc="-1" strike="noStrike">
                <a:solidFill>
                  <a:srgbClr val="0066cc"/>
                </a:solidFill>
                <a:latin typeface="Arial Black"/>
              </a:rPr>
              <a:t>para determinar si los niveles de desnutrición son aceptables es preciso analizar la situación actual a la luz de las normas locales...”</a:t>
            </a: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               </a:t>
            </a: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66cc"/>
                </a:solidFill>
                <a:latin typeface="Arial"/>
              </a:rPr>
              <a:t>véase la página 92/</a:t>
            </a:r>
            <a:r>
              <a:rPr b="1" lang="es-ES_tradnl" sz="1800" spc="-1" strike="noStrike">
                <a:solidFill>
                  <a:srgbClr val="0066cc"/>
                </a:solidFill>
                <a:latin typeface="Arial"/>
              </a:rPr>
              <a:t>16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8ADC2-552A-4341-BD05-4D96BFEA06B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981080" y="3352680"/>
            <a:ext cx="1828800" cy="914400"/>
          </a:xfrm>
          <a:prstGeom prst="flowChartManualOperation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81080" y="1828800"/>
            <a:ext cx="1828800" cy="914400"/>
          </a:xfrm>
          <a:prstGeom prst="flowChartManualOperation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4191120"/>
            <a:ext cx="4876920" cy="838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" y="1295280"/>
            <a:ext cx="5029200" cy="990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2743200"/>
            <a:ext cx="4952880" cy="990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400" spc="-1" strike="noStrike">
                <a:solidFill>
                  <a:srgbClr val="ccccff"/>
                </a:solidFill>
                <a:latin typeface="Arial Black"/>
              </a:rPr>
              <a:t>Normas, indicadores clave y </a:t>
            </a:r>
            <a:br>
              <a:rPr sz="2400"/>
            </a:br>
            <a:r>
              <a:rPr b="0" lang="es-ES_tradnl" sz="2400" spc="-1" strike="noStrike">
                <a:solidFill>
                  <a:srgbClr val="ccccff"/>
                </a:solidFill>
                <a:latin typeface="Arial Black"/>
              </a:rPr>
              <a:t>notas de orientación</a:t>
            </a:r>
            <a:r>
              <a:rPr b="0" lang="es-ES_tradnl" sz="36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1295280"/>
            <a:ext cx="6324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Black"/>
              </a:rPr>
              <a:t>Normas míni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0480" y="4267080"/>
            <a:ext cx="540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Black"/>
              </a:rPr>
              <a:t>Notas de ori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" y="2819520"/>
            <a:ext cx="71629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Black"/>
              </a:rPr>
              <a:t>Indicadores clave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525780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ando se te indique, por favor busca ejemplos de cada uno de ellos en tu man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59E3B-8034-46AC-B15C-F1427FC0FB4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000"/>
                            </p:stCondLst>
                            <p:childTnLst>
                              <p:par>
                                <p:cTn id="5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00"/>
                            </p:stCondLst>
                            <p:childTnLst>
                              <p:par>
                                <p:cTn id="5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En conclusión:</a:t>
            </a:r>
            <a:r>
              <a:rPr b="0" lang="es-ES_tradnl" sz="36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am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1219320"/>
            <a:ext cx="8381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s crisis humanitarias continú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5800" y="198108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ay un crecimiento caótico en el número de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rganizaciones y agendas humanita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312408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ejercen en los trabajadores humanitarios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uchas presiones para que definan, coordinen y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indan cuentas sobre el apoyo humanitario de un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do más efica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50292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ceso interagencial para clarificar la base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umanitaria de las actu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15DFA-966D-4FA3-9199-F1662E916ED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657600" y="3505320"/>
            <a:ext cx="1371600" cy="533160"/>
          </a:xfrm>
          <a:prstGeom prst="flowChartManualOperation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19920" y="4800600"/>
            <a:ext cx="1371600" cy="533520"/>
          </a:xfrm>
          <a:prstGeom prst="flowChartManualOperation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371600" y="2133720"/>
            <a:ext cx="1371600" cy="533160"/>
          </a:xfrm>
          <a:prstGeom prst="flowChartManualOperation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3962520"/>
            <a:ext cx="784872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09480" y="1143000"/>
            <a:ext cx="7848720" cy="1219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2514600"/>
            <a:ext cx="7848720" cy="1295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En conclusión:</a:t>
            </a:r>
            <a:r>
              <a:rPr b="0" lang="es-ES_tradnl" sz="36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Herramien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85800" y="12193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La Carta Humanitaria:</a:t>
            </a:r>
            <a:br>
              <a:rPr sz="2400"/>
            </a:b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porciona el marco de referencia para llevar a la acción la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preciación de los derech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" y="3962520"/>
            <a:ext cx="79246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Los indicadores clave:</a:t>
            </a:r>
            <a:br>
              <a:rPr sz="2400"/>
            </a:b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ministran señales para evaluar si se ha dado cumplimiento a la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r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4360" y="2590920"/>
            <a:ext cx="7850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Las Normas mínimas:</a:t>
            </a:r>
            <a:br>
              <a:rPr sz="2400"/>
            </a:b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porcionan las normas a cuyo cumplimiento se puede aspirar</a:t>
            </a:r>
            <a:br>
              <a:rPr sz="2000"/>
            </a:b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sibilitan la plan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84360" y="5181480"/>
            <a:ext cx="7696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Las notas de orientación:</a:t>
            </a:r>
            <a:br>
              <a:rPr sz="2400"/>
            </a:b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porcionan información que es útil para aplicar los indicador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el contex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8FA18-BCBE-4A47-9847-FBB9D04C429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000"/>
                            </p:stCondLst>
                            <p:childTnLst>
                              <p:par>
                                <p:cTn id="60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500"/>
                            </p:stCondLst>
                            <p:childTnLst>
                              <p:par>
                                <p:cTn id="6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000"/>
                            </p:stCondLst>
                            <p:childTnLst>
                              <p:par>
                                <p:cTn id="6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1000"/>
                            </p:stCondLst>
                            <p:childTnLst>
                              <p:par>
                                <p:cTn id="6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500"/>
                            </p:stCondLst>
                            <p:childTnLst>
                              <p:par>
                                <p:cTn id="6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Objetivos de aprendizaje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514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cribir por qué el Proyecto Esfera es impor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3048120"/>
            <a:ext cx="8207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cribir la estructura y el proceso del Proyecto Esfer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3581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cribir la estructura básica del Manual de Esfer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4038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buClr>
                <a:srgbClr val="ff0000"/>
              </a:buClr>
              <a:buFont typeface="Arial"/>
              <a:buChar char="•"/>
              <a:tabLst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cribir la diferencia entre: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rmas mínimas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 indicadores clave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 notas de ori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1066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scutir tendencias o eventos actuales que tienen impacto en lo que entendemos por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6000" spc="-1" strike="noStrike">
                <a:solidFill>
                  <a:srgbClr val="0066cc"/>
                </a:solidFill>
                <a:latin typeface="Arial"/>
              </a:rPr>
              <a:t>“humanitarianismo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33B27-F9F6-4787-8C23-5877B05B19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¡Descanso</a:t>
            </a:r>
            <a:r>
              <a:rPr b="0" lang="fr-CH" sz="3200" spc="-1" strike="noStrike">
                <a:solidFill>
                  <a:srgbClr val="ccccff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27080" y="990720"/>
            <a:ext cx="8889840" cy="303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DE1A8-3EFF-443F-AAE1-AFD1AC199E8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27080" y="1041480"/>
            <a:ext cx="8889840" cy="1015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600" spc="-1" strike="noStrike">
                <a:solidFill>
                  <a:srgbClr val="ccccff"/>
                </a:solidFill>
                <a:latin typeface="Arial"/>
              </a:rPr>
              <a:t>Módulo</a:t>
            </a:r>
            <a:r>
              <a:rPr b="0" lang="fr-CH" sz="3600" spc="-1" strike="noStrike">
                <a:solidFill>
                  <a:srgbClr val="ccccff"/>
                </a:solidFill>
                <a:latin typeface="Arial"/>
              </a:rPr>
              <a:t> 1</a:t>
            </a:r>
            <a:br>
              <a:rPr sz="4400"/>
            </a:br>
            <a:br>
              <a:rPr sz="4400"/>
            </a:b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Sesión</a:t>
            </a:r>
            <a:r>
              <a:rPr b="0" lang="fr-CH" sz="3600" spc="-1" strike="noStrike">
                <a:solidFill>
                  <a:srgbClr val="ffffff"/>
                </a:solidFill>
                <a:latin typeface="Arial"/>
              </a:rPr>
              <a:t> 2</a:t>
            </a:r>
            <a:br>
              <a:rPr sz="36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fr-CH" sz="3200" spc="-1" strike="noStrike">
                <a:solidFill>
                  <a:srgbClr val="000000"/>
                </a:solidFill>
                <a:latin typeface="Arial Black"/>
              </a:rPr>
              <a:t>¿</a:t>
            </a:r>
            <a:r>
              <a:rPr b="0" lang="es-ES_tradnl" sz="3200" spc="-1" strike="noStrike">
                <a:solidFill>
                  <a:srgbClr val="000000"/>
                </a:solidFill>
                <a:latin typeface="Arial Black"/>
              </a:rPr>
              <a:t>Cómo funciona el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 Black"/>
              </a:rPr>
              <a:t>Manual de Esfera</a:t>
            </a:r>
            <a:r>
              <a:rPr b="0" lang="fr-CH" sz="32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6019920" y="1219320"/>
            <a:ext cx="3124080" cy="947160"/>
            <a:chOff x="6019920" y="1219320"/>
            <a:chExt cx="3124080" cy="947160"/>
          </a:xfrm>
        </p:grpSpPr>
        <p:graphicFrame>
          <p:nvGraphicFramePr>
            <p:cNvPr id="225" name=""/>
            <p:cNvGraphicFramePr/>
            <p:nvPr/>
          </p:nvGraphicFramePr>
          <p:xfrm>
            <a:off x="6019920" y="1219320"/>
            <a:ext cx="2971800" cy="590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2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019920" y="1219320"/>
                      <a:ext cx="2971800" cy="59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7" name=""/>
            <p:cNvSpPr/>
            <p:nvPr/>
          </p:nvSpPr>
          <p:spPr>
            <a:xfrm>
              <a:off x="6019920" y="1219320"/>
              <a:ext cx="3124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ff"/>
                  </a:solidFill>
                  <a:latin typeface="Garamond"/>
                </a:rPr>
                <a:t>El Proyecto Esfer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C8743-AE4B-4903-BD99-1969241471E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Objetivos de aprendiza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106668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scutir cómo hacer uso del manual en trabajos  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humanitarios práct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" y="20574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ner de relieve el papel del Manual de Esfera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la mitigación de los efectos del ses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3048120"/>
            <a:ext cx="8381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batir los retos y oportunidades de utilizar el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nual de Esf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403848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xplorar los testimonios y experiencias que se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xtraen de la prác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2697F-5FD5-4B78-A63C-AEFD32B09C0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Aplic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129528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ortalecer el trabajo de incidenc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905120"/>
            <a:ext cx="8381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dir el rend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25146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acionalizar el uso de recur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312408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sibilitar la coordinación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- más de 20 idi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41148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ormar el currículum de capaci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" y="472428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omentar la particip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" y="52578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valuar las políticas (criterios de actuación) y los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procedimi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44128-1FE0-4948-8E1B-3F48D2882DA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Aplicaciones: ciclo del proye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523880" y="1902240"/>
            <a:ext cx="2820960" cy="1526760"/>
            <a:chOff x="1523880" y="1902240"/>
            <a:chExt cx="2820960" cy="1526760"/>
          </a:xfrm>
        </p:grpSpPr>
        <p:sp>
          <p:nvSpPr>
            <p:cNvPr id="243" name=""/>
            <p:cNvSpPr/>
            <p:nvPr/>
          </p:nvSpPr>
          <p:spPr>
            <a:xfrm>
              <a:off x="1523880" y="2743200"/>
              <a:ext cx="2362320" cy="685800"/>
            </a:xfrm>
            <a:prstGeom prst="rect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s-ES_tradnl" sz="2800" spc="-1" strike="noStrike">
                  <a:solidFill>
                    <a:srgbClr val="ff0000"/>
                  </a:solidFill>
                  <a:latin typeface="Arial"/>
                </a:rPr>
                <a:t>Evaluació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10800">
              <a:off x="3581280" y="1903320"/>
              <a:ext cx="762120" cy="838440"/>
            </a:xfrm>
            <a:custGeom>
              <a:avLst/>
              <a:gdLst>
                <a:gd name="textAreaLeft" fmla="*/ 0 w 762120"/>
                <a:gd name="textAreaRight" fmla="*/ 762480 w 762120"/>
                <a:gd name="textAreaTop" fmla="*/ 0 h 838440"/>
                <a:gd name="textAreaBottom" fmla="*/ 83880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3962520" y="4800600"/>
            <a:ext cx="3657600" cy="1143000"/>
            <a:chOff x="3962520" y="4800600"/>
            <a:chExt cx="3657600" cy="1143000"/>
          </a:xfrm>
        </p:grpSpPr>
        <p:sp>
          <p:nvSpPr>
            <p:cNvPr id="246" name=""/>
            <p:cNvSpPr/>
            <p:nvPr/>
          </p:nvSpPr>
          <p:spPr>
            <a:xfrm>
              <a:off x="5105520" y="4800600"/>
              <a:ext cx="2514600" cy="1143000"/>
            </a:xfrm>
            <a:prstGeom prst="rect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Planificación de program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962520" y="5105520"/>
              <a:ext cx="1143000" cy="533160"/>
            </a:xfrm>
            <a:prstGeom prst="leftArrow">
              <a:avLst>
                <a:gd name="adj1" fmla="val 50000"/>
                <a:gd name="adj2" fmla="val 53596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4572000" y="1523880"/>
            <a:ext cx="3513960" cy="999000"/>
            <a:chOff x="4572000" y="1523880"/>
            <a:chExt cx="3513960" cy="999000"/>
          </a:xfrm>
        </p:grpSpPr>
        <p:sp>
          <p:nvSpPr>
            <p:cNvPr id="249" name=""/>
            <p:cNvSpPr/>
            <p:nvPr/>
          </p:nvSpPr>
          <p:spPr>
            <a:xfrm>
              <a:off x="4572000" y="1523880"/>
              <a:ext cx="2819520" cy="685800"/>
            </a:xfrm>
            <a:prstGeom prst="rect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Valoración inici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5316600">
              <a:off x="7352640" y="1790280"/>
              <a:ext cx="762120" cy="685800"/>
            </a:xfrm>
            <a:custGeom>
              <a:avLst/>
              <a:gdLst>
                <a:gd name="textAreaLeft" fmla="*/ 0 w 762120"/>
                <a:gd name="textAreaRight" fmla="*/ 762480 w 76212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228600" y="1371600"/>
            <a:ext cx="4191120" cy="609480"/>
            <a:chOff x="228600" y="1371600"/>
            <a:chExt cx="4191120" cy="609480"/>
          </a:xfrm>
        </p:grpSpPr>
        <p:sp>
          <p:nvSpPr>
            <p:cNvPr id="252" name=""/>
            <p:cNvSpPr/>
            <p:nvPr/>
          </p:nvSpPr>
          <p:spPr>
            <a:xfrm>
              <a:off x="228600" y="1371600"/>
              <a:ext cx="2971800" cy="609480"/>
            </a:xfrm>
            <a:prstGeom prst="rect">
              <a:avLst/>
            </a:prstGeom>
            <a:solidFill>
              <a:srgbClr val="0066cc"/>
            </a:solidFill>
            <a:ln w="507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s-ES_tradnl" sz="3200" spc="-1" strike="noStrike">
                  <a:solidFill>
                    <a:srgbClr val="ffffff"/>
                  </a:solidFill>
                  <a:latin typeface="Arial"/>
                </a:rPr>
                <a:t>Preparació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200400" y="1523880"/>
              <a:ext cx="1219320" cy="304920"/>
            </a:xfrm>
            <a:prstGeom prst="rightArrow">
              <a:avLst>
                <a:gd name="adj1" fmla="val 50000"/>
                <a:gd name="adj2" fmla="val 99970"/>
              </a:avLst>
            </a:prstGeom>
            <a:solidFill>
              <a:srgbClr val="0066cc"/>
            </a:solidFill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1523880" y="3654720"/>
            <a:ext cx="2362320" cy="2288880"/>
            <a:chOff x="1523880" y="3654720"/>
            <a:chExt cx="2362320" cy="2288880"/>
          </a:xfrm>
        </p:grpSpPr>
        <p:sp>
          <p:nvSpPr>
            <p:cNvPr id="255" name=""/>
            <p:cNvSpPr/>
            <p:nvPr/>
          </p:nvSpPr>
          <p:spPr>
            <a:xfrm>
              <a:off x="1523880" y="4800600"/>
              <a:ext cx="2362320" cy="1143000"/>
            </a:xfrm>
            <a:prstGeom prst="rect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Seguimiento del impac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5434200">
              <a:off x="1523880" y="3962160"/>
              <a:ext cx="1143000" cy="533520"/>
            </a:xfrm>
            <a:prstGeom prst="leftArrow">
              <a:avLst>
                <a:gd name="adj1" fmla="val 50000"/>
                <a:gd name="adj2" fmla="val 53559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6781680" y="2743200"/>
            <a:ext cx="1981440" cy="2817360"/>
            <a:chOff x="6781680" y="2743200"/>
            <a:chExt cx="1981440" cy="2817360"/>
          </a:xfrm>
        </p:grpSpPr>
        <p:sp>
          <p:nvSpPr>
            <p:cNvPr id="258" name=""/>
            <p:cNvSpPr/>
            <p:nvPr/>
          </p:nvSpPr>
          <p:spPr>
            <a:xfrm>
              <a:off x="6781680" y="2743200"/>
              <a:ext cx="1981440" cy="1219320"/>
            </a:xfrm>
            <a:prstGeom prst="rect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Análisis de problem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7695720" y="3962520"/>
              <a:ext cx="762480" cy="1598040"/>
              <a:chOff x="7695720" y="3962520"/>
              <a:chExt cx="762480" cy="1598040"/>
            </a:xfrm>
          </p:grpSpPr>
          <p:sp>
            <p:nvSpPr>
              <p:cNvPr id="260" name=""/>
              <p:cNvSpPr/>
              <p:nvPr/>
            </p:nvSpPr>
            <p:spPr>
              <a:xfrm rot="10800000">
                <a:off x="7695720" y="4647960"/>
                <a:ext cx="762120" cy="912600"/>
              </a:xfrm>
              <a:custGeom>
                <a:avLst/>
                <a:gdLst>
                  <a:gd name="textAreaLeft" fmla="*/ 0 w 762120"/>
                  <a:gd name="textAreaRight" fmla="*/ 762480 w 762120"/>
                  <a:gd name="textAreaTop" fmla="*/ 0 h 912600"/>
                  <a:gd name="textAreaBottom" fmla="*/ 912960 h 912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229600" y="3962520"/>
                <a:ext cx="228600" cy="7617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4573440" y="2362320"/>
            <a:ext cx="1654200" cy="236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90AE5-5EEC-499A-85B5-E8575257364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04920" y="1219320"/>
            <a:ext cx="8534160" cy="48765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Uso de Esfera para mitigar el ses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0" y="1447920"/>
            <a:ext cx="2362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200" spc="-1" strike="noStrike">
                <a:solidFill>
                  <a:srgbClr val="ff0000"/>
                </a:solidFill>
                <a:latin typeface="Arial"/>
              </a:rPr>
              <a:t>El contexto de la comunidad en su conjun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6215040" y="2514600"/>
            <a:ext cx="1862280" cy="183024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5638680" y="4343400"/>
            <a:ext cx="2210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ara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una persona que tiene un martillo en la mano todos los problemas son 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lavos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80880" y="1139760"/>
            <a:ext cx="5333760" cy="4578120"/>
            <a:chOff x="380880" y="1139760"/>
            <a:chExt cx="5333760" cy="4578120"/>
          </a:xfrm>
        </p:grpSpPr>
        <p:sp>
          <p:nvSpPr>
            <p:cNvPr id="269" name=""/>
            <p:cNvSpPr/>
            <p:nvPr/>
          </p:nvSpPr>
          <p:spPr>
            <a:xfrm>
              <a:off x="1350720" y="1139760"/>
              <a:ext cx="3297240" cy="3297240"/>
            </a:xfrm>
            <a:prstGeom prst="ellipse">
              <a:avLst/>
            </a:prstGeom>
            <a:solidFill>
              <a:srgbClr val="00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80880" y="2420640"/>
              <a:ext cx="3297240" cy="32972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7400" y="2400120"/>
              <a:ext cx="3297240" cy="3297240"/>
            </a:xfrm>
            <a:prstGeom prst="ellipse">
              <a:avLst/>
            </a:prstGeom>
            <a:solidFill>
              <a:srgbClr val="0066cc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1676520" y="1600200"/>
            <a:ext cx="2819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El mandato organizativo o la especialidad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438280" y="3519360"/>
            <a:ext cx="1371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SES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0880" y="4357800"/>
            <a:ext cx="2590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Recursos</a:t>
            </a:r>
            <a:r>
              <a:rPr b="0" lang="fr-CH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200400" y="4343400"/>
            <a:ext cx="2590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Necesidades humanita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A005F-D256-457A-A1AD-809B204B366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500"/>
                            </p:stCondLst>
                            <p:childTnLst>
                              <p:par>
                                <p:cTn id="76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Retos y oportun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378936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 respecto a las aplicaciones incluidas en la lista anterior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191120"/>
            <a:ext cx="8381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 Black"/>
              </a:rPr>
              <a:t>1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scutir los retos, riesgos o limit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62120" y="476712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 Black"/>
              </a:rPr>
              <a:t>2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scutir las oportunidades o benef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62120" y="5334120"/>
            <a:ext cx="8381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 Black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iscutir las estrategias para minimizar 1 y maximiza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755640" y="907920"/>
            <a:ext cx="5600880" cy="2909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07FCF-2843-4F90-9EAE-6BC4A8AE90A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Lo que representa Esf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0880" y="1066680"/>
            <a:ext cx="8610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3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3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La declaración de que las poblaciones afectadas por </a:t>
            </a: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conflictos </a:t>
            </a: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y calamidades tienen derecho a recibir </a:t>
            </a: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asistencia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0880" y="1981080"/>
            <a:ext cx="8382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3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3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El compromiso de tratar de alcanzar un nivel definido y </a:t>
            </a: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cuantificable de competencia y cumplimient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0880" y="28195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La destilación de los actuales conocimientos y experiencias </a:t>
            </a: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globales en una herramienta práctica para: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- personas individuales</a:t>
            </a:r>
            <a:br>
              <a:rPr sz="2100"/>
            </a:b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    - sus organizaciones</a:t>
            </a:r>
            <a:br>
              <a:rPr sz="2100"/>
            </a:b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    - la comunidad humanitari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0880" y="4984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3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3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El reto lanzado a todos los actores en la comunidad </a:t>
            </a: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humanitaria a favor de conseguir una mayor rendición de </a:t>
            </a: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cuentas y una mejor calida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951E5-EF70-4AA2-8BC4-1BA01FC0D2D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Black"/>
              </a:rPr>
              <a:t>www.sphereproject.o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04920" y="9810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Los recursos de la página web incluye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24000" y="16938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6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l Manual en inglés, francés, español, ruso y árabe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18960" y="2338560"/>
            <a:ext cx="84297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6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aterial de capacitación y guía para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apacitador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04920" y="2917800"/>
            <a:ext cx="5486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6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studios de cas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04920" y="3451320"/>
            <a:ext cx="5181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600" spc="-1" strike="noStrike">
                <a:solidFill>
                  <a:srgbClr val="ff0000"/>
                </a:solidFill>
                <a:latin typeface="Arial"/>
              </a:rPr>
              <a:t>•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Lecciones aprendidas de la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institucionalización de Esfer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4365720"/>
            <a:ext cx="41907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6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Informes anuale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4898880"/>
            <a:ext cx="5867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6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Boletines de inform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5181480" y="3200400"/>
            <a:ext cx="3861000" cy="2884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E87D6-12A3-4876-866B-6F1092600C3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0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127080" y="1041480"/>
            <a:ext cx="8889840" cy="101592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600" spc="-1" strike="noStrike">
                <a:solidFill>
                  <a:srgbClr val="ccccff"/>
                </a:solidFill>
                <a:latin typeface="Arial"/>
              </a:rPr>
              <a:t>Módulo</a:t>
            </a:r>
            <a:r>
              <a:rPr b="0" lang="fr-CH" sz="3600" spc="-1" strike="noStrike">
                <a:solidFill>
                  <a:srgbClr val="ccccff"/>
                </a:solidFill>
                <a:latin typeface="Arial"/>
              </a:rPr>
              <a:t> 1</a:t>
            </a:r>
            <a:br>
              <a:rPr sz="4400"/>
            </a:br>
            <a:br>
              <a:rPr sz="4400"/>
            </a:br>
            <a:br>
              <a:rPr sz="36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s-ES_tradnl" sz="3200" spc="-1" strike="noStrike">
                <a:solidFill>
                  <a:srgbClr val="000000"/>
                </a:solidFill>
                <a:latin typeface="Arial Black"/>
              </a:rPr>
              <a:t>Ejercicios opci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6019920" y="1219320"/>
            <a:ext cx="3124080" cy="947160"/>
            <a:chOff x="6019920" y="1219320"/>
            <a:chExt cx="3124080" cy="947160"/>
          </a:xfrm>
        </p:grpSpPr>
        <p:graphicFrame>
          <p:nvGraphicFramePr>
            <p:cNvPr id="299" name=""/>
            <p:cNvGraphicFramePr/>
            <p:nvPr/>
          </p:nvGraphicFramePr>
          <p:xfrm>
            <a:off x="6019920" y="1219320"/>
            <a:ext cx="2971800" cy="590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0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019920" y="1219320"/>
                      <a:ext cx="2971800" cy="59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1" name=""/>
            <p:cNvSpPr/>
            <p:nvPr/>
          </p:nvSpPr>
          <p:spPr>
            <a:xfrm>
              <a:off x="6019920" y="1219320"/>
              <a:ext cx="3124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ff"/>
                  </a:solidFill>
                  <a:latin typeface="Garamond"/>
                </a:rPr>
                <a:t>El Proyecto Esfer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D7C9B-604B-4913-820F-B8E0B110ED2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27080" y="838080"/>
            <a:ext cx="8889840" cy="5181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Contexto y conten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rcRect l="0" t="0" r="0" b="37503"/>
          <a:stretch/>
        </p:blipFill>
        <p:spPr>
          <a:xfrm>
            <a:off x="838080" y="1447920"/>
            <a:ext cx="3079800" cy="3429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62840" y="4946760"/>
            <a:ext cx="127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otos - ACNUR</a:t>
            </a: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rcRect l="0" t="0" r="39443" b="0"/>
          <a:stretch/>
        </p:blipFill>
        <p:spPr>
          <a:xfrm>
            <a:off x="4038480" y="1447920"/>
            <a:ext cx="350532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3231A-26ED-416E-9FB1-6A3784388CC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Ejemplos de hitos históricos en el  humanitar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80880" y="1676520"/>
            <a:ext cx="8382240" cy="0"/>
          </a:xfrm>
          <a:prstGeom prst="line">
            <a:avLst/>
          </a:prstGeom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990720" y="1066680"/>
            <a:ext cx="1523880" cy="2438640"/>
            <a:chOff x="990720" y="1066680"/>
            <a:chExt cx="1523880" cy="2438640"/>
          </a:xfrm>
        </p:grpSpPr>
        <p:sp>
          <p:nvSpPr>
            <p:cNvPr id="305" name=""/>
            <p:cNvSpPr/>
            <p:nvPr/>
          </p:nvSpPr>
          <p:spPr>
            <a:xfrm>
              <a:off x="1295280" y="1066680"/>
              <a:ext cx="12193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GB" sz="1600" spc="-1" strike="noStrike">
                  <a:solidFill>
                    <a:srgbClr val="ff0000"/>
                  </a:solidFill>
                  <a:latin typeface="Arial"/>
                </a:rPr>
                <a:t>13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990720" y="2895480"/>
              <a:ext cx="12189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s-ES_tradnl" sz="1500" spc="-1" strike="noStrike">
                  <a:solidFill>
                    <a:srgbClr val="ff0000"/>
                  </a:solidFill>
                  <a:latin typeface="Arial"/>
                </a:rPr>
                <a:t>La pest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600200" y="1676520"/>
              <a:ext cx="0" cy="1218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1219320" y="1066680"/>
            <a:ext cx="1904760" cy="4191120"/>
            <a:chOff x="1219320" y="1066680"/>
            <a:chExt cx="1904760" cy="4191120"/>
          </a:xfrm>
        </p:grpSpPr>
        <p:sp>
          <p:nvSpPr>
            <p:cNvPr id="309" name=""/>
            <p:cNvSpPr/>
            <p:nvPr/>
          </p:nvSpPr>
          <p:spPr>
            <a:xfrm>
              <a:off x="1828800" y="1066680"/>
              <a:ext cx="12193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br>
                <a:rPr sz="1600"/>
              </a:b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17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219320" y="4648320"/>
              <a:ext cx="19047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s-ES_tradnl" sz="1500" spc="-1" strike="noStrike">
                  <a:solidFill>
                    <a:srgbClr val="000000"/>
                  </a:solidFill>
                  <a:latin typeface="Arial"/>
                </a:rPr>
                <a:t>Los conocimientos sobre salud pública alargan </a:t>
              </a:r>
              <a:br>
                <a:rPr sz="1500"/>
              </a:br>
              <a:r>
                <a:rPr b="1" lang="es-ES_tradnl" sz="1500" spc="-1" strike="noStrike">
                  <a:solidFill>
                    <a:srgbClr val="000000"/>
                  </a:solidFill>
                  <a:latin typeface="Arial"/>
                </a:rPr>
                <a:t>la vida human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133720" y="1676520"/>
              <a:ext cx="0" cy="281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2743200" y="1066680"/>
            <a:ext cx="1523880" cy="4191120"/>
            <a:chOff x="2743200" y="1066680"/>
            <a:chExt cx="1523880" cy="4191120"/>
          </a:xfrm>
        </p:grpSpPr>
        <p:sp>
          <p:nvSpPr>
            <p:cNvPr id="313" name=""/>
            <p:cNvSpPr/>
            <p:nvPr/>
          </p:nvSpPr>
          <p:spPr>
            <a:xfrm>
              <a:off x="2843280" y="1066680"/>
              <a:ext cx="13683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1919</a:t>
              </a:r>
              <a:br>
                <a:rPr sz="1200"/>
              </a:b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1ª Guerra </a:t>
              </a:r>
              <a:br>
                <a:rPr sz="1200"/>
              </a:b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Mundi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743200" y="4648320"/>
              <a:ext cx="15238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Save the Children</a:t>
              </a:r>
              <a:br>
                <a:rPr sz="1500"/>
              </a:br>
              <a:r>
                <a:rPr b="1" lang="es-ES_tradnl" sz="1500" spc="-1" strike="noStrike">
                  <a:solidFill>
                    <a:srgbClr val="000000"/>
                  </a:solidFill>
                  <a:latin typeface="Arial"/>
                </a:rPr>
                <a:t>Sociedad </a:t>
              </a:r>
              <a:br>
                <a:rPr sz="1500"/>
              </a:br>
              <a:r>
                <a:rPr b="1" lang="es-ES_tradnl" sz="1500" spc="-1" strike="noStrike">
                  <a:solidFill>
                    <a:srgbClr val="000000"/>
                  </a:solidFill>
                  <a:latin typeface="Arial"/>
                </a:rPr>
                <a:t>de </a:t>
              </a:r>
              <a:br>
                <a:rPr sz="1500"/>
              </a:br>
              <a:r>
                <a:rPr b="1" lang="es-ES_tradnl" sz="1500" spc="-1" strike="noStrike">
                  <a:solidFill>
                    <a:srgbClr val="000000"/>
                  </a:solidFill>
                  <a:latin typeface="Arial"/>
                </a:rPr>
                <a:t>Nacion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505320" y="1676520"/>
              <a:ext cx="0" cy="281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2133720" y="1066680"/>
            <a:ext cx="1218960" cy="2514600"/>
            <a:chOff x="2133720" y="1066680"/>
            <a:chExt cx="1218960" cy="2514600"/>
          </a:xfrm>
        </p:grpSpPr>
        <p:sp>
          <p:nvSpPr>
            <p:cNvPr id="317" name=""/>
            <p:cNvSpPr/>
            <p:nvPr/>
          </p:nvSpPr>
          <p:spPr>
            <a:xfrm>
              <a:off x="2133720" y="1066680"/>
              <a:ext cx="12189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GB" sz="1600" spc="-1" strike="noStrike">
                  <a:solidFill>
                    <a:srgbClr val="ff0000"/>
                  </a:solidFill>
                  <a:latin typeface="Arial"/>
                </a:rPr>
                <a:t>Solferino 1859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209680" y="2971800"/>
              <a:ext cx="9907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s-ES_tradnl" sz="1500" spc="-1" strike="noStrike">
                  <a:solidFill>
                    <a:srgbClr val="ff0000"/>
                  </a:solidFill>
                  <a:latin typeface="Arial"/>
                </a:rPr>
                <a:t>Cruz Roj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743200" y="1676520"/>
              <a:ext cx="0" cy="1218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3429000" y="981000"/>
            <a:ext cx="1417680" cy="2600280"/>
            <a:chOff x="3429000" y="981000"/>
            <a:chExt cx="1417680" cy="2600280"/>
          </a:xfrm>
        </p:grpSpPr>
        <p:sp>
          <p:nvSpPr>
            <p:cNvPr id="321" name=""/>
            <p:cNvSpPr/>
            <p:nvPr/>
          </p:nvSpPr>
          <p:spPr>
            <a:xfrm>
              <a:off x="3564000" y="981000"/>
              <a:ext cx="128268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1945</a:t>
              </a:r>
              <a:br>
                <a:rPr sz="1200"/>
              </a:b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2ª Guerra </a:t>
              </a:r>
              <a:br>
                <a:rPr sz="1200"/>
              </a:b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Mundi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429000" y="2971800"/>
              <a:ext cx="13716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s-ES_tradnl" sz="1500" spc="-1" strike="noStrike">
                  <a:solidFill>
                    <a:srgbClr val="ff0000"/>
                  </a:solidFill>
                  <a:latin typeface="Arial"/>
                </a:rPr>
                <a:t>Carta de las Naciones Unidas</a:t>
              </a:r>
              <a:br>
                <a:rPr sz="1500"/>
              </a:br>
              <a:r>
                <a:rPr b="1" lang="es-ES_tradnl" sz="1500" spc="-1" strike="noStrike">
                  <a:solidFill>
                    <a:srgbClr val="ff0000"/>
                  </a:solidFill>
                  <a:latin typeface="Arial"/>
                </a:rPr>
                <a:t>CARE</a:t>
              </a:r>
              <a:br>
                <a:rPr sz="1500"/>
              </a:br>
              <a:r>
                <a:rPr b="1" lang="es-ES_tradnl" sz="1500" spc="-1" strike="noStrike">
                  <a:solidFill>
                    <a:srgbClr val="ff0000"/>
                  </a:solidFill>
                  <a:latin typeface="Arial"/>
                </a:rPr>
                <a:t>Oxfam</a:t>
              </a:r>
              <a:br>
                <a:rPr sz="1500"/>
              </a:br>
              <a:r>
                <a:rPr b="1" lang="es-ES_tradnl" sz="1500" spc="-1" strike="noStrike">
                  <a:solidFill>
                    <a:srgbClr val="ff0000"/>
                  </a:solidFill>
                  <a:latin typeface="Arial"/>
                </a:rPr>
                <a:t>LWF</a:t>
              </a:r>
              <a:br>
                <a:rPr sz="1500"/>
              </a:br>
              <a:r>
                <a:rPr b="1" lang="es-ES_tradnl" sz="1500" spc="-1" strike="noStrike">
                  <a:solidFill>
                    <a:srgbClr val="ff0000"/>
                  </a:solidFill>
                  <a:latin typeface="Arial"/>
                </a:rPr>
                <a:t>IR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114800" y="1676520"/>
              <a:ext cx="0" cy="1218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809880" y="1066680"/>
            <a:ext cx="1828800" cy="4191120"/>
            <a:chOff x="3809880" y="1066680"/>
            <a:chExt cx="1828800" cy="4191120"/>
          </a:xfrm>
        </p:grpSpPr>
        <p:sp>
          <p:nvSpPr>
            <p:cNvPr id="325" name=""/>
            <p:cNvSpPr/>
            <p:nvPr/>
          </p:nvSpPr>
          <p:spPr>
            <a:xfrm>
              <a:off x="4419720" y="1066680"/>
              <a:ext cx="9903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br>
                <a:rPr sz="1600"/>
              </a:b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1948/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809880" y="4648320"/>
              <a:ext cx="18288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s-ES_tradnl" sz="1500" spc="-1" strike="noStrike">
                  <a:solidFill>
                    <a:srgbClr val="000000"/>
                  </a:solidFill>
                  <a:latin typeface="Arial"/>
                </a:rPr>
                <a:t>Convenios de Ginebra</a:t>
              </a:r>
              <a:br>
                <a:rPr sz="1500"/>
              </a:b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DUDH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724280" y="1676520"/>
              <a:ext cx="0" cy="281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0" y="1066680"/>
            <a:ext cx="1600200" cy="4191120"/>
            <a:chOff x="0" y="1066680"/>
            <a:chExt cx="1600200" cy="4191120"/>
          </a:xfrm>
        </p:grpSpPr>
        <p:sp>
          <p:nvSpPr>
            <p:cNvPr id="329" name=""/>
            <p:cNvSpPr/>
            <p:nvPr/>
          </p:nvSpPr>
          <p:spPr>
            <a:xfrm>
              <a:off x="380880" y="1066680"/>
              <a:ext cx="12193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br>
                <a:rPr sz="1600"/>
              </a:b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1000 A.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0" y="4648320"/>
              <a:ext cx="16002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s-ES_tradnl" sz="1500" spc="-1" strike="noStrike">
                  <a:solidFill>
                    <a:srgbClr val="000000"/>
                  </a:solidFill>
                  <a:latin typeface="Arial"/>
                </a:rPr>
                <a:t>Orden de </a:t>
              </a:r>
              <a:br>
                <a:rPr sz="1500"/>
              </a:br>
              <a:r>
                <a:rPr b="1" lang="es-ES_tradnl" sz="1500" spc="-1" strike="noStrike">
                  <a:solidFill>
                    <a:srgbClr val="000000"/>
                  </a:solidFill>
                  <a:latin typeface="Arial"/>
                </a:rPr>
                <a:t>Malt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38080" y="1676520"/>
              <a:ext cx="0" cy="281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4419720" y="1066680"/>
            <a:ext cx="1828800" cy="2514600"/>
            <a:chOff x="4419720" y="1066680"/>
            <a:chExt cx="1828800" cy="2514600"/>
          </a:xfrm>
        </p:grpSpPr>
        <p:sp>
          <p:nvSpPr>
            <p:cNvPr id="333" name=""/>
            <p:cNvSpPr/>
            <p:nvPr/>
          </p:nvSpPr>
          <p:spPr>
            <a:xfrm>
              <a:off x="4800600" y="1066680"/>
              <a:ext cx="9907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GB" sz="1600" spc="-1" strike="noStrike">
                  <a:solidFill>
                    <a:srgbClr val="ff0000"/>
                  </a:solidFill>
                  <a:latin typeface="Arial"/>
                </a:rPr>
                <a:t>195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419720" y="2971800"/>
              <a:ext cx="18288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s-ES_tradnl" sz="1500" spc="-1" strike="noStrike">
                  <a:solidFill>
                    <a:srgbClr val="ff0000"/>
                  </a:solidFill>
                  <a:latin typeface="Arial"/>
                </a:rPr>
                <a:t>Convención sobre </a:t>
              </a:r>
              <a:br>
                <a:rPr sz="1500"/>
              </a:br>
              <a:r>
                <a:rPr b="1" lang="es-ES_tradnl" sz="1500" spc="-1" strike="noStrike">
                  <a:solidFill>
                    <a:srgbClr val="ff0000"/>
                  </a:solidFill>
                  <a:latin typeface="Arial"/>
                </a:rPr>
                <a:t>Refugiados y ACNU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334120" y="1676520"/>
              <a:ext cx="0" cy="1218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5562720" y="1066680"/>
            <a:ext cx="990360" cy="4191120"/>
            <a:chOff x="5562720" y="1066680"/>
            <a:chExt cx="990360" cy="4191120"/>
          </a:xfrm>
        </p:grpSpPr>
        <p:sp>
          <p:nvSpPr>
            <p:cNvPr id="337" name=""/>
            <p:cNvSpPr/>
            <p:nvPr/>
          </p:nvSpPr>
          <p:spPr>
            <a:xfrm>
              <a:off x="5562720" y="1066680"/>
              <a:ext cx="9903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1969</a:t>
              </a:r>
              <a:br>
                <a:rPr sz="1600"/>
              </a:b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Biaf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562720" y="4648320"/>
              <a:ext cx="7617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MS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943600" y="1676520"/>
              <a:ext cx="0" cy="281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-76320" y="1066680"/>
            <a:ext cx="1447920" cy="2743200"/>
            <a:chOff x="-76320" y="1066680"/>
            <a:chExt cx="1447920" cy="2743200"/>
          </a:xfrm>
        </p:grpSpPr>
        <p:sp>
          <p:nvSpPr>
            <p:cNvPr id="341" name=""/>
            <p:cNvSpPr/>
            <p:nvPr/>
          </p:nvSpPr>
          <p:spPr>
            <a:xfrm>
              <a:off x="76320" y="1066680"/>
              <a:ext cx="12189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GB" sz="1600" spc="-1" strike="noStrike">
                  <a:solidFill>
                    <a:srgbClr val="ff0000"/>
                  </a:solidFill>
                  <a:latin typeface="Arial"/>
                </a:rPr>
                <a:t>460 B.C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-76320" y="3200400"/>
              <a:ext cx="14479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s-ES_tradnl" sz="1500" spc="-1" strike="noStrike">
                  <a:solidFill>
                    <a:srgbClr val="ff0000"/>
                  </a:solidFill>
                  <a:latin typeface="Arial"/>
                </a:rPr>
                <a:t>Hipócrat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0880" y="1676520"/>
              <a:ext cx="0" cy="1218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5638680" y="1052640"/>
            <a:ext cx="1828800" cy="4647600"/>
            <a:chOff x="5638680" y="1052640"/>
            <a:chExt cx="1828800" cy="4647600"/>
          </a:xfrm>
        </p:grpSpPr>
        <p:sp>
          <p:nvSpPr>
            <p:cNvPr id="345" name=""/>
            <p:cNvSpPr/>
            <p:nvPr/>
          </p:nvSpPr>
          <p:spPr>
            <a:xfrm>
              <a:off x="6095880" y="1052640"/>
              <a:ext cx="9907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GB" sz="1600" spc="-1" strike="noStrike">
                  <a:solidFill>
                    <a:srgbClr val="ff0000"/>
                  </a:solidFill>
                  <a:latin typeface="Arial"/>
                </a:rPr>
                <a:t>1976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638680" y="5091120"/>
              <a:ext cx="182880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br>
                <a:rPr sz="1600"/>
              </a:br>
              <a:r>
                <a:rPr b="1" lang="en-GB" sz="16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s-ES_tradnl" sz="1500" spc="-1" strike="noStrike">
                  <a:solidFill>
                    <a:srgbClr val="ff0000"/>
                  </a:solidFill>
                  <a:latin typeface="Arial"/>
                </a:rPr>
                <a:t>Ratificación de la Carta Internacional </a:t>
              </a:r>
              <a:br>
                <a:rPr sz="1500"/>
              </a:br>
              <a:r>
                <a:rPr b="1" lang="es-ES_tradnl" sz="1500" spc="-1" strike="noStrike">
                  <a:solidFill>
                    <a:srgbClr val="ff0000"/>
                  </a:solidFill>
                  <a:latin typeface="Arial"/>
                </a:rPr>
                <a:t>de Derechos Humano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553080" y="1662120"/>
              <a:ext cx="0" cy="3276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6659640" y="1066680"/>
            <a:ext cx="1828800" cy="4191120"/>
            <a:chOff x="6659640" y="1066680"/>
            <a:chExt cx="1828800" cy="4191120"/>
          </a:xfrm>
        </p:grpSpPr>
        <p:sp>
          <p:nvSpPr>
            <p:cNvPr id="349" name=""/>
            <p:cNvSpPr/>
            <p:nvPr/>
          </p:nvSpPr>
          <p:spPr>
            <a:xfrm>
              <a:off x="7192800" y="1066680"/>
              <a:ext cx="9907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GB" sz="1600" spc="-1" strike="noStrike">
                  <a:solidFill>
                    <a:srgbClr val="ff0000"/>
                  </a:solidFill>
                  <a:latin typeface="Arial"/>
                </a:rPr>
                <a:t>198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659640" y="4648320"/>
              <a:ext cx="18288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GB" sz="1500" spc="-1" strike="noStrike">
                  <a:solidFill>
                    <a:srgbClr val="ff0000"/>
                  </a:solidFill>
                  <a:latin typeface="Arial"/>
                </a:rPr>
                <a:t>Fin de la </a:t>
              </a:r>
              <a:br>
                <a:rPr sz="1500"/>
              </a:br>
              <a:r>
                <a:rPr b="1" lang="en-GB" sz="1500" spc="-1" strike="noStrike">
                  <a:solidFill>
                    <a:srgbClr val="ff0000"/>
                  </a:solidFill>
                  <a:latin typeface="Arial"/>
                </a:rPr>
                <a:t>guerra frí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574040" y="1676520"/>
              <a:ext cx="0" cy="2819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7696080" y="1066680"/>
            <a:ext cx="1828800" cy="2514600"/>
            <a:chOff x="7696080" y="1066680"/>
            <a:chExt cx="1828800" cy="2514600"/>
          </a:xfrm>
        </p:grpSpPr>
        <p:sp>
          <p:nvSpPr>
            <p:cNvPr id="353" name=""/>
            <p:cNvSpPr/>
            <p:nvPr/>
          </p:nvSpPr>
          <p:spPr>
            <a:xfrm>
              <a:off x="8763120" y="1676520"/>
              <a:ext cx="0" cy="1218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1066680"/>
              <a:ext cx="9907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GB" sz="1600" spc="-1" strike="noStrike">
                  <a:solidFill>
                    <a:srgbClr val="ff0000"/>
                  </a:solidFill>
                  <a:latin typeface="Arial"/>
                </a:rPr>
                <a:t>199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696080" y="2971800"/>
              <a:ext cx="18288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s-ES_tradnl" sz="1500" spc="-1" strike="noStrike">
                  <a:solidFill>
                    <a:srgbClr val="ff0000"/>
                  </a:solidFill>
                  <a:latin typeface="Arial"/>
                </a:rPr>
                <a:t>Principios rectores </a:t>
              </a:r>
              <a:br>
                <a:rPr sz="1500"/>
              </a:br>
              <a:r>
                <a:rPr b="1" lang="es-ES_tradnl" sz="1500" spc="-1" strike="noStrike">
                  <a:solidFill>
                    <a:srgbClr val="ff0000"/>
                  </a:solidFill>
                  <a:latin typeface="Arial"/>
                </a:rPr>
                <a:t>sobre </a:t>
              </a:r>
              <a:br>
                <a:rPr sz="1500"/>
              </a:br>
              <a:r>
                <a:rPr b="1" lang="es-ES_tradnl" sz="1500" spc="-1" strike="noStrike">
                  <a:solidFill>
                    <a:srgbClr val="ff0000"/>
                  </a:solidFill>
                  <a:latin typeface="Arial"/>
                </a:rPr>
                <a:t>PID</a:t>
              </a:r>
              <a:br>
                <a:rPr sz="1500"/>
              </a:br>
              <a:r>
                <a:rPr b="1" lang="es-ES_tradnl" sz="1500" spc="-1" strike="noStrike">
                  <a:solidFill>
                    <a:srgbClr val="ff0000"/>
                  </a:solidFill>
                  <a:latin typeface="Arial"/>
                </a:rPr>
                <a:t>Esfer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7162920" y="1295280"/>
            <a:ext cx="1828800" cy="4800600"/>
            <a:chOff x="7162920" y="1295280"/>
            <a:chExt cx="1828800" cy="4800600"/>
          </a:xfrm>
        </p:grpSpPr>
        <p:sp>
          <p:nvSpPr>
            <p:cNvPr id="357" name=""/>
            <p:cNvSpPr/>
            <p:nvPr/>
          </p:nvSpPr>
          <p:spPr>
            <a:xfrm>
              <a:off x="7620120" y="1295280"/>
              <a:ext cx="9907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199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162920" y="5486400"/>
              <a:ext cx="18288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s-ES_tradnl" sz="1500" spc="-1" strike="noStrike">
                  <a:solidFill>
                    <a:srgbClr val="000000"/>
                  </a:solidFill>
                  <a:latin typeface="Arial"/>
                </a:rPr>
                <a:t>Genocidio de Ruanda, Código de Conducta para la Cruz Roja/Media Luna Roj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077320" y="1676520"/>
              <a:ext cx="0" cy="373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6324480" y="1295280"/>
            <a:ext cx="1524240" cy="2286000"/>
            <a:chOff x="6324480" y="1295280"/>
            <a:chExt cx="1524240" cy="2286000"/>
          </a:xfrm>
        </p:grpSpPr>
        <p:sp>
          <p:nvSpPr>
            <p:cNvPr id="361" name=""/>
            <p:cNvSpPr/>
            <p:nvPr/>
          </p:nvSpPr>
          <p:spPr>
            <a:xfrm>
              <a:off x="6553080" y="1295280"/>
              <a:ext cx="9907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198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324480" y="2971800"/>
              <a:ext cx="15242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s-ES_tradnl" sz="1500" spc="-1" strike="noStrike">
                  <a:solidFill>
                    <a:srgbClr val="000000"/>
                  </a:solidFill>
                  <a:latin typeface="Arial"/>
                </a:rPr>
                <a:t>Hambruna </a:t>
              </a:r>
              <a:br>
                <a:rPr sz="1500"/>
              </a:br>
              <a:r>
                <a:rPr b="1" lang="es-ES_tradnl" sz="1500" spc="-1" strike="noStrike">
                  <a:solidFill>
                    <a:srgbClr val="000000"/>
                  </a:solidFill>
                  <a:latin typeface="Arial"/>
                </a:rPr>
                <a:t>de Etiopí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086600" y="1676520"/>
              <a:ext cx="0" cy="1218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5ACFE-940A-41A8-BFE0-66A8C8B005E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Herramientas para llevar a la práctica los principios y val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867280" y="2971800"/>
            <a:ext cx="3657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da capítulo incluy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867280" y="3581280"/>
            <a:ext cx="3048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Normas Mín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666880" y="1066680"/>
            <a:ext cx="2133720" cy="681120"/>
            <a:chOff x="2666880" y="1066680"/>
            <a:chExt cx="2133720" cy="681120"/>
          </a:xfrm>
        </p:grpSpPr>
        <p:sp>
          <p:nvSpPr>
            <p:cNvPr id="62" name=""/>
            <p:cNvSpPr/>
            <p:nvPr/>
          </p:nvSpPr>
          <p:spPr>
            <a:xfrm>
              <a:off x="2666880" y="1066680"/>
              <a:ext cx="190512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ntroducción</a:t>
              </a:r>
              <a:br>
                <a:rPr sz="1400"/>
              </a:b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¿Qué es Esfera?</a:t>
              </a:r>
              <a:br>
                <a:rPr sz="1400"/>
              </a:b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66880" y="1066680"/>
              <a:ext cx="2133720" cy="544680"/>
            </a:xfrm>
            <a:prstGeom prst="rect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5867280" y="4267080"/>
            <a:ext cx="3048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ndicadores cla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867280" y="4952880"/>
            <a:ext cx="3048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Notas de ori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248520" y="1676520"/>
            <a:ext cx="1676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br>
              <a:rPr sz="2800"/>
            </a:br>
            <a:r>
              <a:rPr b="1" lang="es-ES_tradnl" sz="2800" spc="-1" strike="noStrike">
                <a:solidFill>
                  <a:srgbClr val="0066cc"/>
                </a:solidFill>
                <a:latin typeface="Arial"/>
              </a:rPr>
              <a:t>Edición de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685800" y="1905120"/>
            <a:ext cx="1828440" cy="533160"/>
            <a:chOff x="685800" y="1905120"/>
            <a:chExt cx="1828440" cy="533160"/>
          </a:xfrm>
        </p:grpSpPr>
        <p:sp>
          <p:nvSpPr>
            <p:cNvPr id="68" name=""/>
            <p:cNvSpPr/>
            <p:nvPr/>
          </p:nvSpPr>
          <p:spPr>
            <a:xfrm>
              <a:off x="685800" y="1905120"/>
              <a:ext cx="13716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El Código de Conduc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85800" y="1905120"/>
              <a:ext cx="1633680" cy="533160"/>
            </a:xfrm>
            <a:prstGeom prst="rect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5400000">
              <a:off x="2173680" y="2097720"/>
              <a:ext cx="528480" cy="1522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2666880" y="1905120"/>
            <a:ext cx="2133720" cy="765000"/>
            <a:chOff x="2666880" y="1905120"/>
            <a:chExt cx="2133720" cy="765000"/>
          </a:xfrm>
        </p:grpSpPr>
        <p:grpSp>
          <p:nvGrpSpPr>
            <p:cNvPr id="72" name=""/>
            <p:cNvGrpSpPr/>
            <p:nvPr/>
          </p:nvGrpSpPr>
          <p:grpSpPr>
            <a:xfrm>
              <a:off x="2666880" y="1905120"/>
              <a:ext cx="2133720" cy="488880"/>
              <a:chOff x="2666880" y="1905120"/>
              <a:chExt cx="2133720" cy="488880"/>
            </a:xfrm>
          </p:grpSpPr>
          <p:sp>
            <p:nvSpPr>
              <p:cNvPr id="73" name=""/>
              <p:cNvSpPr/>
              <p:nvPr/>
            </p:nvSpPr>
            <p:spPr>
              <a:xfrm>
                <a:off x="2666880" y="1905120"/>
                <a:ext cx="1676520" cy="48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96920"/>
                    <a:tab algn="l" pos="393840"/>
                    <a:tab algn="l" pos="590400"/>
                    <a:tab algn="l" pos="787320"/>
                    <a:tab algn="l" pos="984240"/>
                    <a:tab algn="l" pos="1181160"/>
                    <a:tab algn="l" pos="1378080"/>
                    <a:tab algn="l" pos="1574640"/>
                    <a:tab algn="l" pos="1771560"/>
                    <a:tab algn="l" pos="1968480"/>
                    <a:tab algn="l" pos="2165400"/>
                    <a:tab algn="l" pos="2362320"/>
                    <a:tab algn="l" pos="2558880"/>
                    <a:tab algn="l" pos="2755800"/>
                    <a:tab algn="l" pos="2952720"/>
                    <a:tab algn="l" pos="3149640"/>
                    <a:tab algn="l" pos="3346560"/>
                    <a:tab algn="l" pos="3543480"/>
                    <a:tab algn="l" pos="3740040"/>
                    <a:tab algn="l" pos="393696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La Carta Humanitari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666880" y="1905120"/>
                <a:ext cx="2133720" cy="488880"/>
              </a:xfrm>
              <a:prstGeom prst="rect">
                <a:avLst/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96920"/>
                    <a:tab algn="l" pos="393840"/>
                    <a:tab algn="l" pos="590400"/>
                    <a:tab algn="l" pos="787320"/>
                    <a:tab algn="l" pos="984240"/>
                    <a:tab algn="l" pos="1181160"/>
                    <a:tab algn="l" pos="1378080"/>
                    <a:tab algn="l" pos="1574640"/>
                    <a:tab algn="l" pos="1771560"/>
                    <a:tab algn="l" pos="1968480"/>
                    <a:tab algn="l" pos="2165400"/>
                    <a:tab algn="l" pos="2362320"/>
                    <a:tab algn="l" pos="2558880"/>
                    <a:tab algn="l" pos="2755800"/>
                    <a:tab algn="l" pos="2952720"/>
                    <a:tab algn="l" pos="3149640"/>
                    <a:tab algn="l" pos="3346560"/>
                    <a:tab algn="l" pos="3543480"/>
                    <a:tab algn="l" pos="3740040"/>
                    <a:tab algn="l" pos="39369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 rot="10831200">
              <a:off x="3351960" y="2463840"/>
              <a:ext cx="685800" cy="2030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2666880" y="2743200"/>
            <a:ext cx="2895840" cy="3124080"/>
            <a:chOff x="2666880" y="2743200"/>
            <a:chExt cx="2895840" cy="3124080"/>
          </a:xfrm>
        </p:grpSpPr>
        <p:grpSp>
          <p:nvGrpSpPr>
            <p:cNvPr id="77" name=""/>
            <p:cNvGrpSpPr/>
            <p:nvPr/>
          </p:nvGrpSpPr>
          <p:grpSpPr>
            <a:xfrm>
              <a:off x="2666880" y="2743200"/>
              <a:ext cx="2133720" cy="546120"/>
              <a:chOff x="2666880" y="2743200"/>
              <a:chExt cx="2133720" cy="546120"/>
            </a:xfrm>
          </p:grpSpPr>
          <p:sp>
            <p:nvSpPr>
              <p:cNvPr id="78" name=""/>
              <p:cNvSpPr/>
              <p:nvPr/>
            </p:nvSpPr>
            <p:spPr>
              <a:xfrm>
                <a:off x="2666880" y="2743200"/>
                <a:ext cx="2133720" cy="54612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96920"/>
                    <a:tab algn="l" pos="393840"/>
                    <a:tab algn="l" pos="590400"/>
                    <a:tab algn="l" pos="787320"/>
                    <a:tab algn="l" pos="984240"/>
                    <a:tab algn="l" pos="1181160"/>
                    <a:tab algn="l" pos="1378080"/>
                    <a:tab algn="l" pos="1574640"/>
                    <a:tab algn="l" pos="1771560"/>
                    <a:tab algn="l" pos="1968480"/>
                    <a:tab algn="l" pos="2165400"/>
                    <a:tab algn="l" pos="2362320"/>
                    <a:tab algn="l" pos="2558880"/>
                    <a:tab algn="l" pos="2755800"/>
                    <a:tab algn="l" pos="2952720"/>
                    <a:tab algn="l" pos="3149640"/>
                    <a:tab algn="l" pos="3346560"/>
                    <a:tab algn="l" pos="3543480"/>
                    <a:tab algn="l" pos="3740040"/>
                    <a:tab algn="l" pos="39369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666880" y="2743200"/>
                <a:ext cx="1905120" cy="5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96920"/>
                    <a:tab algn="l" pos="393840"/>
                    <a:tab algn="l" pos="590400"/>
                    <a:tab algn="l" pos="787320"/>
                    <a:tab algn="l" pos="984240"/>
                    <a:tab algn="l" pos="1181160"/>
                    <a:tab algn="l" pos="1378080"/>
                    <a:tab algn="l" pos="1574640"/>
                    <a:tab algn="l" pos="1771560"/>
                    <a:tab algn="l" pos="1968480"/>
                    <a:tab algn="l" pos="2165400"/>
                    <a:tab algn="l" pos="2362320"/>
                    <a:tab algn="l" pos="2558880"/>
                    <a:tab algn="l" pos="2755800"/>
                    <a:tab algn="l" pos="2952720"/>
                    <a:tab algn="l" pos="3149640"/>
                    <a:tab algn="l" pos="3346560"/>
                    <a:tab algn="l" pos="3543480"/>
                    <a:tab algn="l" pos="3740040"/>
                    <a:tab algn="l" pos="393696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Normas comunes a todos los sector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5562720" y="3056040"/>
              <a:ext cx="0" cy="281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00600" y="3056040"/>
              <a:ext cx="762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2627280" y="3429000"/>
            <a:ext cx="2935440" cy="617400"/>
            <a:chOff x="2627280" y="3429000"/>
            <a:chExt cx="2935440" cy="617400"/>
          </a:xfrm>
        </p:grpSpPr>
        <p:grpSp>
          <p:nvGrpSpPr>
            <p:cNvPr id="83" name=""/>
            <p:cNvGrpSpPr/>
            <p:nvPr/>
          </p:nvGrpSpPr>
          <p:grpSpPr>
            <a:xfrm>
              <a:off x="2627280" y="3429000"/>
              <a:ext cx="2478240" cy="617400"/>
              <a:chOff x="2627280" y="3429000"/>
              <a:chExt cx="2478240" cy="617400"/>
            </a:xfrm>
          </p:grpSpPr>
          <p:sp>
            <p:nvSpPr>
              <p:cNvPr id="84" name=""/>
              <p:cNvSpPr/>
              <p:nvPr/>
            </p:nvSpPr>
            <p:spPr>
              <a:xfrm>
                <a:off x="2666880" y="3429000"/>
                <a:ext cx="2133720" cy="61740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96920"/>
                    <a:tab algn="l" pos="393840"/>
                    <a:tab algn="l" pos="590400"/>
                    <a:tab algn="l" pos="787320"/>
                    <a:tab algn="l" pos="984240"/>
                    <a:tab algn="l" pos="1181160"/>
                    <a:tab algn="l" pos="1378080"/>
                    <a:tab algn="l" pos="1574640"/>
                    <a:tab algn="l" pos="1771560"/>
                    <a:tab algn="l" pos="1968480"/>
                    <a:tab algn="l" pos="2165400"/>
                    <a:tab algn="l" pos="2362320"/>
                    <a:tab algn="l" pos="2558880"/>
                    <a:tab algn="l" pos="2755800"/>
                    <a:tab algn="l" pos="2952720"/>
                    <a:tab algn="l" pos="3149640"/>
                    <a:tab algn="l" pos="3346560"/>
                    <a:tab algn="l" pos="3543480"/>
                    <a:tab algn="l" pos="3740040"/>
                    <a:tab algn="l" pos="39369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627280" y="3429000"/>
                <a:ext cx="201600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96920"/>
                    <a:tab algn="l" pos="393840"/>
                    <a:tab algn="l" pos="590400"/>
                    <a:tab algn="l" pos="787320"/>
                    <a:tab algn="l" pos="984240"/>
                    <a:tab algn="l" pos="1181160"/>
                    <a:tab algn="l" pos="1378080"/>
                    <a:tab algn="l" pos="1574640"/>
                    <a:tab algn="l" pos="1771560"/>
                    <a:tab algn="l" pos="1968480"/>
                    <a:tab algn="l" pos="2165400"/>
                    <a:tab algn="l" pos="2362320"/>
                    <a:tab algn="l" pos="2558880"/>
                    <a:tab algn="l" pos="2755800"/>
                    <a:tab algn="l" pos="2952720"/>
                    <a:tab algn="l" pos="3149640"/>
                    <a:tab algn="l" pos="3346560"/>
                    <a:tab algn="l" pos="3543480"/>
                    <a:tab algn="l" pos="3740040"/>
                    <a:tab algn="l" pos="393696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Abastecimiento de </a:t>
                </a: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agua</a:t>
                </a: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saneamiento</a:t>
                </a: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 y fomento de la </a:t>
                </a: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higien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6199400">
                <a:off x="4726800" y="3578760"/>
                <a:ext cx="528480" cy="22860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5105520" y="365760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2666880" y="4191120"/>
            <a:ext cx="2895840" cy="596520"/>
            <a:chOff x="2666880" y="4191120"/>
            <a:chExt cx="2895840" cy="596520"/>
          </a:xfrm>
        </p:grpSpPr>
        <p:sp>
          <p:nvSpPr>
            <p:cNvPr id="89" name=""/>
            <p:cNvSpPr/>
            <p:nvPr/>
          </p:nvSpPr>
          <p:spPr>
            <a:xfrm>
              <a:off x="2666880" y="4191120"/>
              <a:ext cx="205740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Seguridad alimentaria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nutrición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 y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ayuda alimentar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666880" y="4191120"/>
              <a:ext cx="2133720" cy="5965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199400">
              <a:off x="4693680" y="4377600"/>
              <a:ext cx="591120" cy="2286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105520" y="444672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2666880" y="4876920"/>
            <a:ext cx="2895840" cy="609120"/>
            <a:chOff x="2666880" y="4876920"/>
            <a:chExt cx="2895840" cy="609120"/>
          </a:xfrm>
        </p:grpSpPr>
        <p:sp>
          <p:nvSpPr>
            <p:cNvPr id="94" name=""/>
            <p:cNvSpPr/>
            <p:nvPr/>
          </p:nvSpPr>
          <p:spPr>
            <a:xfrm>
              <a:off x="2666880" y="4876920"/>
              <a:ext cx="190512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Refugios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 / viviendas, asentamientos y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artícu-los no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alimentari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666880" y="4876920"/>
              <a:ext cx="2133720" cy="6091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rot="16199400">
              <a:off x="4689000" y="5064480"/>
              <a:ext cx="604080" cy="2286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05520" y="513792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666880" y="5562720"/>
            <a:ext cx="2895840" cy="533160"/>
            <a:chOff x="2666880" y="5562720"/>
            <a:chExt cx="2895840" cy="533160"/>
          </a:xfrm>
        </p:grpSpPr>
        <p:sp>
          <p:nvSpPr>
            <p:cNvPr id="99" name=""/>
            <p:cNvSpPr/>
            <p:nvPr/>
          </p:nvSpPr>
          <p:spPr>
            <a:xfrm>
              <a:off x="2666880" y="5562720"/>
              <a:ext cx="16765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Servicios de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salu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666880" y="5562720"/>
              <a:ext cx="2133720" cy="5331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6199400">
              <a:off x="4726800" y="5716440"/>
              <a:ext cx="528120" cy="2286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105520" y="586728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60E60-B3E5-4310-BD97-5F6D199CF35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¿Por qué es necesario el Manual de Esfer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5105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Post-Ruanda 1994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- Evaluación de multidonantes: “Muertes innecesaria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105264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La preocupación de las ONG con la calidad y 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la responsabilidad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 ha sido continu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La práctica histórica ya no es suficiente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 Mayor complejidad de los desastres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 Creciente número de desastres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 Evolución de la comunidad humanitaria y creciente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versidad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 Aumento en el número de actores que miden el éxito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 modos diverso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B123E-3FF1-4532-AF71-1E54480AB23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76720" y="2349360"/>
            <a:ext cx="2158920" cy="21592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Consultas exten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0800000">
            <a:off x="837720" y="3733560"/>
            <a:ext cx="1676520" cy="1143000"/>
          </a:xfrm>
          <a:prstGeom prst="wedgeRoundRectCallout">
            <a:avLst>
              <a:gd name="adj1" fmla="val -121208"/>
              <a:gd name="adj2" fmla="val 81384"/>
              <a:gd name="adj3" fmla="val 16667"/>
            </a:avLst>
          </a:prstGeom>
          <a:solidFill>
            <a:srgbClr val="00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000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ers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0800000">
            <a:off x="2666880" y="5105520"/>
            <a:ext cx="2286000" cy="914400"/>
          </a:xfrm>
          <a:prstGeom prst="wedgeRoundRectCallout">
            <a:avLst>
              <a:gd name="adj1" fmla="val -23819"/>
              <a:gd name="adj2" fmla="val 194092"/>
              <a:gd name="adj3" fmla="val 16667"/>
            </a:avLst>
          </a:prstGeom>
          <a:solidFill>
            <a:srgbClr val="00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rganiz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714640" y="4724280"/>
            <a:ext cx="2895480" cy="990720"/>
          </a:xfrm>
          <a:prstGeom prst="wedgeRoundRectCallout">
            <a:avLst>
              <a:gd name="adj1" fmla="val 81796"/>
              <a:gd name="adj2" fmla="val 144550"/>
              <a:gd name="adj3" fmla="val 16667"/>
            </a:avLst>
          </a:prstGeom>
          <a:solidFill>
            <a:srgbClr val="00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80 países 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undo ente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095880" y="1219320"/>
            <a:ext cx="2438640" cy="925560"/>
            <a:chOff x="6095880" y="1219320"/>
            <a:chExt cx="2438640" cy="925560"/>
          </a:xfrm>
        </p:grpSpPr>
        <p:sp>
          <p:nvSpPr>
            <p:cNvPr id="113" name=""/>
            <p:cNvSpPr/>
            <p:nvPr/>
          </p:nvSpPr>
          <p:spPr>
            <a:xfrm>
              <a:off x="6095880" y="1219320"/>
              <a:ext cx="243864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0" lang="es-ES_tradnl" sz="2000" spc="-1" strike="noStrike">
                  <a:solidFill>
                    <a:srgbClr val="0066cc"/>
                  </a:solidFill>
                  <a:latin typeface="Arial"/>
                </a:rPr>
                <a:t>Edición revisada del manual </a:t>
              </a:r>
              <a:r>
                <a:rPr b="0" lang="es-ES_tradnl" sz="2000" spc="-1" strike="noStrike">
                  <a:solidFill>
                    <a:srgbClr val="0066cc"/>
                  </a:solidFill>
                  <a:latin typeface="Arial Black"/>
                </a:rPr>
                <a:t>20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095880" y="1219320"/>
              <a:ext cx="2438640" cy="925560"/>
            </a:xfrm>
            <a:prstGeom prst="rect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04920" y="1219320"/>
            <a:ext cx="2743200" cy="925560"/>
            <a:chOff x="304920" y="1219320"/>
            <a:chExt cx="2743200" cy="925560"/>
          </a:xfrm>
        </p:grpSpPr>
        <p:sp>
          <p:nvSpPr>
            <p:cNvPr id="116" name=""/>
            <p:cNvSpPr/>
            <p:nvPr/>
          </p:nvSpPr>
          <p:spPr>
            <a:xfrm>
              <a:off x="380880" y="1219320"/>
              <a:ext cx="228600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0" lang="es-ES_tradnl" sz="2000" spc="-1" strike="noStrike">
                  <a:solidFill>
                    <a:srgbClr val="0066cc"/>
                  </a:solidFill>
                  <a:latin typeface="Arial"/>
                </a:rPr>
                <a:t>Consulta inicial</a:t>
              </a:r>
              <a:br>
                <a:rPr sz="2000"/>
              </a:br>
              <a:r>
                <a:rPr b="0" lang="es-ES_tradnl" sz="2000" spc="-1" strike="noStrike">
                  <a:solidFill>
                    <a:srgbClr val="0066cc"/>
                  </a:solidFill>
                  <a:latin typeface="Arial"/>
                </a:rPr>
                <a:t> </a:t>
              </a:r>
              <a:r>
                <a:rPr b="0" lang="es-ES_tradnl" sz="2000" spc="-1" strike="noStrike">
                  <a:solidFill>
                    <a:srgbClr val="0066cc"/>
                  </a:solidFill>
                  <a:latin typeface="Arial Black"/>
                </a:rPr>
                <a:t>199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4920" y="1219320"/>
              <a:ext cx="2057400" cy="925560"/>
            </a:xfrm>
            <a:prstGeom prst="rect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362320" y="1523880"/>
              <a:ext cx="685800" cy="381240"/>
            </a:xfrm>
            <a:prstGeom prst="rightArrow">
              <a:avLst>
                <a:gd name="adj1" fmla="val 50000"/>
                <a:gd name="adj2" fmla="val 44972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3048120" y="1219320"/>
            <a:ext cx="3047760" cy="925560"/>
            <a:chOff x="3048120" y="1219320"/>
            <a:chExt cx="3047760" cy="925560"/>
          </a:xfrm>
        </p:grpSpPr>
        <p:grpSp>
          <p:nvGrpSpPr>
            <p:cNvPr id="120" name=""/>
            <p:cNvGrpSpPr/>
            <p:nvPr/>
          </p:nvGrpSpPr>
          <p:grpSpPr>
            <a:xfrm>
              <a:off x="3048120" y="1219320"/>
              <a:ext cx="2457360" cy="925560"/>
              <a:chOff x="3048120" y="1219320"/>
              <a:chExt cx="2457360" cy="925560"/>
            </a:xfrm>
          </p:grpSpPr>
          <p:sp>
            <p:nvSpPr>
              <p:cNvPr id="121" name=""/>
              <p:cNvSpPr/>
              <p:nvPr/>
            </p:nvSpPr>
            <p:spPr>
              <a:xfrm>
                <a:off x="3056040" y="1219320"/>
                <a:ext cx="243036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96920"/>
                    <a:tab algn="l" pos="393840"/>
                    <a:tab algn="l" pos="590400"/>
                    <a:tab algn="l" pos="787320"/>
                    <a:tab algn="l" pos="984240"/>
                    <a:tab algn="l" pos="1181160"/>
                    <a:tab algn="l" pos="1378080"/>
                    <a:tab algn="l" pos="1574640"/>
                    <a:tab algn="l" pos="1771560"/>
                    <a:tab algn="l" pos="1968480"/>
                    <a:tab algn="l" pos="2165400"/>
                    <a:tab algn="l" pos="2362320"/>
                    <a:tab algn="l" pos="2558880"/>
                    <a:tab algn="l" pos="2755800"/>
                    <a:tab algn="l" pos="2952720"/>
                    <a:tab algn="l" pos="3149640"/>
                    <a:tab algn="l" pos="3346560"/>
                    <a:tab algn="l" pos="3543480"/>
                    <a:tab algn="l" pos="3740040"/>
                    <a:tab algn="l" pos="3936960"/>
                  </a:tabLst>
                </a:pPr>
                <a:r>
                  <a:rPr b="0" lang="es-ES_tradnl" sz="2400" spc="-1" strike="noStrike">
                    <a:solidFill>
                      <a:srgbClr val="0066cc"/>
                    </a:solidFill>
                    <a:latin typeface="Arial"/>
                  </a:rPr>
                  <a:t>Lanzamiento del manual </a:t>
                </a:r>
                <a:r>
                  <a:rPr b="0" lang="es-ES_tradnl" sz="2400" spc="-1" strike="noStrike">
                    <a:solidFill>
                      <a:srgbClr val="0066cc"/>
                    </a:solidFill>
                    <a:latin typeface="Arial Black"/>
                  </a:rPr>
                  <a:t>20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048120" y="1219320"/>
                <a:ext cx="2457360" cy="925560"/>
              </a:xfrm>
              <a:prstGeom prst="rect">
                <a:avLst/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96920"/>
                    <a:tab algn="l" pos="393840"/>
                    <a:tab algn="l" pos="590400"/>
                    <a:tab algn="l" pos="787320"/>
                    <a:tab algn="l" pos="984240"/>
                    <a:tab algn="l" pos="1181160"/>
                    <a:tab algn="l" pos="1378080"/>
                    <a:tab algn="l" pos="1574640"/>
                    <a:tab algn="l" pos="1771560"/>
                    <a:tab algn="l" pos="1968480"/>
                    <a:tab algn="l" pos="2165400"/>
                    <a:tab algn="l" pos="2362320"/>
                    <a:tab algn="l" pos="2558880"/>
                    <a:tab algn="l" pos="2755800"/>
                    <a:tab algn="l" pos="2952720"/>
                    <a:tab algn="l" pos="3149640"/>
                    <a:tab algn="l" pos="3346560"/>
                    <a:tab algn="l" pos="3543480"/>
                    <a:tab algn="l" pos="3740040"/>
                    <a:tab algn="l" pos="39369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5486400" y="1523880"/>
              <a:ext cx="609480" cy="381240"/>
            </a:xfrm>
            <a:prstGeom prst="rightArrow">
              <a:avLst>
                <a:gd name="adj1" fmla="val 50000"/>
                <a:gd name="adj2" fmla="val 39967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7093080" y="2438280"/>
            <a:ext cx="1439640" cy="20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6A7EA-9D86-4932-9EF9-79C607B412A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733920" y="3276720"/>
            <a:ext cx="1828800" cy="914400"/>
          </a:xfrm>
          <a:prstGeom prst="flowChartManualOperation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81080" y="1828800"/>
            <a:ext cx="1828800" cy="914400"/>
          </a:xfrm>
          <a:prstGeom prst="flowChartManualOperation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4114800"/>
            <a:ext cx="82296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295280"/>
            <a:ext cx="6172200" cy="838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743200"/>
            <a:ext cx="7010280" cy="838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El proceso de Esf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1295280"/>
            <a:ext cx="6324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esenta los argumentos a favor de que la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istencia sea universal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90480" y="4191120"/>
            <a:ext cx="8453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canzar el consenso sobre indicadores téc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236232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br>
              <a:rPr sz="2400"/>
            </a:b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seguir acuerdo sobre principios y actuaciones centrales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96A00-737C-4DF6-8CAC-B1220953842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200" spc="-1" strike="noStrike">
                <a:solidFill>
                  <a:srgbClr val="ccccff"/>
                </a:solidFill>
                <a:latin typeface="Arial"/>
              </a:rPr>
              <a:t>Principales actividades del proye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66800" y="16002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yor grado de concienci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6800" y="243828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stribución del manual y otras herrami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6800" y="3276720"/>
            <a:ext cx="8381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visiones técnicas del man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6800" y="41148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pacitación sobre cómo aplicar el man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6800" y="495288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poyo a las age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A0B29-366B-45C1-AAA4-7FAD7D4D9A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3400" spc="-1" strike="noStrike">
                <a:solidFill>
                  <a:srgbClr val="ccccff"/>
                </a:solidFill>
                <a:latin typeface="Arial"/>
              </a:rPr>
              <a:t>Gestión y financiació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3657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Financiación adicional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Australia, Bélgica, Canadá, Dinamarca, España, Estados Unidos,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inlandia, Holanda, Inglaterra, Irlanda, Noruega, Nueva Zelanda,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ino Unido, Suecia  y ECH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129528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Redes integradas en el Comité Directivo de 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Respuesta Humanitari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 7 redes, y además CICR y FICR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2590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Inte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3124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VOICE e IC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E18DD-1593-4E65-954B-6166D3E1F35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0T18:18:32Z</dcterms:created>
  <dc:creator>Phil</dc:creator>
  <dc:description/>
  <dc:language>en-US</dc:language>
  <cp:lastModifiedBy>Foubert</cp:lastModifiedBy>
  <dcterms:modified xsi:type="dcterms:W3CDTF">2005-01-25T15:35:02Z</dcterms:modified>
  <cp:revision>254</cp:revision>
  <dc:subject/>
  <dc:title>No Slide Title</dc:title>
</cp:coreProperties>
</file>