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10234800" cy="1466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733320"/>
          </a:xfrm>
          <a:prstGeom prst="rect">
            <a:avLst/>
          </a:prstGeom>
          <a:noFill/>
          <a:ln w="0">
            <a:noFill/>
          </a:ln>
        </p:spPr>
        <p:txBody>
          <a:bodyPr lIns="142200" rIns="142200" tIns="71280" bIns="71280" anchor="t">
            <a:noAutofit/>
          </a:bodyPr>
          <a:p>
            <a:pPr indent="0">
              <a:buNone/>
              <a:tabLst>
                <a:tab algn="l" pos="0"/>
                <a:tab algn="l" pos="1422360"/>
                <a:tab algn="l" pos="2844720"/>
                <a:tab algn="l" pos="4267080"/>
                <a:tab algn="l" pos="5689440"/>
                <a:tab algn="l" pos="7112160"/>
                <a:tab algn="l" pos="8534520"/>
                <a:tab algn="l" pos="99568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799240" y="-360"/>
            <a:ext cx="4435200" cy="733320"/>
          </a:xfrm>
          <a:prstGeom prst="rect">
            <a:avLst/>
          </a:prstGeom>
          <a:noFill/>
          <a:ln w="0">
            <a:noFill/>
          </a:ln>
        </p:spPr>
        <p:txBody>
          <a:bodyPr lIns="142200" rIns="142200" tIns="71280" bIns="71280" anchor="t">
            <a:noAutofit/>
          </a:bodyPr>
          <a:lstStyle>
            <a:lvl1pPr indent="0" algn="r">
              <a:buNone/>
              <a:tabLst>
                <a:tab algn="l" pos="0"/>
                <a:tab algn="l" pos="1422360"/>
                <a:tab algn="l" pos="2844720"/>
                <a:tab algn="l" pos="4267080"/>
                <a:tab algn="l" pos="5689440"/>
                <a:tab algn="l" pos="7112160"/>
                <a:tab algn="l" pos="8534520"/>
                <a:tab algn="l" pos="9956880"/>
              </a:tabLst>
              <a:defRPr b="0" lang="en-GB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422360"/>
                <a:tab algn="l" pos="2844720"/>
                <a:tab algn="l" pos="4267080"/>
                <a:tab algn="l" pos="5689440"/>
                <a:tab algn="l" pos="7112160"/>
                <a:tab algn="l" pos="8534520"/>
                <a:tab algn="l" pos="99568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452600" y="1099800"/>
            <a:ext cx="7332480" cy="54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1364760" y="6965640"/>
            <a:ext cx="7504200" cy="6597720"/>
          </a:xfrm>
          <a:prstGeom prst="rect">
            <a:avLst/>
          </a:prstGeom>
          <a:noFill/>
          <a:ln w="0">
            <a:noFill/>
          </a:ln>
        </p:spPr>
        <p:txBody>
          <a:bodyPr lIns="142200" rIns="142200" tIns="71280" bIns="71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13930200"/>
            <a:ext cx="4435560" cy="733680"/>
          </a:xfrm>
          <a:prstGeom prst="rect">
            <a:avLst/>
          </a:prstGeom>
          <a:noFill/>
          <a:ln w="0">
            <a:noFill/>
          </a:ln>
        </p:spPr>
        <p:txBody>
          <a:bodyPr lIns="142200" rIns="142200" tIns="71280" bIns="71280" anchor="b">
            <a:noAutofit/>
          </a:bodyPr>
          <a:lstStyle>
            <a:lvl1pPr indent="0">
              <a:buNone/>
              <a:tabLst>
                <a:tab algn="l" pos="0"/>
                <a:tab algn="l" pos="1422360"/>
                <a:tab algn="l" pos="2844720"/>
                <a:tab algn="l" pos="4267080"/>
                <a:tab algn="l" pos="5689440"/>
                <a:tab algn="l" pos="7112160"/>
                <a:tab algn="l" pos="8534520"/>
                <a:tab algn="l" pos="9956880"/>
              </a:tabLst>
              <a:defRPr b="0" lang="en-GB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422360"/>
                <a:tab algn="l" pos="2844720"/>
                <a:tab algn="l" pos="4267080"/>
                <a:tab algn="l" pos="5689440"/>
                <a:tab algn="l" pos="7112160"/>
                <a:tab algn="l" pos="8534520"/>
                <a:tab algn="l" pos="99568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5799240" y="13930200"/>
            <a:ext cx="4435200" cy="733680"/>
          </a:xfrm>
          <a:prstGeom prst="rect">
            <a:avLst/>
          </a:prstGeom>
          <a:noFill/>
          <a:ln w="0">
            <a:noFill/>
          </a:ln>
        </p:spPr>
        <p:txBody>
          <a:bodyPr lIns="142200" rIns="142200" tIns="71280" bIns="71280" anchor="b">
            <a:noAutofit/>
          </a:bodyPr>
          <a:lstStyle>
            <a:lvl1pPr indent="0" algn="r">
              <a:buNone/>
              <a:tabLst>
                <a:tab algn="l" pos="0"/>
                <a:tab algn="l" pos="1422360"/>
                <a:tab algn="l" pos="2844720"/>
                <a:tab algn="l" pos="4267080"/>
                <a:tab algn="l" pos="5689440"/>
                <a:tab algn="l" pos="7112160"/>
                <a:tab algn="l" pos="8534520"/>
                <a:tab algn="l" pos="9956880"/>
              </a:tabLst>
              <a:defRPr b="0" lang="en-GB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422360"/>
                <a:tab algn="l" pos="2844720"/>
                <a:tab algn="l" pos="4267080"/>
                <a:tab algn="l" pos="5689440"/>
                <a:tab algn="l" pos="7112160"/>
                <a:tab algn="l" pos="8534520"/>
                <a:tab algn="l" pos="9956880"/>
              </a:tabLst>
            </a:pPr>
            <a:fld id="{3E2FDBD8-D75A-4080-833A-0926ABFAF2AF}" type="slidenum"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sphereproject.org/" TargetMode="External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452600" y="1100160"/>
            <a:ext cx="7332480" cy="549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364760" y="6965640"/>
            <a:ext cx="7504200" cy="6597720"/>
          </a:xfrm>
          <a:prstGeom prst="rect">
            <a:avLst/>
          </a:prstGeom>
          <a:noFill/>
          <a:ln w="0">
            <a:noFill/>
          </a:ln>
        </p:spPr>
        <p:txBody>
          <a:bodyPr lIns="142200" rIns="142200" tIns="71280" bIns="712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repa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 te ruega que procedas del siguiente modo antes de usar la información provista para esta ses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epásala con cuid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amiliarízate con todo el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iensa en las necesidades de tu audi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sidera si hay algo que puedes hacer para añadir algo a los materiales o adaptarlos con el fin de concentrarte en las necesidades del grupo con el que trabaj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sesión de información deberá durar unos 30 minutos, algo así como 2 minutos por cada diaposi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xposi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ción br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quieres, puedes mantener este título en pantalla mientras las personas del grupo van entrando y se acomod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xplica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Proyecto Esfera ha desarrollado la Carta Humanitaria y las Normas mínimas en áreas centrales del auxilio de emerg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o no habría sucedido, y estas herramientas no serían necesarias, si en realidad se respetase la legislación internacional (y en particular los instrumentos legales del derecho internacional humanitario) y los tratados internacio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mayor parte de los conflictos y del sufrimiento humano sobre los que actúan en su respuesta las agencias humanitarias son consecuencia, principalmente, de las acciones de las partes beligerantes y del hecho de que con frecuencia la comunidad internacional se desentiende de lo que pas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n embargo, es cierto que también hay proyectos de socorro humanitario que están mal concebidos y ejecutados, en los que no es posible alegar como excusa razonable que la culpa de lo que sucedió fue que el contexto presentaba dificulta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se mejorase la actuación de las agencias, ello redundaría de manera directa y tal vez significativa en una reducción en el número de vidas perdidas y en menos sufrimiento a causa de actuaciones de baja calid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xplica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Proyecto Esfera mantiene que, como actores humanitarios, somos responsables de todo aquello que está bajo nuestro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compromiso de cumplir con las Normas mínimas es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un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de las posibles formas de reconocer y aceptar esa responsabilidad de un modo público y transpar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452600" y="1100160"/>
            <a:ext cx="7332480" cy="549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364760" y="6965640"/>
            <a:ext cx="7504200" cy="6597720"/>
          </a:xfrm>
          <a:prstGeom prst="rect">
            <a:avLst/>
          </a:prstGeom>
          <a:noFill/>
          <a:ln w="0">
            <a:noFill/>
          </a:ln>
        </p:spPr>
        <p:txBody>
          <a:bodyPr lIns="142200" rIns="142200" tIns="71280" bIns="7128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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unos 2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 esta diapositiva se desarrollan los siguientes pu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xplica qu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el Manual de Esfera es una importante herramienta de referencia técnica por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frece una herramienta para el trabajo de incidencia. Contribuye a fortalecer los argumentos a favor de prestar asistencia, porque provee un método claro de expresar las necesidades y demostrar el impact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uede contribuir a medir el rendi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uede ayudarte a identificar los recursos que van a ser necesarios, a racionalizarlos y a asignarlos a los fines en que podrían producir el mejor resultado. Y posibilita la coordinación entre diferentes países y organizaciones, porque constituye una referencia internacional que se emplea en todo el mundo y que ha sido traducida a más de 20 idiom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una importante herramienta que se puede integrar en los programas de capacitación, contribuyendo así a guiar e informar el currícul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frece guía sobre cómo participar en las actividades humanitarias, y permite y fomenta la participació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un método que las organizaciones pueden utilizar para evaluar la eficacia de sus políticas (criterios de actuación) y sus procedimi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452600" y="1100160"/>
            <a:ext cx="7332480" cy="549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364760" y="6965640"/>
            <a:ext cx="7504200" cy="6597720"/>
          </a:xfrm>
          <a:prstGeom prst="rect">
            <a:avLst/>
          </a:prstGeom>
          <a:noFill/>
          <a:ln w="0">
            <a:noFill/>
          </a:ln>
        </p:spPr>
        <p:txBody>
          <a:bodyPr lIns="142200" rIns="142200" tIns="71280" bIns="7128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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unos 2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xplica q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s Normas mínimas y los indicadores tienen muchas aplicaciones y ofrecen una amplia gama de oportunida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indicadores clave se pueden usar: como preguntas a hacerse a la hora de realizar la valoración inicial, como puntos de referencia durante el análisis, como metas de la planificación y como objetivos en el seguimiento y la evaluació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xplica q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Manual de Esfera se usa todo a lo largo del ciclo de gestión del desastre, a través de las siguientes etap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epar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espues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econstru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ehabili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itig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 particular, el Manual de Esfera puede informar adecuadamente las metas y el enfoque de la preparación para desastres, puesto que lo sustentan testimonios cada vez más amplios recibidos del programa pilot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xplica q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Manual de Esfera resulta útil desde el principio hasta el final del ciclo del proyect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or ejemplo, puede ayudar a los trabajadores humanitarios a tener en cuenta las cuestiones más importantes a la hora de estudiar cómo es necesario proceder durante una cri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urante el análisis de los problemas ofrece un marco de referencia que te ayudará a considerar cuáles son las cuestiones y las áreas que es necesario afrontar durante la cri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 la etapa de planificación del programa te permitirá identificar las acciones que es necesario realizar, y te ayudará a asignar recursos de un modo eficaz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demás, te facilitará el seguimiento del impacto de tu trabajo, porque te proporcionará un claro conjunto de medid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inalmente, te ayudará a evaluar el programa de manera sistemátic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452600" y="1100160"/>
            <a:ext cx="7332480" cy="549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364760" y="6965640"/>
            <a:ext cx="7504200" cy="6597720"/>
          </a:xfrm>
          <a:prstGeom prst="rect">
            <a:avLst/>
          </a:prstGeom>
          <a:noFill/>
          <a:ln w="0">
            <a:noFill/>
          </a:ln>
        </p:spPr>
        <p:txBody>
          <a:bodyPr lIns="142200" rIns="142200" tIns="71280" bIns="712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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unos 2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 esta última diapositiv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que es un resumen,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 desarrollan los siguientes punto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imero, explica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Proyecto Esfera es un proceso para elevar el grado de eficacia en la labor humanita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Manual de Esfera es un resultado y producto de este proceso que tiene importancia cl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fera representa un claro compromiso por parte de las agencias participan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fera representa la creencia de que las poblaciones afectadas por conflictos y calamidades tienen derecho a recibir apoyo y protec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 continuación, explica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fera demuestra que ha adquirido el compromiso de alcanzar un nivel cuantificable de competencia y cumpli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 continuación, explica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manual es una destilación de experiencias globales y las integra en una herramienta práct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inalmente, explica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fera se esfuerza por hacer frente al reto que afronta la comunidad humanitaria: lograr una mejor rendición de cuentas y una calidad más al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452600" y="1100160"/>
            <a:ext cx="7332480" cy="549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364760" y="6965640"/>
            <a:ext cx="7504200" cy="6597720"/>
          </a:xfrm>
          <a:prstGeom prst="rect">
            <a:avLst/>
          </a:prstGeom>
          <a:noFill/>
          <a:ln w="0">
            <a:noFill/>
          </a:ln>
        </p:spPr>
        <p:txBody>
          <a:bodyPr lIns="142200" rIns="142200" tIns="71280" bIns="7128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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unos 2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Ésta es una diapositiva que se va desarrollan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Introduce la diapositiva dicien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tonces, ¿por qué es necesario el Manual de Esfera?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imero, explica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de hace años las ONG están preocupadas por los temas de la calidad y la rendición de cuent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s prácticas de las cuales la acción humanitaria ha hecho uso en el pasado resultan ahora insuficientes, y es necesario introducir cambi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 continuación, explica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oy día, los retos humanitarios incluy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omplejidad cada vez mayor de las respuestas ante los casos de desas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incremento en el número de desas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aumento de la diversidad en la comunidad humanit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creciente número de actores humanitarios que definen el éxito de modos diversos, en función de quiénes sean aquellos ante los cuales tienen que rendir cuent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 continuación, explica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 aprendieron duras lecciones de la situación de Ruanda en 1994, que son exploradas en la Evaluación Multido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 esta evaluación se concluyó que hubo muchas "muertes innecesarias" dimanantes de la deficiente actuación de las ONG, y que era necesario que las ONG "pusieran orden en sus propios asunto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fera es uno de los resultados de este re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inalmente, haz un resumen explicando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 la comunidad humanitaria nos enfrentamos con varios problemas de tipo sistémic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demanda es mucho más alta que los recursos con que conta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calidad es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sfera es un intento de poner en marcha un lenguaje común para toda la comunidad humanitaria, con el cua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umentar la transparencia, rendición de cuentas y coordin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, en última instancia, mejorar la calidad de la asistencia ofrecida a aquellos a quienes aspiramos a ayud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452600" y="1100160"/>
            <a:ext cx="7332480" cy="549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364760" y="6965640"/>
            <a:ext cx="7504200" cy="6597720"/>
          </a:xfrm>
          <a:prstGeom prst="rect">
            <a:avLst/>
          </a:prstGeom>
          <a:noFill/>
          <a:ln w="0">
            <a:noFill/>
          </a:ln>
        </p:spPr>
        <p:txBody>
          <a:bodyPr lIns="142200" rIns="142200" tIns="71280" bIns="7128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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unos 2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Ésta es una diapositiva que se va desarrollan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imero, explica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Proyecto Esfera se puede ver como un proceso. En este proyecto se presentaron los argumentos a favor del derecho universal a recibir asistencia humanitaria basada en el derecho internacio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 continuación, explica q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e ha conseguido que haya consenso entre las ONG sobre cuáles son los principios y acciones centr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 continuación, explica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 el Proyecto Esfera se ha logrado llegar a un acuerdo dentro de la comunidad humanitaria sobre cuáles son los indicadores técnicos que los programas humanitarios deben logra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a información no es nueva, sino que más bien resume la opinión común sobre cuáles son las normas que las organizaciones humanitarias deben tratar de cumplir en el terre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Manual de Esfera es el resultado principal de este proce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demás, el proceso ha aportado ideas al debate dentro de la comunidad humanitaria sobre el tema de la calidad y la rendición de cuentas en la labor humanitar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452600" y="1100160"/>
            <a:ext cx="7332480" cy="549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364760" y="6965640"/>
            <a:ext cx="7504200" cy="6597720"/>
          </a:xfrm>
          <a:prstGeom prst="rect">
            <a:avLst/>
          </a:prstGeom>
          <a:noFill/>
          <a:ln w="0">
            <a:noFill/>
          </a:ln>
        </p:spPr>
        <p:txBody>
          <a:bodyPr lIns="142200" rIns="142200" tIns="71280" bIns="7128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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unos 2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e esta diapositiva explicando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Proyecto Esfera lleva a cabo numerosas actividades en el desempeño de su función de contribuir a comunicar e implementar herramientas como las Normas mínim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Proyecto Esfera opera con un pequeño equipo cen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a diapositiva se desarrolla utilizando los siguientes puntos. Explica que el Proyecto Esfe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ata de elevar el grado de concienciación dentro de la comunidad humanitaria sobre la existencia del Manual de Esfera, por medios que incluyen presentaciones, el sitio web y boletines de noticias enviados por e-m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tribuye el manual y otras herramientas a ONG, las Naciones Unidas, instituciones académicas y capacitad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aliza revisiones técnicas del man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 y dirige talleres de capacitación sobre cómo aplicar el man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frece apoyo a otras agenc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xplica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uedes encontrar más información sobre todas estas actividades en la web del Proyecto Esfera: (</a:t>
            </a: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sphereproject.org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452600" y="1100160"/>
            <a:ext cx="7332480" cy="549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364760" y="6965640"/>
            <a:ext cx="7504200" cy="6597720"/>
          </a:xfrm>
          <a:prstGeom prst="rect">
            <a:avLst/>
          </a:prstGeom>
          <a:noFill/>
          <a:ln w="0">
            <a:noFill/>
          </a:ln>
        </p:spPr>
        <p:txBody>
          <a:bodyPr lIns="142200" rIns="142200" tIns="71280" bIns="7128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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unos 2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xplica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Proyecto Esfera cuenta con una amplia base de apoyo en términos de su gestión y financiació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proyecto lo dirige un representante del Comité de Gestió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das las entidades que son miembros del Comité de Gestión aportan fondos para el proyec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as entidades-miembros son las siete que componen el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Steering Committee for Humanitarian Response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(SHCR – Comité Directivo de Respuesta Humanitaria) junto con el Comité Internacional de la Cruz Roja (CICR) y la Federación Internacional de Sociedades de la Cruz Roja y la Media Luna Roja (FICRML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ambién participan dos representantes de Inte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 cuenta con la presencia de observadores de VOICE,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Voluntary Organisations In Cooperation in Emergencie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(Organizaciones Voluntarias para la Cooperación en Situaciones de Emergencia) y de ICVA,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International Council of Voluntary Agencie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(Consejo Internacional de Agencias Voluntaria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xplica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 cuenta asimismo con el apoyo prestado por muchos países, entre ellos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ustralia, Bélgica, Canadá, Dinamarca, España, Estados Unidos, Finlandia, Holanda, Inglaterra, Irlanda, Noruega, Nueva Zelanda y Sueci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ambién contamos con el apoyo de ECHO, la Oficina de Ayuda Humanitaria de la Unión Europ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452600" y="1100160"/>
            <a:ext cx="7332480" cy="549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364760" y="6965640"/>
            <a:ext cx="7504200" cy="6597720"/>
          </a:xfrm>
          <a:prstGeom prst="rect">
            <a:avLst/>
          </a:prstGeom>
          <a:noFill/>
          <a:ln w="0">
            <a:noFill/>
          </a:ln>
        </p:spPr>
        <p:txBody>
          <a:bodyPr lIns="142200" rIns="142200" tIns="71280" bIns="7128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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unos 2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Ésta es una diapositiva que se va desarrollando. Primero, explica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arta Humanitaria facilita una reflexión crítica sobre los valores y principios que son comunes a la comunidad humanitar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tiene un compromiso general de promover la observancia de principios humanitarios fundamentales y la apreciación de las obligaciones éticas de los trabajadores humanitarios y sus organizaci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do ello refleja la creencia en el principio humanitario, la primacía del imperativo humanitario y la idea de que nuestras acciones deben ser regidas por dicho imperativ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 continuación, explica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 l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 Carta Humanitaria se formula una declaración de los principios humanitari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 ella se bosquejan principios clave basados en el Código de Conducta relativo al 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corro en casos de desastre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ra el Movimiento Internacional de la Cruz Roja y la Media Luna Roja y las organizaciones no gubernamentales (ONG), así como en las partes pertinentes del derecho internacio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Hay tres principios fundamenta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l derecho a vivir con dignidad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se basa en el derecho internacional sobre derechos hum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a distinción entre combatientes y no combatiente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se basa en los Convenios de Gineb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l principio de no devolució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se basa en el derecho internacional de refugiad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 continuación, explica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 l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 Carta Humanitaria se describen también los roles y responsabilidades de los diversos actores tal como están recogidos en el derecho internacio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 continuación, explica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 la Carta Humanitaria se bosqueja asimismo el compromiso de alcanzar niveles definidos de servicio (es decir, las Normas mínimas) sobre la base única de la necesidad sentida y el derecho a vivir con dignidad que tiene la person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inalmente, explica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 la Carta Humanitaria se reconoce que la responsabilidad princi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l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de los actores humanitarios es ante aquellos a quienes tratamos de prestar asist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452600" y="1100160"/>
            <a:ext cx="7332480" cy="549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364760" y="6965640"/>
            <a:ext cx="7504200" cy="6597720"/>
          </a:xfrm>
          <a:prstGeom prst="rect">
            <a:avLst/>
          </a:prstGeom>
          <a:noFill/>
          <a:ln w="0">
            <a:noFill/>
          </a:ln>
        </p:spPr>
        <p:txBody>
          <a:bodyPr lIns="142200" rIns="142200" tIns="71280" bIns="71280" anchor="t">
            <a:noAutofit/>
          </a:bodyPr>
          <a:p>
            <a:pPr marL="10152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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unos 3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Ésta es una diapositiva que se va desarrollan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imero, explica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o vimos antes, en cada capítulo técnico se facilitan herramientas en la forma de Normas mínimas, indicadores clave y notas de orientació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s Normas mínimas son metas universales que representan algunos de los componentes de una vida digna para todas las perso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 continuación, explica q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indicadores clave ayudan a las agencias a comprobar si se han cumplido las Normas mínimas de maneras prácticas y observab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ay varios tipos de indicadores en el manu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indicadores son herramientas que usamos para medir, no solamente los resultados específicos esperados, sino también los resultados globales y el impacto alcanzado por nuestros programas, así como los procesos empleados para llevar a cabo dichos program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uso de indicadores medibles para cuantificar y cualificar los resultados es un elemento clave para determinar qué es lo que se ha conseguido en la operación de respuesta al desast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indicadores posibilitan el diseño de programas y contribuyen a establecer una constancia clara de los fundamentos lógicos que subyacen a los program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indicadores facilitan un medio de medir la calidad, y ofrecen oportunidades para llevar a cabo proyectos que se realizan en colaboración y que son transparen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se utilizan de forma apropiada, los indicadores clave no sólo hacen más fácil la gestión de la información, sino que además contribuyen a proteger los derechos huma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inalmente, explica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 las notas de orientación se presentan lecciones aprendidas de desastres anteri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as notas sirven para determinar indicadores apropiados para contextos particular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 los apéndices de cada capítulo se encontrarán más consejos y herramientas adicio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Proyecto Esfer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ódul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27080" y="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4400"/>
            </a:br>
            <a:br>
              <a:rPr sz="44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Exposición breve sobre el Proyecto Esf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19920" y="1219320"/>
            <a:ext cx="3124080" cy="947160"/>
            <a:chOff x="6019920" y="1219320"/>
            <a:chExt cx="3124080" cy="947160"/>
          </a:xfrm>
        </p:grpSpPr>
        <p:graphicFrame>
          <p:nvGraphicFramePr>
            <p:cNvPr id="50" name=""/>
            <p:cNvGraphicFramePr/>
            <p:nvPr/>
          </p:nvGraphicFramePr>
          <p:xfrm>
            <a:off x="6019920" y="1219320"/>
            <a:ext cx="2971800" cy="59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19920" y="1219320"/>
                      <a:ext cx="29718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6019920" y="1219320"/>
              <a:ext cx="3124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Garamond"/>
                </a:rPr>
                <a:t>El Proyecto Esfe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A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295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talecer el trabajo de incidenc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905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dir el rend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2514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cionalizar el uso de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1240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sibilitar la coordinación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- más de 20 idi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4114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r el currículum de capac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4724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mentar la particip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5257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valuar las políticas (criterios de actuación) y l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roced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b2b2b2"/>
                </a:solidFill>
                <a:latin typeface="Arial"/>
              </a:rPr>
              <a:t>Aplicaciones: ciclo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523880" y="1902240"/>
            <a:ext cx="2820960" cy="1526760"/>
            <a:chOff x="1523880" y="1902240"/>
            <a:chExt cx="2820960" cy="1526760"/>
          </a:xfrm>
        </p:grpSpPr>
        <p:sp>
          <p:nvSpPr>
            <p:cNvPr id="174" name=""/>
            <p:cNvSpPr/>
            <p:nvPr/>
          </p:nvSpPr>
          <p:spPr>
            <a:xfrm>
              <a:off x="1523880" y="2743200"/>
              <a:ext cx="2362320" cy="6858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800" spc="-1" strike="noStrike">
                  <a:solidFill>
                    <a:srgbClr val="ff0000"/>
                  </a:solidFill>
                  <a:latin typeface="Arial"/>
                </a:rPr>
                <a:t>Evaluac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0800">
              <a:off x="3581280" y="1903320"/>
              <a:ext cx="762120" cy="83844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962520" y="4800600"/>
            <a:ext cx="3657600" cy="1143000"/>
            <a:chOff x="3962520" y="4800600"/>
            <a:chExt cx="3657600" cy="1143000"/>
          </a:xfrm>
        </p:grpSpPr>
        <p:sp>
          <p:nvSpPr>
            <p:cNvPr id="177" name=""/>
            <p:cNvSpPr/>
            <p:nvPr/>
          </p:nvSpPr>
          <p:spPr>
            <a:xfrm>
              <a:off x="5105520" y="4800600"/>
              <a:ext cx="2514600" cy="11430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Planificación de program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62520" y="5105520"/>
              <a:ext cx="1143000" cy="533160"/>
            </a:xfrm>
            <a:prstGeom prst="leftArrow">
              <a:avLst>
                <a:gd name="adj1" fmla="val 50000"/>
                <a:gd name="adj2" fmla="val 53596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572000" y="1523880"/>
            <a:ext cx="3513960" cy="999000"/>
            <a:chOff x="4572000" y="1523880"/>
            <a:chExt cx="3513960" cy="999000"/>
          </a:xfrm>
        </p:grpSpPr>
        <p:sp>
          <p:nvSpPr>
            <p:cNvPr id="180" name=""/>
            <p:cNvSpPr/>
            <p:nvPr/>
          </p:nvSpPr>
          <p:spPr>
            <a:xfrm>
              <a:off x="4572000" y="1523880"/>
              <a:ext cx="2819520" cy="6858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Valoración ini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316600">
              <a:off x="7352640" y="1790280"/>
              <a:ext cx="762120" cy="68580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28600" y="1371600"/>
            <a:ext cx="4191120" cy="609480"/>
            <a:chOff x="228600" y="1371600"/>
            <a:chExt cx="4191120" cy="609480"/>
          </a:xfrm>
        </p:grpSpPr>
        <p:sp>
          <p:nvSpPr>
            <p:cNvPr id="183" name=""/>
            <p:cNvSpPr/>
            <p:nvPr/>
          </p:nvSpPr>
          <p:spPr>
            <a:xfrm>
              <a:off x="228600" y="1371600"/>
              <a:ext cx="2971800" cy="609480"/>
            </a:xfrm>
            <a:prstGeom prst="rect">
              <a:avLst/>
            </a:prstGeom>
            <a:solidFill>
              <a:srgbClr val="0066cc"/>
            </a:solidFill>
            <a:ln w="507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Arial"/>
                </a:rPr>
                <a:t>Prepar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0400" y="1523880"/>
              <a:ext cx="1219320" cy="304920"/>
            </a:xfrm>
            <a:prstGeom prst="rightArrow">
              <a:avLst>
                <a:gd name="adj1" fmla="val 50000"/>
                <a:gd name="adj2" fmla="val 99970"/>
              </a:avLst>
            </a:prstGeom>
            <a:solidFill>
              <a:srgbClr val="0066cc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523880" y="3654720"/>
            <a:ext cx="2362320" cy="2288880"/>
            <a:chOff x="1523880" y="3654720"/>
            <a:chExt cx="2362320" cy="2288880"/>
          </a:xfrm>
        </p:grpSpPr>
        <p:sp>
          <p:nvSpPr>
            <p:cNvPr id="186" name=""/>
            <p:cNvSpPr/>
            <p:nvPr/>
          </p:nvSpPr>
          <p:spPr>
            <a:xfrm>
              <a:off x="1523880" y="4800600"/>
              <a:ext cx="2362320" cy="11430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Seguimiento del impa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5434200">
              <a:off x="1523880" y="3962160"/>
              <a:ext cx="1143000" cy="533520"/>
            </a:xfrm>
            <a:prstGeom prst="leftArrow">
              <a:avLst>
                <a:gd name="adj1" fmla="val 50000"/>
                <a:gd name="adj2" fmla="val 535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781680" y="2743200"/>
            <a:ext cx="1981440" cy="2817360"/>
            <a:chOff x="6781680" y="2743200"/>
            <a:chExt cx="1981440" cy="2817360"/>
          </a:xfrm>
        </p:grpSpPr>
        <p:sp>
          <p:nvSpPr>
            <p:cNvPr id="189" name=""/>
            <p:cNvSpPr/>
            <p:nvPr/>
          </p:nvSpPr>
          <p:spPr>
            <a:xfrm>
              <a:off x="6781680" y="2743200"/>
              <a:ext cx="1981440" cy="121932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nálisis de problem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7695720" y="3962520"/>
              <a:ext cx="762480" cy="1598040"/>
              <a:chOff x="7695720" y="3962520"/>
              <a:chExt cx="762480" cy="1598040"/>
            </a:xfrm>
          </p:grpSpPr>
          <p:sp>
            <p:nvSpPr>
              <p:cNvPr id="191" name=""/>
              <p:cNvSpPr/>
              <p:nvPr/>
            </p:nvSpPr>
            <p:spPr>
              <a:xfrm rot="10800000">
                <a:off x="7695720" y="4647960"/>
                <a:ext cx="762120" cy="912600"/>
              </a:xfrm>
              <a:custGeom>
                <a:avLst/>
                <a:gdLst>
                  <a:gd name="textAreaLeft" fmla="*/ 0 w 762120"/>
                  <a:gd name="textAreaRight" fmla="*/ 762480 w 7621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229600" y="3962520"/>
                <a:ext cx="228600" cy="7617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00720" y="2349360"/>
            <a:ext cx="1653840" cy="23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En concl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0666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declaración de que las poblaciones afectadas po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lictos y calamidades tienen derecho a recibi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istenci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905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mpromiso de tratar de alcanzar un nivel definido y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tificable de competencia y cumpl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27082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destilación de los actuales conocimientos y experienci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lobales en una herramienta práctica para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personas individual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- sus organizacion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- la comunidad humanitari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724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eto lanzado a todos los actores en la comunidad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umanitaria a favor de conseguir una mayor rendición d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entas y una mejor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www.sphereproject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1209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recursos de la página web incluy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164160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Manual en inglés, francés, español, ruso y árab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057400"/>
            <a:ext cx="785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erial de capacitación y guía para capaci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505240"/>
            <a:ext cx="5486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udios de c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886120"/>
            <a:ext cx="518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ciones aprendidas de l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titucionalización de E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3648240"/>
            <a:ext cx="4191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ormes anu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410544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oletines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876920" y="3429000"/>
            <a:ext cx="4038480" cy="301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¡DESCAN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7080" y="990720"/>
            <a:ext cx="8889840" cy="303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Herramientas para llevar a la práctica los principios y va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297180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capítulo incluy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5812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rmas Mí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666880" y="1066680"/>
            <a:ext cx="2133720" cy="681120"/>
            <a:chOff x="2666880" y="1066680"/>
            <a:chExt cx="2133720" cy="681120"/>
          </a:xfrm>
        </p:grpSpPr>
        <p:sp>
          <p:nvSpPr>
            <p:cNvPr id="57" name=""/>
            <p:cNvSpPr/>
            <p:nvPr/>
          </p:nvSpPr>
          <p:spPr>
            <a:xfrm>
              <a:off x="2666880" y="1066680"/>
              <a:ext cx="190512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troducción</a:t>
              </a:r>
              <a:br>
                <a:rPr sz="1400"/>
              </a:b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¿Qué es Esfera?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66880" y="1066680"/>
              <a:ext cx="2133720" cy="54468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867280" y="42670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dicadores cl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49528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tas de ori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1676520"/>
            <a:ext cx="1676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Edición d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85800" y="1905120"/>
            <a:ext cx="1828440" cy="533160"/>
            <a:chOff x="685800" y="1905120"/>
            <a:chExt cx="1828440" cy="533160"/>
          </a:xfrm>
        </p:grpSpPr>
        <p:sp>
          <p:nvSpPr>
            <p:cNvPr id="63" name=""/>
            <p:cNvSpPr/>
            <p:nvPr/>
          </p:nvSpPr>
          <p:spPr>
            <a:xfrm>
              <a:off x="685800" y="1905120"/>
              <a:ext cx="13716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l Código de Conduc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" y="1905120"/>
              <a:ext cx="1633680" cy="53316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5400000">
              <a:off x="2173680" y="2097720"/>
              <a:ext cx="5284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666880" y="1905120"/>
            <a:ext cx="2133720" cy="765000"/>
            <a:chOff x="2666880" y="1905120"/>
            <a:chExt cx="2133720" cy="765000"/>
          </a:xfrm>
        </p:grpSpPr>
        <p:grpSp>
          <p:nvGrpSpPr>
            <p:cNvPr id="67" name=""/>
            <p:cNvGrpSpPr/>
            <p:nvPr/>
          </p:nvGrpSpPr>
          <p:grpSpPr>
            <a:xfrm>
              <a:off x="2666880" y="1905120"/>
              <a:ext cx="2133720" cy="488880"/>
              <a:chOff x="2666880" y="1905120"/>
              <a:chExt cx="2133720" cy="488880"/>
            </a:xfrm>
          </p:grpSpPr>
          <p:sp>
            <p:nvSpPr>
              <p:cNvPr id="68" name=""/>
              <p:cNvSpPr/>
              <p:nvPr/>
            </p:nvSpPr>
            <p:spPr>
              <a:xfrm>
                <a:off x="2666880" y="1905120"/>
                <a:ext cx="1676520" cy="48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La Carta Humanitar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66880" y="1905120"/>
                <a:ext cx="2133720" cy="488880"/>
              </a:xfrm>
              <a:prstGeom prst="rect">
                <a:avLst/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rot="10831200">
              <a:off x="3351960" y="2463840"/>
              <a:ext cx="685800" cy="2030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666880" y="2743200"/>
            <a:ext cx="2895840" cy="3124080"/>
            <a:chOff x="2666880" y="2743200"/>
            <a:chExt cx="2895840" cy="3124080"/>
          </a:xfrm>
        </p:grpSpPr>
        <p:grpSp>
          <p:nvGrpSpPr>
            <p:cNvPr id="72" name=""/>
            <p:cNvGrpSpPr/>
            <p:nvPr/>
          </p:nvGrpSpPr>
          <p:grpSpPr>
            <a:xfrm>
              <a:off x="2666880" y="2743200"/>
              <a:ext cx="2133720" cy="546120"/>
              <a:chOff x="2666880" y="2743200"/>
              <a:chExt cx="2133720" cy="546120"/>
            </a:xfrm>
          </p:grpSpPr>
          <p:sp>
            <p:nvSpPr>
              <p:cNvPr id="73" name=""/>
              <p:cNvSpPr/>
              <p:nvPr/>
            </p:nvSpPr>
            <p:spPr>
              <a:xfrm>
                <a:off x="2666880" y="2743200"/>
                <a:ext cx="2133720" cy="5461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666880" y="2743200"/>
                <a:ext cx="1905120" cy="5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Normas comunes a todos los secto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5562720" y="3056040"/>
              <a:ext cx="0" cy="281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00600" y="305604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627280" y="3429000"/>
            <a:ext cx="2935440" cy="617400"/>
            <a:chOff x="2627280" y="3429000"/>
            <a:chExt cx="2935440" cy="617400"/>
          </a:xfrm>
        </p:grpSpPr>
        <p:grpSp>
          <p:nvGrpSpPr>
            <p:cNvPr id="78" name=""/>
            <p:cNvGrpSpPr/>
            <p:nvPr/>
          </p:nvGrpSpPr>
          <p:grpSpPr>
            <a:xfrm>
              <a:off x="2627280" y="3429000"/>
              <a:ext cx="2478240" cy="617400"/>
              <a:chOff x="2627280" y="3429000"/>
              <a:chExt cx="2478240" cy="617400"/>
            </a:xfrm>
          </p:grpSpPr>
          <p:sp>
            <p:nvSpPr>
              <p:cNvPr id="79" name=""/>
              <p:cNvSpPr/>
              <p:nvPr/>
            </p:nvSpPr>
            <p:spPr>
              <a:xfrm>
                <a:off x="2666880" y="3429000"/>
                <a:ext cx="2133720" cy="6174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627280" y="3429000"/>
                <a:ext cx="20160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Abastecimiento de </a:t>
                </a: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agua</a:t>
                </a: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saneamiento</a:t>
                </a: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 y fomento de la </a:t>
                </a: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higie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16199400">
                <a:off x="4726800" y="3578760"/>
                <a:ext cx="52848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5105520" y="36576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666880" y="4191120"/>
            <a:ext cx="2895840" cy="596520"/>
            <a:chOff x="2666880" y="4191120"/>
            <a:chExt cx="2895840" cy="596520"/>
          </a:xfrm>
        </p:grpSpPr>
        <p:sp>
          <p:nvSpPr>
            <p:cNvPr id="84" name=""/>
            <p:cNvSpPr/>
            <p:nvPr/>
          </p:nvSpPr>
          <p:spPr>
            <a:xfrm>
              <a:off x="2666880" y="4191120"/>
              <a:ext cx="205740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eguridad alimentaria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nutrición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y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yuda alimenta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191120"/>
              <a:ext cx="2133720" cy="596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199400">
              <a:off x="4693680" y="4377600"/>
              <a:ext cx="59112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05520" y="44467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666880" y="4876920"/>
            <a:ext cx="2895840" cy="609120"/>
            <a:chOff x="2666880" y="4876920"/>
            <a:chExt cx="2895840" cy="609120"/>
          </a:xfrm>
        </p:grpSpPr>
        <p:sp>
          <p:nvSpPr>
            <p:cNvPr id="89" name=""/>
            <p:cNvSpPr/>
            <p:nvPr/>
          </p:nvSpPr>
          <p:spPr>
            <a:xfrm>
              <a:off x="2666880" y="4876920"/>
              <a:ext cx="190512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Refugios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/ viviendas, asentamientos y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rtícu-los no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limentar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4876920"/>
              <a:ext cx="2133720" cy="609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199400">
              <a:off x="4689000" y="5064480"/>
              <a:ext cx="60408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51379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666880" y="5562720"/>
            <a:ext cx="2895840" cy="533160"/>
            <a:chOff x="2666880" y="5562720"/>
            <a:chExt cx="2895840" cy="533160"/>
          </a:xfrm>
        </p:grpSpPr>
        <p:sp>
          <p:nvSpPr>
            <p:cNvPr id="94" name=""/>
            <p:cNvSpPr/>
            <p:nvPr/>
          </p:nvSpPr>
          <p:spPr>
            <a:xfrm>
              <a:off x="2666880" y="5562720"/>
              <a:ext cx="1676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ervicios de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alu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6880" y="5562720"/>
              <a:ext cx="213372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199400">
              <a:off x="4726800" y="5716440"/>
              <a:ext cx="52812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58672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¿Por qué es necesario el Manual de Esf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5105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Post-Ruanda 1994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- Evaluación de multidonantes: “Muertes innecesari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05264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a preocupación de las ONG con la calidad y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a responsabilidad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- ha sido continu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36232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a práctica histórica ya no es suficient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yor complejidad de los desastre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ciente número de desastre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olución de la comunidad humanitaria y crecien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ersidad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mento en el número de actores que miden el éxito d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os diverso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76720" y="2349360"/>
            <a:ext cx="2158920" cy="2159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Consultas exten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837720" y="3733560"/>
            <a:ext cx="1676520" cy="1143000"/>
          </a:xfrm>
          <a:prstGeom prst="wedgeRoundRectCallout">
            <a:avLst>
              <a:gd name="adj1" fmla="val -121208"/>
              <a:gd name="adj2" fmla="val 81384"/>
              <a:gd name="adj3" fmla="val 16667"/>
            </a:avLst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00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666880" y="5105520"/>
            <a:ext cx="2286000" cy="914400"/>
          </a:xfrm>
          <a:prstGeom prst="wedgeRoundRectCallout">
            <a:avLst>
              <a:gd name="adj1" fmla="val -23819"/>
              <a:gd name="adj2" fmla="val 194092"/>
              <a:gd name="adj3" fmla="val 16667"/>
            </a:avLst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ganiz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714640" y="4876560"/>
            <a:ext cx="2895480" cy="990360"/>
          </a:xfrm>
          <a:prstGeom prst="wedgeRoundRectCallout">
            <a:avLst>
              <a:gd name="adj1" fmla="val 81796"/>
              <a:gd name="adj2" fmla="val 144550"/>
              <a:gd name="adj3" fmla="val 16667"/>
            </a:avLst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80 países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undo ent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095880" y="1219320"/>
            <a:ext cx="2438640" cy="925560"/>
            <a:chOff x="6095880" y="1219320"/>
            <a:chExt cx="2438640" cy="925560"/>
          </a:xfrm>
        </p:grpSpPr>
        <p:sp>
          <p:nvSpPr>
            <p:cNvPr id="108" name=""/>
            <p:cNvSpPr/>
            <p:nvPr/>
          </p:nvSpPr>
          <p:spPr>
            <a:xfrm>
              <a:off x="6095880" y="1219320"/>
              <a:ext cx="24386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000" spc="-1" strike="noStrike">
                  <a:solidFill>
                    <a:srgbClr val="0066cc"/>
                  </a:solidFill>
                  <a:latin typeface="Arial"/>
                </a:rPr>
                <a:t>Edición revisada del manual </a:t>
              </a:r>
              <a:r>
                <a:rPr b="0" lang="es-ES_tradnl" sz="2000" spc="-1" strike="noStrike">
                  <a:solidFill>
                    <a:srgbClr val="0066cc"/>
                  </a:solidFill>
                  <a:latin typeface="Arial Black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5880" y="1219320"/>
              <a:ext cx="2438640" cy="92556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04920" y="1219320"/>
            <a:ext cx="2743200" cy="925560"/>
            <a:chOff x="304920" y="1219320"/>
            <a:chExt cx="2743200" cy="925560"/>
          </a:xfrm>
        </p:grpSpPr>
        <p:sp>
          <p:nvSpPr>
            <p:cNvPr id="111" name=""/>
            <p:cNvSpPr/>
            <p:nvPr/>
          </p:nvSpPr>
          <p:spPr>
            <a:xfrm>
              <a:off x="380880" y="1219320"/>
              <a:ext cx="2286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000" spc="-1" strike="noStrike">
                  <a:solidFill>
                    <a:srgbClr val="0066cc"/>
                  </a:solidFill>
                  <a:latin typeface="Arial"/>
                </a:rPr>
                <a:t>Consulta inicial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0066cc"/>
                  </a:solidFill>
                  <a:latin typeface="Arial Black"/>
                </a:rPr>
                <a:t>19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4920" y="1219320"/>
              <a:ext cx="2057400" cy="92556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62320" y="1523880"/>
              <a:ext cx="685800" cy="381240"/>
            </a:xfrm>
            <a:prstGeom prst="rightArrow">
              <a:avLst>
                <a:gd name="adj1" fmla="val 50000"/>
                <a:gd name="adj2" fmla="val 44972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048120" y="1219320"/>
            <a:ext cx="3047760" cy="925560"/>
            <a:chOff x="3048120" y="1219320"/>
            <a:chExt cx="3047760" cy="925560"/>
          </a:xfrm>
        </p:grpSpPr>
        <p:grpSp>
          <p:nvGrpSpPr>
            <p:cNvPr id="115" name=""/>
            <p:cNvGrpSpPr/>
            <p:nvPr/>
          </p:nvGrpSpPr>
          <p:grpSpPr>
            <a:xfrm>
              <a:off x="3048120" y="1219320"/>
              <a:ext cx="2457360" cy="925560"/>
              <a:chOff x="3048120" y="1219320"/>
              <a:chExt cx="2457360" cy="925560"/>
            </a:xfrm>
          </p:grpSpPr>
          <p:sp>
            <p:nvSpPr>
              <p:cNvPr id="116" name=""/>
              <p:cNvSpPr/>
              <p:nvPr/>
            </p:nvSpPr>
            <p:spPr>
              <a:xfrm>
                <a:off x="3056040" y="1219320"/>
                <a:ext cx="243036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s-ES_tradnl" sz="2400" spc="-1" strike="noStrike">
                    <a:solidFill>
                      <a:srgbClr val="0066cc"/>
                    </a:solidFill>
                    <a:latin typeface="Arial"/>
                  </a:rPr>
                  <a:t>Lanzamiento del manual </a:t>
                </a:r>
                <a:r>
                  <a:rPr b="0" lang="es-ES_tradnl" sz="2400" spc="-1" strike="noStrike">
                    <a:solidFill>
                      <a:srgbClr val="0066cc"/>
                    </a:solidFill>
                    <a:latin typeface="Arial Black"/>
                  </a:rPr>
                  <a:t>2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8120" y="1219320"/>
                <a:ext cx="2457360" cy="925560"/>
              </a:xfrm>
              <a:prstGeom prst="rect">
                <a:avLst/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5486400" y="1523880"/>
              <a:ext cx="609480" cy="381240"/>
            </a:xfrm>
            <a:prstGeom prst="rightArrow">
              <a:avLst>
                <a:gd name="adj1" fmla="val 50000"/>
                <a:gd name="adj2" fmla="val 399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018200" y="2438280"/>
            <a:ext cx="144144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733920" y="3276720"/>
            <a:ext cx="1828800" cy="91440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1828800"/>
            <a:ext cx="1828800" cy="91440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114800"/>
            <a:ext cx="8229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295280"/>
            <a:ext cx="6095880" cy="83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743200"/>
            <a:ext cx="708660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600" spc="-1" strike="noStrike">
                <a:solidFill>
                  <a:srgbClr val="ccccff"/>
                </a:solidFill>
                <a:latin typeface="Arial"/>
              </a:rPr>
              <a:t>El proceso de Esf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29528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ta los argumentos a favor de que l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istencia sea universal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0480" y="4191120"/>
            <a:ext cx="845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canzar el consenso sobre indicadores téc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4382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eguir acuerdo sobre principios y actuacione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ntrales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Principales actividades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800" y="16002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or grado de concie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6800" y="2438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tribución del manual y otras herrami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6800" y="32767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iones técnicas del m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6800" y="4114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tación sobre cómo aplicar el m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6800" y="49528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oyo a las ag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Gestión y fina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Financiación adicional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Australia, Bélgica, Canadá, Dinamarca, España, Estados Unidos,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inlandia, Holanda, Inglaterra, Irlanda, Noruega, Nueva Zelanda,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ino Unido, Suecia  y E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2952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Redes integradas en el Comité Directivo de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Respuesta Humanitar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7 redes, y además CICR y FIC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VOICE e IC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715000" y="4876920"/>
            <a:ext cx="1371600" cy="53316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181480"/>
            <a:ext cx="8686800" cy="1067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3809880"/>
            <a:ext cx="1371600" cy="53352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352680"/>
            <a:ext cx="86868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3048120"/>
            <a:ext cx="1371600" cy="53316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2133720"/>
            <a:ext cx="1371600" cy="53316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4114800"/>
            <a:ext cx="868680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143000"/>
            <a:ext cx="8381880" cy="121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2590920"/>
            <a:ext cx="70102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Carta Humanitaria: Se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19320"/>
            <a:ext cx="8458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Arial Black"/>
              </a:rPr>
              <a:t>Compromiso de promover</a:t>
            </a:r>
            <a:br>
              <a:rPr sz="2300"/>
            </a:b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- la observancia de los principios humanitarios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fundamentales </a:t>
            </a:r>
            <a:br>
              <a:rPr sz="2300"/>
            </a:b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- la apreciación de nuestras propias obligaciones étic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3526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Arial Black"/>
              </a:rPr>
              <a:t>Descripción de roles, deberes y </a:t>
            </a:r>
            <a:r>
              <a:rPr b="0" lang="es-ES_tradnl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Arial Black"/>
              </a:rPr>
              <a:t>responsabilidad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590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Arial Black"/>
              </a:rPr>
              <a:t>Declaración de principios humanitari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1148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Arial Black"/>
              </a:rPr>
              <a:t>Compromiso de alcanzar las Normas mínimas de </a:t>
            </a:r>
            <a:r>
              <a:rPr b="0" lang="es-ES_tradnl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Arial Black"/>
              </a:rPr>
              <a:t>manera consisten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105520"/>
            <a:ext cx="822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300" spc="-1" strike="noStrike">
                <a:solidFill>
                  <a:srgbClr val="000000"/>
                </a:solidFill>
                <a:latin typeface="Arial Black"/>
              </a:rPr>
              <a:t>Reconocimiento de que nuestra responsabilidad </a:t>
            </a:r>
            <a:r>
              <a:rPr b="0" lang="es-ES_tradnl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Arial Black"/>
              </a:rPr>
              <a:t>principal es ante aquellos a quienes tratamos de </a:t>
            </a:r>
            <a:r>
              <a:rPr b="0" lang="es-ES_tradnl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Arial Black"/>
              </a:rPr>
              <a:t>prestar asistenc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81080" y="3733920"/>
            <a:ext cx="1828800" cy="91440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1523880"/>
            <a:ext cx="1828800" cy="91440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4648320"/>
            <a:ext cx="8077320" cy="1447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990720"/>
            <a:ext cx="807732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2286000"/>
            <a:ext cx="830592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Normas, indicadores clave y notas de orientación</a:t>
            </a:r>
            <a:r>
              <a:rPr b="0" lang="fr-CH" sz="32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9144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Normas mínimas:</a:t>
            </a:r>
            <a:br>
              <a:rPr sz="2400"/>
            </a:b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ivel mínimo (de servicio) que se ha de alcanzar en la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sistencia humanita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460044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Notas de orientación:</a:t>
            </a:r>
            <a:br>
              <a:rPr sz="2400"/>
            </a:b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iseminan la experiencia</a:t>
            </a:r>
            <a:br>
              <a:rPr sz="2200"/>
            </a:b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luminan áreas polémicas</a:t>
            </a:r>
            <a:br>
              <a:rPr sz="2200"/>
            </a:b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yudan a usar bien los indicadores en el contexto</a:t>
            </a:r>
            <a:br>
              <a:rPr sz="2200"/>
            </a:br>
            <a:br>
              <a:rPr sz="24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2096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Indicadores clave:</a:t>
            </a:r>
            <a:br>
              <a:rPr sz="2400"/>
            </a:b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ñales que muestran si se ha dado cumplimientp a una norma</a:t>
            </a:r>
            <a:br>
              <a:rPr sz="2200"/>
            </a:b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yudan a medir y comunicar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 -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el impacto, el resultado, los procesos o los métodos que se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han utilizado</a:t>
            </a:r>
            <a:br>
              <a:rPr sz="2200"/>
            </a:b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alitativos o cuantita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8:18:32Z</dcterms:created>
  <dc:creator>Phil</dc:creator>
  <dc:description/>
  <dc:language>en-US</dc:language>
  <cp:lastModifiedBy>Foubert</cp:lastModifiedBy>
  <dcterms:modified xsi:type="dcterms:W3CDTF">2005-01-25T14:47:25Z</dcterms:modified>
  <cp:revision>204</cp:revision>
  <dc:subject/>
  <dc:title>No Slide Title</dc:title>
</cp:coreProperties>
</file>