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here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Monitor</a:t>
            </a:r>
            <a:br>
              <a:rPr sz="3200"/>
            </a:b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lan, design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111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Ass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116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118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50640" y="1218960"/>
                <a:ext cx="135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 Black"/>
                  </a:rPr>
                  <a:t>Dis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4038480"/>
            <a:ext cx="8076960" cy="20574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000" spc="-1" strike="noStrike">
                <a:solidFill>
                  <a:srgbClr val="ccccff"/>
                </a:solidFill>
                <a:latin typeface="Arial"/>
              </a:rPr>
              <a:t>Balancing speed and accuracy in assessment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038480"/>
            <a:ext cx="80769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4796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1240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2860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4594320"/>
            <a:ext cx="220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ility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ssme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43720" y="4419720"/>
            <a:ext cx="311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Accuracy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2280" y="4419720"/>
            <a:ext cx="220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en-US" sz="90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5962680"/>
            <a:ext cx="1295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The assessment / monitoring proces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6840" y="1371600"/>
            <a:ext cx="2650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Identify inform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needs,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1080" y="292896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15200" y="4127400"/>
            <a:ext cx="1240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Analy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interp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1600" y="4648320"/>
            <a:ext cx="157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738520"/>
            <a:ext cx="2286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Design/modif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666880"/>
            <a:ext cx="213372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572000"/>
            <a:ext cx="213372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038480"/>
            <a:ext cx="160020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2895480"/>
            <a:ext cx="1905120" cy="5335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295280"/>
            <a:ext cx="304776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6600">
            <a:off x="6323760" y="1752120"/>
            <a:ext cx="838440" cy="83844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12600">
            <a:off x="7009920" y="36572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64832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809880"/>
            <a:ext cx="5335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5080" y="565776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/UNH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Domistan m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280" y="1143000"/>
            <a:ext cx="7924680" cy="4572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960" y="1158840"/>
            <a:ext cx="7983360" cy="4572000"/>
          </a:xfrm>
          <a:custGeom>
            <a:avLst/>
            <a:gdLst/>
            <a:ahLst/>
            <a:rect l="l" t="t" r="r" b="b"/>
            <a:pathLst>
              <a:path w="5029" h="2880">
                <a:moveTo>
                  <a:pt x="37" y="1776"/>
                </a:moveTo>
                <a:cubicBezTo>
                  <a:pt x="99" y="1755"/>
                  <a:pt x="48" y="1762"/>
                  <a:pt x="109" y="1788"/>
                </a:cubicBezTo>
                <a:cubicBezTo>
                  <a:pt x="124" y="1794"/>
                  <a:pt x="141" y="1796"/>
                  <a:pt x="157" y="1800"/>
                </a:cubicBezTo>
                <a:cubicBezTo>
                  <a:pt x="259" y="1783"/>
                  <a:pt x="289" y="1776"/>
                  <a:pt x="397" y="1788"/>
                </a:cubicBezTo>
                <a:cubicBezTo>
                  <a:pt x="437" y="1798"/>
                  <a:pt x="478" y="1801"/>
                  <a:pt x="517" y="1812"/>
                </a:cubicBezTo>
                <a:cubicBezTo>
                  <a:pt x="579" y="1829"/>
                  <a:pt x="636" y="1864"/>
                  <a:pt x="697" y="1884"/>
                </a:cubicBezTo>
                <a:cubicBezTo>
                  <a:pt x="705" y="1872"/>
                  <a:pt x="708" y="1853"/>
                  <a:pt x="721" y="1848"/>
                </a:cubicBezTo>
                <a:cubicBezTo>
                  <a:pt x="733" y="1843"/>
                  <a:pt x="744" y="1860"/>
                  <a:pt x="757" y="1860"/>
                </a:cubicBezTo>
                <a:cubicBezTo>
                  <a:pt x="770" y="1860"/>
                  <a:pt x="781" y="1852"/>
                  <a:pt x="793" y="1848"/>
                </a:cubicBezTo>
                <a:cubicBezTo>
                  <a:pt x="884" y="1878"/>
                  <a:pt x="987" y="1947"/>
                  <a:pt x="1081" y="1956"/>
                </a:cubicBezTo>
                <a:cubicBezTo>
                  <a:pt x="1229" y="1971"/>
                  <a:pt x="1378" y="1983"/>
                  <a:pt x="1525" y="2004"/>
                </a:cubicBezTo>
                <a:cubicBezTo>
                  <a:pt x="1610" y="2016"/>
                  <a:pt x="1692" y="2040"/>
                  <a:pt x="1777" y="2052"/>
                </a:cubicBezTo>
                <a:cubicBezTo>
                  <a:pt x="1846" y="2075"/>
                  <a:pt x="1910" y="2098"/>
                  <a:pt x="1981" y="2112"/>
                </a:cubicBezTo>
                <a:cubicBezTo>
                  <a:pt x="2061" y="2103"/>
                  <a:pt x="2134" y="2074"/>
                  <a:pt x="2209" y="2112"/>
                </a:cubicBezTo>
                <a:cubicBezTo>
                  <a:pt x="2222" y="2118"/>
                  <a:pt x="2232" y="2130"/>
                  <a:pt x="2245" y="2136"/>
                </a:cubicBezTo>
                <a:cubicBezTo>
                  <a:pt x="2268" y="2146"/>
                  <a:pt x="2317" y="2160"/>
                  <a:pt x="2317" y="2160"/>
                </a:cubicBezTo>
                <a:cubicBezTo>
                  <a:pt x="2337" y="2156"/>
                  <a:pt x="2357" y="2148"/>
                  <a:pt x="2377" y="2148"/>
                </a:cubicBezTo>
                <a:cubicBezTo>
                  <a:pt x="2390" y="2148"/>
                  <a:pt x="2400" y="2160"/>
                  <a:pt x="2413" y="2160"/>
                </a:cubicBezTo>
                <a:cubicBezTo>
                  <a:pt x="2441" y="2160"/>
                  <a:pt x="2469" y="2152"/>
                  <a:pt x="2497" y="2148"/>
                </a:cubicBezTo>
                <a:cubicBezTo>
                  <a:pt x="2509" y="2140"/>
                  <a:pt x="2522" y="2134"/>
                  <a:pt x="2533" y="2124"/>
                </a:cubicBezTo>
                <a:cubicBezTo>
                  <a:pt x="2558" y="2101"/>
                  <a:pt x="2605" y="2052"/>
                  <a:pt x="2605" y="2052"/>
                </a:cubicBezTo>
                <a:cubicBezTo>
                  <a:pt x="2672" y="2074"/>
                  <a:pt x="2688" y="2036"/>
                  <a:pt x="2749" y="2016"/>
                </a:cubicBezTo>
                <a:cubicBezTo>
                  <a:pt x="2810" y="2036"/>
                  <a:pt x="2799" y="2011"/>
                  <a:pt x="2857" y="1992"/>
                </a:cubicBezTo>
                <a:cubicBezTo>
                  <a:pt x="2911" y="2010"/>
                  <a:pt x="2949" y="1985"/>
                  <a:pt x="3001" y="1968"/>
                </a:cubicBezTo>
                <a:cubicBezTo>
                  <a:pt x="3119" y="1929"/>
                  <a:pt x="3207" y="1836"/>
                  <a:pt x="3313" y="1776"/>
                </a:cubicBezTo>
                <a:cubicBezTo>
                  <a:pt x="3360" y="1749"/>
                  <a:pt x="3429" y="1750"/>
                  <a:pt x="3481" y="1740"/>
                </a:cubicBezTo>
                <a:cubicBezTo>
                  <a:pt x="3539" y="1696"/>
                  <a:pt x="3592" y="1682"/>
                  <a:pt x="3661" y="1668"/>
                </a:cubicBezTo>
                <a:cubicBezTo>
                  <a:pt x="3708" y="1684"/>
                  <a:pt x="3735" y="1671"/>
                  <a:pt x="3781" y="1656"/>
                </a:cubicBezTo>
                <a:cubicBezTo>
                  <a:pt x="3797" y="1660"/>
                  <a:pt x="3814" y="1674"/>
                  <a:pt x="3829" y="1668"/>
                </a:cubicBezTo>
                <a:cubicBezTo>
                  <a:pt x="3841" y="1663"/>
                  <a:pt x="3835" y="1643"/>
                  <a:pt x="3841" y="1632"/>
                </a:cubicBezTo>
                <a:cubicBezTo>
                  <a:pt x="3847" y="1619"/>
                  <a:pt x="3854" y="1605"/>
                  <a:pt x="3865" y="1596"/>
                </a:cubicBezTo>
                <a:cubicBezTo>
                  <a:pt x="3875" y="1588"/>
                  <a:pt x="3890" y="1590"/>
                  <a:pt x="3901" y="1584"/>
                </a:cubicBezTo>
                <a:cubicBezTo>
                  <a:pt x="3914" y="1578"/>
                  <a:pt x="3924" y="1566"/>
                  <a:pt x="3937" y="1560"/>
                </a:cubicBezTo>
                <a:cubicBezTo>
                  <a:pt x="4066" y="1503"/>
                  <a:pt x="3964" y="1566"/>
                  <a:pt x="4045" y="1512"/>
                </a:cubicBezTo>
                <a:cubicBezTo>
                  <a:pt x="4061" y="1516"/>
                  <a:pt x="4077" y="1524"/>
                  <a:pt x="4093" y="1524"/>
                </a:cubicBezTo>
                <a:cubicBezTo>
                  <a:pt x="4155" y="1524"/>
                  <a:pt x="4129" y="1464"/>
                  <a:pt x="4153" y="1428"/>
                </a:cubicBezTo>
                <a:cubicBezTo>
                  <a:pt x="4162" y="1414"/>
                  <a:pt x="4178" y="1405"/>
                  <a:pt x="4189" y="1392"/>
                </a:cubicBezTo>
                <a:cubicBezTo>
                  <a:pt x="4198" y="1381"/>
                  <a:pt x="4207" y="1369"/>
                  <a:pt x="4213" y="1356"/>
                </a:cubicBezTo>
                <a:cubicBezTo>
                  <a:pt x="4223" y="1333"/>
                  <a:pt x="4237" y="1284"/>
                  <a:pt x="4237" y="1284"/>
                </a:cubicBezTo>
                <a:cubicBezTo>
                  <a:pt x="4211" y="1205"/>
                  <a:pt x="4197" y="1136"/>
                  <a:pt x="4177" y="1056"/>
                </a:cubicBezTo>
                <a:cubicBezTo>
                  <a:pt x="4190" y="989"/>
                  <a:pt x="4206" y="958"/>
                  <a:pt x="4273" y="936"/>
                </a:cubicBezTo>
                <a:cubicBezTo>
                  <a:pt x="4255" y="848"/>
                  <a:pt x="4242" y="813"/>
                  <a:pt x="4273" y="720"/>
                </a:cubicBezTo>
                <a:cubicBezTo>
                  <a:pt x="4252" y="657"/>
                  <a:pt x="4286" y="593"/>
                  <a:pt x="4321" y="540"/>
                </a:cubicBezTo>
                <a:cubicBezTo>
                  <a:pt x="4327" y="504"/>
                  <a:pt x="4321" y="460"/>
                  <a:pt x="4345" y="432"/>
                </a:cubicBezTo>
                <a:cubicBezTo>
                  <a:pt x="4358" y="417"/>
                  <a:pt x="4378" y="409"/>
                  <a:pt x="4393" y="396"/>
                </a:cubicBezTo>
                <a:cubicBezTo>
                  <a:pt x="4531" y="278"/>
                  <a:pt x="4342" y="435"/>
                  <a:pt x="4453" y="324"/>
                </a:cubicBezTo>
                <a:cubicBezTo>
                  <a:pt x="4467" y="310"/>
                  <a:pt x="4488" y="303"/>
                  <a:pt x="4501" y="288"/>
                </a:cubicBezTo>
                <a:cubicBezTo>
                  <a:pt x="4545" y="238"/>
                  <a:pt x="4545" y="229"/>
                  <a:pt x="4561" y="180"/>
                </a:cubicBezTo>
                <a:cubicBezTo>
                  <a:pt x="4557" y="160"/>
                  <a:pt x="4547" y="140"/>
                  <a:pt x="4549" y="120"/>
                </a:cubicBezTo>
                <a:cubicBezTo>
                  <a:pt x="4551" y="95"/>
                  <a:pt x="4573" y="73"/>
                  <a:pt x="4573" y="48"/>
                </a:cubicBezTo>
                <a:cubicBezTo>
                  <a:pt x="4573" y="36"/>
                  <a:pt x="4573" y="24"/>
                  <a:pt x="4573" y="12"/>
                </a:cubicBezTo>
                <a:lnTo>
                  <a:pt x="5029" y="0"/>
                </a:lnTo>
                <a:lnTo>
                  <a:pt x="5029" y="2880"/>
                </a:lnTo>
                <a:cubicBezTo>
                  <a:pt x="4909" y="2872"/>
                  <a:pt x="4788" y="2875"/>
                  <a:pt x="4669" y="2856"/>
                </a:cubicBezTo>
                <a:cubicBezTo>
                  <a:pt x="4655" y="2854"/>
                  <a:pt x="4651" y="2833"/>
                  <a:pt x="4645" y="2820"/>
                </a:cubicBezTo>
                <a:cubicBezTo>
                  <a:pt x="4614" y="2750"/>
                  <a:pt x="4631" y="2727"/>
                  <a:pt x="4573" y="2688"/>
                </a:cubicBezTo>
                <a:cubicBezTo>
                  <a:pt x="4559" y="2632"/>
                  <a:pt x="4549" y="2612"/>
                  <a:pt x="4501" y="2580"/>
                </a:cubicBezTo>
                <a:cubicBezTo>
                  <a:pt x="4475" y="2541"/>
                  <a:pt x="4477" y="2551"/>
                  <a:pt x="4465" y="2508"/>
                </a:cubicBezTo>
                <a:cubicBezTo>
                  <a:pt x="4460" y="2492"/>
                  <a:pt x="4464" y="2472"/>
                  <a:pt x="4453" y="2460"/>
                </a:cubicBezTo>
                <a:cubicBezTo>
                  <a:pt x="4421" y="2423"/>
                  <a:pt x="4368" y="2411"/>
                  <a:pt x="4333" y="2376"/>
                </a:cubicBezTo>
                <a:cubicBezTo>
                  <a:pt x="4297" y="2340"/>
                  <a:pt x="4283" y="2311"/>
                  <a:pt x="4237" y="2280"/>
                </a:cubicBezTo>
                <a:cubicBezTo>
                  <a:pt x="4233" y="2268"/>
                  <a:pt x="4233" y="2254"/>
                  <a:pt x="4225" y="2244"/>
                </a:cubicBezTo>
                <a:cubicBezTo>
                  <a:pt x="4216" y="2233"/>
                  <a:pt x="4194" y="2233"/>
                  <a:pt x="4189" y="2220"/>
                </a:cubicBezTo>
                <a:cubicBezTo>
                  <a:pt x="4184" y="2208"/>
                  <a:pt x="4197" y="2196"/>
                  <a:pt x="4201" y="2184"/>
                </a:cubicBezTo>
                <a:cubicBezTo>
                  <a:pt x="4131" y="2161"/>
                  <a:pt x="4152" y="2116"/>
                  <a:pt x="4069" y="2088"/>
                </a:cubicBezTo>
                <a:cubicBezTo>
                  <a:pt x="4045" y="2080"/>
                  <a:pt x="4021" y="2072"/>
                  <a:pt x="3997" y="2064"/>
                </a:cubicBezTo>
                <a:cubicBezTo>
                  <a:pt x="3985" y="2060"/>
                  <a:pt x="3961" y="2052"/>
                  <a:pt x="3961" y="2052"/>
                </a:cubicBezTo>
                <a:cubicBezTo>
                  <a:pt x="3921" y="1991"/>
                  <a:pt x="3959" y="2033"/>
                  <a:pt x="3901" y="2004"/>
                </a:cubicBezTo>
                <a:cubicBezTo>
                  <a:pt x="3822" y="1965"/>
                  <a:pt x="3909" y="1997"/>
                  <a:pt x="3829" y="1944"/>
                </a:cubicBezTo>
                <a:cubicBezTo>
                  <a:pt x="3807" y="1929"/>
                  <a:pt x="3779" y="1923"/>
                  <a:pt x="3757" y="1908"/>
                </a:cubicBezTo>
                <a:cubicBezTo>
                  <a:pt x="3735" y="1875"/>
                  <a:pt x="3735" y="1865"/>
                  <a:pt x="3697" y="1848"/>
                </a:cubicBezTo>
                <a:cubicBezTo>
                  <a:pt x="3674" y="1838"/>
                  <a:pt x="3625" y="1824"/>
                  <a:pt x="3625" y="1824"/>
                </a:cubicBezTo>
                <a:cubicBezTo>
                  <a:pt x="3541" y="1852"/>
                  <a:pt x="3577" y="1856"/>
                  <a:pt x="3517" y="1836"/>
                </a:cubicBezTo>
                <a:cubicBezTo>
                  <a:pt x="3485" y="1840"/>
                  <a:pt x="3453" y="1841"/>
                  <a:pt x="3421" y="1848"/>
                </a:cubicBezTo>
                <a:cubicBezTo>
                  <a:pt x="3396" y="1853"/>
                  <a:pt x="3349" y="1872"/>
                  <a:pt x="3349" y="1872"/>
                </a:cubicBezTo>
                <a:cubicBezTo>
                  <a:pt x="3274" y="1847"/>
                  <a:pt x="3348" y="1859"/>
                  <a:pt x="3289" y="1896"/>
                </a:cubicBezTo>
                <a:cubicBezTo>
                  <a:pt x="3268" y="1909"/>
                  <a:pt x="3241" y="1912"/>
                  <a:pt x="3217" y="1920"/>
                </a:cubicBezTo>
                <a:cubicBezTo>
                  <a:pt x="3203" y="1925"/>
                  <a:pt x="3194" y="1938"/>
                  <a:pt x="3181" y="1944"/>
                </a:cubicBezTo>
                <a:cubicBezTo>
                  <a:pt x="3146" y="1959"/>
                  <a:pt x="3109" y="1968"/>
                  <a:pt x="3073" y="1980"/>
                </a:cubicBezTo>
                <a:cubicBezTo>
                  <a:pt x="3046" y="1989"/>
                  <a:pt x="3025" y="2012"/>
                  <a:pt x="3001" y="2028"/>
                </a:cubicBezTo>
                <a:cubicBezTo>
                  <a:pt x="2990" y="2035"/>
                  <a:pt x="2976" y="2034"/>
                  <a:pt x="2965" y="2040"/>
                </a:cubicBezTo>
                <a:cubicBezTo>
                  <a:pt x="2952" y="2046"/>
                  <a:pt x="2942" y="2058"/>
                  <a:pt x="2929" y="2064"/>
                </a:cubicBezTo>
                <a:cubicBezTo>
                  <a:pt x="2891" y="2083"/>
                  <a:pt x="2847" y="2081"/>
                  <a:pt x="2809" y="2100"/>
                </a:cubicBezTo>
                <a:cubicBezTo>
                  <a:pt x="2716" y="2147"/>
                  <a:pt x="2827" y="2106"/>
                  <a:pt x="2737" y="2136"/>
                </a:cubicBezTo>
                <a:cubicBezTo>
                  <a:pt x="2669" y="2113"/>
                  <a:pt x="2588" y="2150"/>
                  <a:pt x="2521" y="2172"/>
                </a:cubicBezTo>
                <a:cubicBezTo>
                  <a:pt x="2500" y="2235"/>
                  <a:pt x="2485" y="2223"/>
                  <a:pt x="2425" y="2208"/>
                </a:cubicBezTo>
                <a:cubicBezTo>
                  <a:pt x="2343" y="2228"/>
                  <a:pt x="2271" y="2236"/>
                  <a:pt x="2185" y="2244"/>
                </a:cubicBezTo>
                <a:cubicBezTo>
                  <a:pt x="2132" y="2231"/>
                  <a:pt x="2117" y="2215"/>
                  <a:pt x="2065" y="2232"/>
                </a:cubicBezTo>
                <a:cubicBezTo>
                  <a:pt x="2029" y="2228"/>
                  <a:pt x="1993" y="2220"/>
                  <a:pt x="1957" y="2220"/>
                </a:cubicBezTo>
                <a:cubicBezTo>
                  <a:pt x="1944" y="2220"/>
                  <a:pt x="1934" y="2232"/>
                  <a:pt x="1921" y="2232"/>
                </a:cubicBezTo>
                <a:cubicBezTo>
                  <a:pt x="1896" y="2232"/>
                  <a:pt x="1867" y="2208"/>
                  <a:pt x="1849" y="2196"/>
                </a:cubicBezTo>
                <a:cubicBezTo>
                  <a:pt x="1837" y="2200"/>
                  <a:pt x="1825" y="2210"/>
                  <a:pt x="1813" y="2208"/>
                </a:cubicBezTo>
                <a:cubicBezTo>
                  <a:pt x="1799" y="2206"/>
                  <a:pt x="1790" y="2190"/>
                  <a:pt x="1777" y="2184"/>
                </a:cubicBezTo>
                <a:cubicBezTo>
                  <a:pt x="1754" y="2174"/>
                  <a:pt x="1729" y="2168"/>
                  <a:pt x="1705" y="2160"/>
                </a:cubicBezTo>
                <a:cubicBezTo>
                  <a:pt x="1620" y="2132"/>
                  <a:pt x="1570" y="2121"/>
                  <a:pt x="1477" y="2112"/>
                </a:cubicBezTo>
                <a:cubicBezTo>
                  <a:pt x="1436" y="2091"/>
                  <a:pt x="1401" y="2067"/>
                  <a:pt x="1357" y="2052"/>
                </a:cubicBezTo>
                <a:cubicBezTo>
                  <a:pt x="1277" y="2079"/>
                  <a:pt x="1197" y="2061"/>
                  <a:pt x="1129" y="2016"/>
                </a:cubicBezTo>
                <a:cubicBezTo>
                  <a:pt x="1113" y="2020"/>
                  <a:pt x="1097" y="2023"/>
                  <a:pt x="1081" y="2028"/>
                </a:cubicBezTo>
                <a:cubicBezTo>
                  <a:pt x="1069" y="2031"/>
                  <a:pt x="1057" y="2042"/>
                  <a:pt x="1045" y="2040"/>
                </a:cubicBezTo>
                <a:cubicBezTo>
                  <a:pt x="1031" y="2038"/>
                  <a:pt x="1022" y="2022"/>
                  <a:pt x="1009" y="2016"/>
                </a:cubicBezTo>
                <a:cubicBezTo>
                  <a:pt x="998" y="2010"/>
                  <a:pt x="985" y="2008"/>
                  <a:pt x="973" y="2004"/>
                </a:cubicBezTo>
                <a:cubicBezTo>
                  <a:pt x="919" y="2022"/>
                  <a:pt x="910" y="2041"/>
                  <a:pt x="865" y="2016"/>
                </a:cubicBezTo>
                <a:cubicBezTo>
                  <a:pt x="840" y="2002"/>
                  <a:pt x="793" y="1968"/>
                  <a:pt x="793" y="1968"/>
                </a:cubicBezTo>
                <a:cubicBezTo>
                  <a:pt x="735" y="1987"/>
                  <a:pt x="746" y="2012"/>
                  <a:pt x="685" y="1992"/>
                </a:cubicBezTo>
                <a:cubicBezTo>
                  <a:pt x="625" y="2012"/>
                  <a:pt x="661" y="2008"/>
                  <a:pt x="577" y="1980"/>
                </a:cubicBezTo>
                <a:cubicBezTo>
                  <a:pt x="565" y="1976"/>
                  <a:pt x="541" y="1968"/>
                  <a:pt x="541" y="1968"/>
                </a:cubicBezTo>
                <a:cubicBezTo>
                  <a:pt x="537" y="1956"/>
                  <a:pt x="539" y="1939"/>
                  <a:pt x="529" y="1932"/>
                </a:cubicBezTo>
                <a:cubicBezTo>
                  <a:pt x="508" y="1917"/>
                  <a:pt x="457" y="1908"/>
                  <a:pt x="457" y="1908"/>
                </a:cubicBezTo>
                <a:cubicBezTo>
                  <a:pt x="399" y="1946"/>
                  <a:pt x="443" y="1934"/>
                  <a:pt x="385" y="1908"/>
                </a:cubicBezTo>
                <a:cubicBezTo>
                  <a:pt x="362" y="1898"/>
                  <a:pt x="313" y="1884"/>
                  <a:pt x="313" y="1884"/>
                </a:cubicBezTo>
                <a:cubicBezTo>
                  <a:pt x="261" y="1894"/>
                  <a:pt x="230" y="1912"/>
                  <a:pt x="181" y="1896"/>
                </a:cubicBezTo>
                <a:cubicBezTo>
                  <a:pt x="169" y="1900"/>
                  <a:pt x="158" y="1908"/>
                  <a:pt x="145" y="1908"/>
                </a:cubicBezTo>
                <a:cubicBezTo>
                  <a:pt x="132" y="1908"/>
                  <a:pt x="122" y="1896"/>
                  <a:pt x="109" y="1896"/>
                </a:cubicBezTo>
                <a:cubicBezTo>
                  <a:pt x="25" y="1896"/>
                  <a:pt x="0" y="1908"/>
                  <a:pt x="37" y="1908"/>
                </a:cubicBezTo>
                <a:lnTo>
                  <a:pt x="37" y="1776"/>
                </a:lnTo>
                <a:close/>
              </a:path>
            </a:pathLst>
          </a:custGeom>
          <a:solidFill>
            <a:srgbClr val="0000c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752480"/>
            <a:ext cx="5867280" cy="3962520"/>
          </a:xfrm>
          <a:custGeom>
            <a:avLst/>
            <a:gdLst/>
            <a:ahLst/>
            <a:rect l="l" t="t" r="r" b="b"/>
            <a:pathLst>
              <a:path w="3696" h="2496">
                <a:moveTo>
                  <a:pt x="3696" y="0"/>
                </a:moveTo>
                <a:lnTo>
                  <a:pt x="624" y="0"/>
                </a:lnTo>
                <a:lnTo>
                  <a:pt x="48" y="672"/>
                </a:lnTo>
                <a:lnTo>
                  <a:pt x="0" y="2496"/>
                </a:lnTo>
              </a:path>
            </a:pathLst>
          </a:custGeom>
          <a:noFill/>
          <a:ln w="7632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800" y="29862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 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0720" y="2593800"/>
            <a:ext cx="801000" cy="531360"/>
            <a:chOff x="1980720" y="2593800"/>
            <a:chExt cx="801000" cy="531360"/>
          </a:xfrm>
        </p:grpSpPr>
        <p:sp>
          <p:nvSpPr>
            <p:cNvPr id="160" name=""/>
            <p:cNvSpPr/>
            <p:nvPr/>
          </p:nvSpPr>
          <p:spPr>
            <a:xfrm>
              <a:off x="2273040" y="2809800"/>
              <a:ext cx="22860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0720" y="2593800"/>
              <a:ext cx="8010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495680" y="1139760"/>
            <a:ext cx="2057400" cy="4570560"/>
          </a:xfrm>
          <a:custGeom>
            <a:avLst/>
            <a:gdLst/>
            <a:ahLst/>
            <a:rect l="l" t="t" r="r" b="b"/>
            <a:pathLst>
              <a:path w="1296" h="2879">
                <a:moveTo>
                  <a:pt x="1296" y="0"/>
                </a:moveTo>
                <a:cubicBezTo>
                  <a:pt x="1264" y="11"/>
                  <a:pt x="1263" y="39"/>
                  <a:pt x="1248" y="66"/>
                </a:cubicBezTo>
                <a:cubicBezTo>
                  <a:pt x="1219" y="118"/>
                  <a:pt x="1208" y="177"/>
                  <a:pt x="1194" y="234"/>
                </a:cubicBezTo>
                <a:cubicBezTo>
                  <a:pt x="1189" y="255"/>
                  <a:pt x="1177" y="274"/>
                  <a:pt x="1170" y="294"/>
                </a:cubicBezTo>
                <a:cubicBezTo>
                  <a:pt x="1166" y="307"/>
                  <a:pt x="1137" y="369"/>
                  <a:pt x="1134" y="372"/>
                </a:cubicBezTo>
                <a:cubicBezTo>
                  <a:pt x="1130" y="376"/>
                  <a:pt x="1122" y="376"/>
                  <a:pt x="1116" y="378"/>
                </a:cubicBezTo>
                <a:cubicBezTo>
                  <a:pt x="1096" y="411"/>
                  <a:pt x="1078" y="443"/>
                  <a:pt x="1056" y="474"/>
                </a:cubicBezTo>
                <a:cubicBezTo>
                  <a:pt x="1037" y="501"/>
                  <a:pt x="1014" y="526"/>
                  <a:pt x="1002" y="558"/>
                </a:cubicBezTo>
                <a:cubicBezTo>
                  <a:pt x="992" y="585"/>
                  <a:pt x="993" y="615"/>
                  <a:pt x="984" y="642"/>
                </a:cubicBezTo>
                <a:cubicBezTo>
                  <a:pt x="986" y="650"/>
                  <a:pt x="991" y="658"/>
                  <a:pt x="990" y="666"/>
                </a:cubicBezTo>
                <a:cubicBezTo>
                  <a:pt x="989" y="677"/>
                  <a:pt x="981" y="686"/>
                  <a:pt x="978" y="696"/>
                </a:cubicBezTo>
                <a:cubicBezTo>
                  <a:pt x="967" y="729"/>
                  <a:pt x="961" y="769"/>
                  <a:pt x="942" y="798"/>
                </a:cubicBezTo>
                <a:cubicBezTo>
                  <a:pt x="892" y="872"/>
                  <a:pt x="951" y="765"/>
                  <a:pt x="912" y="834"/>
                </a:cubicBezTo>
                <a:cubicBezTo>
                  <a:pt x="896" y="862"/>
                  <a:pt x="888" y="891"/>
                  <a:pt x="870" y="918"/>
                </a:cubicBezTo>
                <a:cubicBezTo>
                  <a:pt x="858" y="965"/>
                  <a:pt x="851" y="1017"/>
                  <a:pt x="822" y="1056"/>
                </a:cubicBezTo>
                <a:cubicBezTo>
                  <a:pt x="808" y="1104"/>
                  <a:pt x="786" y="1164"/>
                  <a:pt x="756" y="1206"/>
                </a:cubicBezTo>
                <a:cubicBezTo>
                  <a:pt x="744" y="1223"/>
                  <a:pt x="727" y="1237"/>
                  <a:pt x="714" y="1254"/>
                </a:cubicBezTo>
                <a:cubicBezTo>
                  <a:pt x="705" y="1281"/>
                  <a:pt x="714" y="1312"/>
                  <a:pt x="702" y="1338"/>
                </a:cubicBezTo>
                <a:cubicBezTo>
                  <a:pt x="696" y="1351"/>
                  <a:pt x="666" y="1362"/>
                  <a:pt x="666" y="1362"/>
                </a:cubicBezTo>
                <a:cubicBezTo>
                  <a:pt x="658" y="1387"/>
                  <a:pt x="645" y="1383"/>
                  <a:pt x="624" y="1398"/>
                </a:cubicBezTo>
                <a:cubicBezTo>
                  <a:pt x="584" y="1427"/>
                  <a:pt x="567" y="1449"/>
                  <a:pt x="522" y="1458"/>
                </a:cubicBezTo>
                <a:cubicBezTo>
                  <a:pt x="495" y="1471"/>
                  <a:pt x="467" y="1477"/>
                  <a:pt x="438" y="1482"/>
                </a:cubicBezTo>
                <a:cubicBezTo>
                  <a:pt x="410" y="1487"/>
                  <a:pt x="354" y="1494"/>
                  <a:pt x="354" y="1494"/>
                </a:cubicBezTo>
                <a:cubicBezTo>
                  <a:pt x="338" y="1499"/>
                  <a:pt x="321" y="1500"/>
                  <a:pt x="306" y="1506"/>
                </a:cubicBezTo>
                <a:cubicBezTo>
                  <a:pt x="299" y="1509"/>
                  <a:pt x="294" y="1515"/>
                  <a:pt x="288" y="1518"/>
                </a:cubicBezTo>
                <a:cubicBezTo>
                  <a:pt x="282" y="1521"/>
                  <a:pt x="276" y="1522"/>
                  <a:pt x="270" y="1524"/>
                </a:cubicBezTo>
                <a:cubicBezTo>
                  <a:pt x="260" y="1554"/>
                  <a:pt x="239" y="1568"/>
                  <a:pt x="210" y="1578"/>
                </a:cubicBezTo>
                <a:cubicBezTo>
                  <a:pt x="181" y="1607"/>
                  <a:pt x="169" y="1651"/>
                  <a:pt x="126" y="1662"/>
                </a:cubicBezTo>
                <a:cubicBezTo>
                  <a:pt x="97" y="1691"/>
                  <a:pt x="78" y="1726"/>
                  <a:pt x="54" y="1758"/>
                </a:cubicBezTo>
                <a:cubicBezTo>
                  <a:pt x="34" y="1785"/>
                  <a:pt x="11" y="1803"/>
                  <a:pt x="0" y="1836"/>
                </a:cubicBezTo>
                <a:cubicBezTo>
                  <a:pt x="7" y="1863"/>
                  <a:pt x="0" y="1854"/>
                  <a:pt x="12" y="1866"/>
                </a:cubicBezTo>
                <a:cubicBezTo>
                  <a:pt x="22" y="1884"/>
                  <a:pt x="33" y="1902"/>
                  <a:pt x="42" y="1920"/>
                </a:cubicBezTo>
                <a:cubicBezTo>
                  <a:pt x="45" y="1926"/>
                  <a:pt x="44" y="1934"/>
                  <a:pt x="48" y="1938"/>
                </a:cubicBezTo>
                <a:cubicBezTo>
                  <a:pt x="60" y="1950"/>
                  <a:pt x="80" y="1946"/>
                  <a:pt x="96" y="1950"/>
                </a:cubicBezTo>
                <a:cubicBezTo>
                  <a:pt x="132" y="1959"/>
                  <a:pt x="167" y="1968"/>
                  <a:pt x="204" y="1974"/>
                </a:cubicBezTo>
                <a:cubicBezTo>
                  <a:pt x="251" y="1997"/>
                  <a:pt x="305" y="1994"/>
                  <a:pt x="354" y="2010"/>
                </a:cubicBezTo>
                <a:cubicBezTo>
                  <a:pt x="397" y="2042"/>
                  <a:pt x="451" y="2081"/>
                  <a:pt x="504" y="2094"/>
                </a:cubicBezTo>
                <a:cubicBezTo>
                  <a:pt x="581" y="2145"/>
                  <a:pt x="637" y="2223"/>
                  <a:pt x="714" y="2274"/>
                </a:cubicBezTo>
                <a:cubicBezTo>
                  <a:pt x="732" y="2301"/>
                  <a:pt x="749" y="2324"/>
                  <a:pt x="780" y="2334"/>
                </a:cubicBezTo>
                <a:cubicBezTo>
                  <a:pt x="766" y="2377"/>
                  <a:pt x="780" y="2424"/>
                  <a:pt x="804" y="2460"/>
                </a:cubicBezTo>
                <a:cubicBezTo>
                  <a:pt x="808" y="2506"/>
                  <a:pt x="812" y="2528"/>
                  <a:pt x="822" y="2568"/>
                </a:cubicBezTo>
                <a:cubicBezTo>
                  <a:pt x="827" y="2672"/>
                  <a:pt x="839" y="2697"/>
                  <a:pt x="846" y="2790"/>
                </a:cubicBezTo>
                <a:cubicBezTo>
                  <a:pt x="838" y="2815"/>
                  <a:pt x="847" y="2830"/>
                  <a:pt x="852" y="2856"/>
                </a:cubicBezTo>
                <a:cubicBezTo>
                  <a:pt x="838" y="2876"/>
                  <a:pt x="835" y="2879"/>
                  <a:pt x="846" y="2868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06680" y="1139760"/>
            <a:ext cx="4165560" cy="4591080"/>
          </a:xfrm>
          <a:custGeom>
            <a:avLst/>
            <a:gdLst/>
            <a:ahLst/>
            <a:rect l="l" t="t" r="r" b="b"/>
            <a:pathLst>
              <a:path w="2624" h="2892">
                <a:moveTo>
                  <a:pt x="2624" y="0"/>
                </a:moveTo>
                <a:cubicBezTo>
                  <a:pt x="2605" y="26"/>
                  <a:pt x="2602" y="49"/>
                  <a:pt x="2588" y="78"/>
                </a:cubicBezTo>
                <a:cubicBezTo>
                  <a:pt x="2580" y="137"/>
                  <a:pt x="2556" y="217"/>
                  <a:pt x="2504" y="252"/>
                </a:cubicBezTo>
                <a:cubicBezTo>
                  <a:pt x="2469" y="322"/>
                  <a:pt x="2422" y="390"/>
                  <a:pt x="2372" y="450"/>
                </a:cubicBezTo>
                <a:cubicBezTo>
                  <a:pt x="2350" y="476"/>
                  <a:pt x="2334" y="499"/>
                  <a:pt x="2300" y="510"/>
                </a:cubicBezTo>
                <a:cubicBezTo>
                  <a:pt x="2260" y="630"/>
                  <a:pt x="2198" y="755"/>
                  <a:pt x="2126" y="858"/>
                </a:cubicBezTo>
                <a:cubicBezTo>
                  <a:pt x="2098" y="898"/>
                  <a:pt x="2078" y="938"/>
                  <a:pt x="2030" y="954"/>
                </a:cubicBezTo>
                <a:cubicBezTo>
                  <a:pt x="1999" y="1007"/>
                  <a:pt x="1959" y="1055"/>
                  <a:pt x="1916" y="1098"/>
                </a:cubicBezTo>
                <a:cubicBezTo>
                  <a:pt x="1897" y="1117"/>
                  <a:pt x="1875" y="1117"/>
                  <a:pt x="1856" y="1134"/>
                </a:cubicBezTo>
                <a:cubicBezTo>
                  <a:pt x="1785" y="1196"/>
                  <a:pt x="1710" y="1255"/>
                  <a:pt x="1616" y="1278"/>
                </a:cubicBezTo>
                <a:cubicBezTo>
                  <a:pt x="1594" y="1294"/>
                  <a:pt x="1577" y="1304"/>
                  <a:pt x="1562" y="1326"/>
                </a:cubicBezTo>
                <a:cubicBezTo>
                  <a:pt x="1548" y="1381"/>
                  <a:pt x="1527" y="1390"/>
                  <a:pt x="1478" y="1428"/>
                </a:cubicBezTo>
                <a:cubicBezTo>
                  <a:pt x="1467" y="1437"/>
                  <a:pt x="1442" y="1452"/>
                  <a:pt x="1442" y="1452"/>
                </a:cubicBezTo>
                <a:cubicBezTo>
                  <a:pt x="1434" y="1464"/>
                  <a:pt x="1426" y="1476"/>
                  <a:pt x="1418" y="1488"/>
                </a:cubicBezTo>
                <a:cubicBezTo>
                  <a:pt x="1409" y="1502"/>
                  <a:pt x="1382" y="1524"/>
                  <a:pt x="1382" y="1524"/>
                </a:cubicBezTo>
                <a:cubicBezTo>
                  <a:pt x="1380" y="1530"/>
                  <a:pt x="1381" y="1538"/>
                  <a:pt x="1376" y="1542"/>
                </a:cubicBezTo>
                <a:cubicBezTo>
                  <a:pt x="1366" y="1549"/>
                  <a:pt x="1340" y="1554"/>
                  <a:pt x="1340" y="1554"/>
                </a:cubicBezTo>
                <a:cubicBezTo>
                  <a:pt x="1308" y="1578"/>
                  <a:pt x="1226" y="1612"/>
                  <a:pt x="1184" y="1626"/>
                </a:cubicBezTo>
                <a:cubicBezTo>
                  <a:pt x="1152" y="1637"/>
                  <a:pt x="1116" y="1630"/>
                  <a:pt x="1082" y="1632"/>
                </a:cubicBezTo>
                <a:cubicBezTo>
                  <a:pt x="1040" y="1640"/>
                  <a:pt x="986" y="1648"/>
                  <a:pt x="950" y="1674"/>
                </a:cubicBezTo>
                <a:cubicBezTo>
                  <a:pt x="921" y="1695"/>
                  <a:pt x="945" y="1692"/>
                  <a:pt x="908" y="1704"/>
                </a:cubicBezTo>
                <a:cubicBezTo>
                  <a:pt x="854" y="1722"/>
                  <a:pt x="796" y="1721"/>
                  <a:pt x="740" y="1728"/>
                </a:cubicBezTo>
                <a:cubicBezTo>
                  <a:pt x="700" y="1733"/>
                  <a:pt x="661" y="1741"/>
                  <a:pt x="620" y="1746"/>
                </a:cubicBezTo>
                <a:cubicBezTo>
                  <a:pt x="583" y="1758"/>
                  <a:pt x="560" y="1792"/>
                  <a:pt x="524" y="1806"/>
                </a:cubicBezTo>
                <a:cubicBezTo>
                  <a:pt x="507" y="1813"/>
                  <a:pt x="493" y="1825"/>
                  <a:pt x="476" y="1830"/>
                </a:cubicBezTo>
                <a:cubicBezTo>
                  <a:pt x="453" y="1837"/>
                  <a:pt x="428" y="1837"/>
                  <a:pt x="404" y="1842"/>
                </a:cubicBezTo>
                <a:cubicBezTo>
                  <a:pt x="363" y="1870"/>
                  <a:pt x="382" y="1871"/>
                  <a:pt x="350" y="1860"/>
                </a:cubicBezTo>
                <a:cubicBezTo>
                  <a:pt x="343" y="1869"/>
                  <a:pt x="308" y="1921"/>
                  <a:pt x="290" y="1932"/>
                </a:cubicBezTo>
                <a:cubicBezTo>
                  <a:pt x="272" y="1943"/>
                  <a:pt x="250" y="1943"/>
                  <a:pt x="230" y="1950"/>
                </a:cubicBezTo>
                <a:cubicBezTo>
                  <a:pt x="208" y="1957"/>
                  <a:pt x="164" y="1968"/>
                  <a:pt x="164" y="1968"/>
                </a:cubicBezTo>
                <a:cubicBezTo>
                  <a:pt x="152" y="1976"/>
                  <a:pt x="136" y="1980"/>
                  <a:pt x="128" y="1992"/>
                </a:cubicBezTo>
                <a:cubicBezTo>
                  <a:pt x="124" y="1998"/>
                  <a:pt x="122" y="2006"/>
                  <a:pt x="116" y="2010"/>
                </a:cubicBezTo>
                <a:cubicBezTo>
                  <a:pt x="106" y="2016"/>
                  <a:pt x="70" y="2024"/>
                  <a:pt x="56" y="2028"/>
                </a:cubicBezTo>
                <a:cubicBezTo>
                  <a:pt x="49" y="2048"/>
                  <a:pt x="50" y="2052"/>
                  <a:pt x="50" y="2040"/>
                </a:cubicBezTo>
                <a:cubicBezTo>
                  <a:pt x="38" y="2080"/>
                  <a:pt x="22" y="2119"/>
                  <a:pt x="14" y="2160"/>
                </a:cubicBezTo>
                <a:cubicBezTo>
                  <a:pt x="0" y="2230"/>
                  <a:pt x="108" y="2243"/>
                  <a:pt x="152" y="2250"/>
                </a:cubicBezTo>
                <a:cubicBezTo>
                  <a:pt x="255" y="2291"/>
                  <a:pt x="359" y="2326"/>
                  <a:pt x="470" y="2340"/>
                </a:cubicBezTo>
                <a:cubicBezTo>
                  <a:pt x="565" y="2326"/>
                  <a:pt x="675" y="2353"/>
                  <a:pt x="770" y="2358"/>
                </a:cubicBezTo>
                <a:cubicBezTo>
                  <a:pt x="809" y="2362"/>
                  <a:pt x="846" y="2367"/>
                  <a:pt x="884" y="2376"/>
                </a:cubicBezTo>
                <a:cubicBezTo>
                  <a:pt x="910" y="2395"/>
                  <a:pt x="931" y="2410"/>
                  <a:pt x="962" y="2418"/>
                </a:cubicBezTo>
                <a:cubicBezTo>
                  <a:pt x="986" y="2434"/>
                  <a:pt x="1000" y="2434"/>
                  <a:pt x="1028" y="2442"/>
                </a:cubicBezTo>
                <a:cubicBezTo>
                  <a:pt x="1040" y="2445"/>
                  <a:pt x="1064" y="2454"/>
                  <a:pt x="1064" y="2454"/>
                </a:cubicBezTo>
                <a:cubicBezTo>
                  <a:pt x="1085" y="2486"/>
                  <a:pt x="1095" y="2528"/>
                  <a:pt x="1112" y="2562"/>
                </a:cubicBezTo>
                <a:cubicBezTo>
                  <a:pt x="1121" y="2580"/>
                  <a:pt x="1142" y="2616"/>
                  <a:pt x="1142" y="2616"/>
                </a:cubicBezTo>
                <a:cubicBezTo>
                  <a:pt x="1148" y="2739"/>
                  <a:pt x="1151" y="2711"/>
                  <a:pt x="1172" y="2796"/>
                </a:cubicBezTo>
                <a:cubicBezTo>
                  <a:pt x="1163" y="2822"/>
                  <a:pt x="1181" y="2839"/>
                  <a:pt x="1166" y="2862"/>
                </a:cubicBezTo>
                <a:cubicBezTo>
                  <a:pt x="1146" y="2892"/>
                  <a:pt x="1148" y="2854"/>
                  <a:pt x="1148" y="287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4920" y="1143000"/>
            <a:ext cx="6194160" cy="4572000"/>
          </a:xfrm>
          <a:custGeom>
            <a:avLst/>
            <a:gdLst/>
            <a:ahLst/>
            <a:rect l="l" t="t" r="r" b="b"/>
            <a:pathLst>
              <a:path w="3902" h="2880">
                <a:moveTo>
                  <a:pt x="3902" y="0"/>
                </a:moveTo>
                <a:cubicBezTo>
                  <a:pt x="3874" y="19"/>
                  <a:pt x="3870" y="50"/>
                  <a:pt x="3842" y="78"/>
                </a:cubicBezTo>
                <a:cubicBezTo>
                  <a:pt x="3828" y="119"/>
                  <a:pt x="3785" y="143"/>
                  <a:pt x="3752" y="168"/>
                </a:cubicBezTo>
                <a:cubicBezTo>
                  <a:pt x="3730" y="184"/>
                  <a:pt x="3679" y="252"/>
                  <a:pt x="3662" y="276"/>
                </a:cubicBezTo>
                <a:cubicBezTo>
                  <a:pt x="3651" y="291"/>
                  <a:pt x="3646" y="312"/>
                  <a:pt x="3632" y="324"/>
                </a:cubicBezTo>
                <a:cubicBezTo>
                  <a:pt x="3618" y="336"/>
                  <a:pt x="3596" y="331"/>
                  <a:pt x="3578" y="336"/>
                </a:cubicBezTo>
                <a:cubicBezTo>
                  <a:pt x="3556" y="343"/>
                  <a:pt x="3534" y="352"/>
                  <a:pt x="3512" y="360"/>
                </a:cubicBezTo>
                <a:cubicBezTo>
                  <a:pt x="3478" y="373"/>
                  <a:pt x="3449" y="393"/>
                  <a:pt x="3416" y="408"/>
                </a:cubicBezTo>
                <a:cubicBezTo>
                  <a:pt x="3377" y="426"/>
                  <a:pt x="3338" y="438"/>
                  <a:pt x="3302" y="462"/>
                </a:cubicBezTo>
                <a:cubicBezTo>
                  <a:pt x="3247" y="499"/>
                  <a:pt x="3200" y="544"/>
                  <a:pt x="3146" y="582"/>
                </a:cubicBezTo>
                <a:cubicBezTo>
                  <a:pt x="3121" y="600"/>
                  <a:pt x="3110" y="616"/>
                  <a:pt x="3080" y="624"/>
                </a:cubicBezTo>
                <a:cubicBezTo>
                  <a:pt x="3001" y="672"/>
                  <a:pt x="2885" y="764"/>
                  <a:pt x="2798" y="786"/>
                </a:cubicBezTo>
                <a:cubicBezTo>
                  <a:pt x="2775" y="801"/>
                  <a:pt x="2749" y="807"/>
                  <a:pt x="2726" y="822"/>
                </a:cubicBezTo>
                <a:cubicBezTo>
                  <a:pt x="2707" y="850"/>
                  <a:pt x="2680" y="859"/>
                  <a:pt x="2660" y="888"/>
                </a:cubicBezTo>
                <a:cubicBezTo>
                  <a:pt x="2634" y="928"/>
                  <a:pt x="2619" y="956"/>
                  <a:pt x="2588" y="996"/>
                </a:cubicBezTo>
                <a:cubicBezTo>
                  <a:pt x="2574" y="1014"/>
                  <a:pt x="2559" y="1030"/>
                  <a:pt x="2540" y="1044"/>
                </a:cubicBezTo>
                <a:cubicBezTo>
                  <a:pt x="2529" y="1053"/>
                  <a:pt x="2504" y="1068"/>
                  <a:pt x="2504" y="1068"/>
                </a:cubicBezTo>
                <a:cubicBezTo>
                  <a:pt x="2473" y="1114"/>
                  <a:pt x="2438" y="1112"/>
                  <a:pt x="2396" y="1140"/>
                </a:cubicBezTo>
                <a:cubicBezTo>
                  <a:pt x="2356" y="1200"/>
                  <a:pt x="2274" y="1217"/>
                  <a:pt x="2216" y="1254"/>
                </a:cubicBezTo>
                <a:cubicBezTo>
                  <a:pt x="2133" y="1307"/>
                  <a:pt x="2068" y="1380"/>
                  <a:pt x="1970" y="1404"/>
                </a:cubicBezTo>
                <a:cubicBezTo>
                  <a:pt x="1938" y="1425"/>
                  <a:pt x="1898" y="1424"/>
                  <a:pt x="1862" y="1440"/>
                </a:cubicBezTo>
                <a:cubicBezTo>
                  <a:pt x="1829" y="1455"/>
                  <a:pt x="1792" y="1470"/>
                  <a:pt x="1760" y="1488"/>
                </a:cubicBezTo>
                <a:cubicBezTo>
                  <a:pt x="1721" y="1510"/>
                  <a:pt x="1677" y="1543"/>
                  <a:pt x="1634" y="1554"/>
                </a:cubicBezTo>
                <a:cubicBezTo>
                  <a:pt x="1582" y="1589"/>
                  <a:pt x="1524" y="1589"/>
                  <a:pt x="1466" y="1608"/>
                </a:cubicBezTo>
                <a:cubicBezTo>
                  <a:pt x="1348" y="1647"/>
                  <a:pt x="1230" y="1682"/>
                  <a:pt x="1106" y="1692"/>
                </a:cubicBezTo>
                <a:cubicBezTo>
                  <a:pt x="1063" y="1706"/>
                  <a:pt x="1117" y="1692"/>
                  <a:pt x="1064" y="1692"/>
                </a:cubicBezTo>
                <a:cubicBezTo>
                  <a:pt x="1043" y="1692"/>
                  <a:pt x="1029" y="1698"/>
                  <a:pt x="1010" y="1704"/>
                </a:cubicBezTo>
                <a:cubicBezTo>
                  <a:pt x="929" y="1692"/>
                  <a:pt x="858" y="1694"/>
                  <a:pt x="776" y="1698"/>
                </a:cubicBezTo>
                <a:cubicBezTo>
                  <a:pt x="732" y="1716"/>
                  <a:pt x="724" y="1730"/>
                  <a:pt x="674" y="1722"/>
                </a:cubicBezTo>
                <a:cubicBezTo>
                  <a:pt x="640" y="1733"/>
                  <a:pt x="608" y="1741"/>
                  <a:pt x="572" y="1746"/>
                </a:cubicBezTo>
                <a:cubicBezTo>
                  <a:pt x="483" y="1736"/>
                  <a:pt x="401" y="1751"/>
                  <a:pt x="314" y="1722"/>
                </a:cubicBezTo>
                <a:cubicBezTo>
                  <a:pt x="264" y="1732"/>
                  <a:pt x="215" y="1746"/>
                  <a:pt x="164" y="1752"/>
                </a:cubicBezTo>
                <a:cubicBezTo>
                  <a:pt x="109" y="1770"/>
                  <a:pt x="141" y="1763"/>
                  <a:pt x="68" y="1770"/>
                </a:cubicBezTo>
                <a:cubicBezTo>
                  <a:pt x="66" y="1776"/>
                  <a:pt x="68" y="1785"/>
                  <a:pt x="62" y="1788"/>
                </a:cubicBezTo>
                <a:cubicBezTo>
                  <a:pt x="56" y="1791"/>
                  <a:pt x="48" y="1778"/>
                  <a:pt x="44" y="1782"/>
                </a:cubicBezTo>
                <a:cubicBezTo>
                  <a:pt x="40" y="1786"/>
                  <a:pt x="47" y="1794"/>
                  <a:pt x="50" y="1800"/>
                </a:cubicBezTo>
                <a:cubicBezTo>
                  <a:pt x="51" y="1802"/>
                  <a:pt x="50" y="1796"/>
                  <a:pt x="50" y="1794"/>
                </a:cubicBezTo>
                <a:cubicBezTo>
                  <a:pt x="10" y="1881"/>
                  <a:pt x="0" y="1871"/>
                  <a:pt x="50" y="1938"/>
                </a:cubicBezTo>
                <a:cubicBezTo>
                  <a:pt x="57" y="1958"/>
                  <a:pt x="68" y="2003"/>
                  <a:pt x="86" y="2016"/>
                </a:cubicBezTo>
                <a:cubicBezTo>
                  <a:pt x="113" y="2036"/>
                  <a:pt x="147" y="2048"/>
                  <a:pt x="176" y="2064"/>
                </a:cubicBezTo>
                <a:cubicBezTo>
                  <a:pt x="242" y="2101"/>
                  <a:pt x="160" y="2061"/>
                  <a:pt x="218" y="2106"/>
                </a:cubicBezTo>
                <a:cubicBezTo>
                  <a:pt x="271" y="2147"/>
                  <a:pt x="314" y="2160"/>
                  <a:pt x="374" y="2178"/>
                </a:cubicBezTo>
                <a:cubicBezTo>
                  <a:pt x="444" y="2199"/>
                  <a:pt x="436" y="2212"/>
                  <a:pt x="512" y="2220"/>
                </a:cubicBezTo>
                <a:cubicBezTo>
                  <a:pt x="525" y="2233"/>
                  <a:pt x="543" y="2242"/>
                  <a:pt x="554" y="2256"/>
                </a:cubicBezTo>
                <a:cubicBezTo>
                  <a:pt x="577" y="2285"/>
                  <a:pt x="620" y="2346"/>
                  <a:pt x="638" y="2382"/>
                </a:cubicBezTo>
                <a:cubicBezTo>
                  <a:pt x="656" y="2418"/>
                  <a:pt x="658" y="2456"/>
                  <a:pt x="698" y="2466"/>
                </a:cubicBezTo>
                <a:cubicBezTo>
                  <a:pt x="750" y="2500"/>
                  <a:pt x="760" y="2558"/>
                  <a:pt x="800" y="2598"/>
                </a:cubicBezTo>
                <a:cubicBezTo>
                  <a:pt x="820" y="2648"/>
                  <a:pt x="832" y="2696"/>
                  <a:pt x="860" y="2742"/>
                </a:cubicBezTo>
                <a:cubicBezTo>
                  <a:pt x="866" y="2767"/>
                  <a:pt x="873" y="2785"/>
                  <a:pt x="884" y="2808"/>
                </a:cubicBezTo>
                <a:cubicBezTo>
                  <a:pt x="881" y="2820"/>
                  <a:pt x="858" y="2880"/>
                  <a:pt x="872" y="288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7320" y="2438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9280" y="34815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895480"/>
            <a:ext cx="381240" cy="304920"/>
          </a:xfrm>
          <a:prstGeom prst="star5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5080" y="3105000"/>
            <a:ext cx="152280" cy="152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352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57960" y="4308480"/>
            <a:ext cx="1067040" cy="914400"/>
          </a:xfrm>
          <a:custGeom>
            <a:avLst/>
            <a:gdLst>
              <a:gd name="textAreaLeft" fmla="*/ 439560 w 1067040"/>
              <a:gd name="textAreaRight" fmla="*/ 627480 w 106704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1640" y="44956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7360" y="4495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0480" y="515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36960" y="38098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664320" y="3733920"/>
            <a:ext cx="584280" cy="618480"/>
            <a:chOff x="6664320" y="3733920"/>
            <a:chExt cx="584280" cy="618480"/>
          </a:xfrm>
        </p:grpSpPr>
        <p:sp>
          <p:nvSpPr>
            <p:cNvPr id="176" name=""/>
            <p:cNvSpPr/>
            <p:nvPr/>
          </p:nvSpPr>
          <p:spPr>
            <a:xfrm>
              <a:off x="6988320" y="3733920"/>
              <a:ext cx="136440" cy="15228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14" y="42"/>
                  </a:moveTo>
                  <a:cubicBezTo>
                    <a:pt x="0" y="84"/>
                    <a:pt x="21" y="77"/>
                    <a:pt x="50" y="96"/>
                  </a:cubicBezTo>
                  <a:cubicBezTo>
                    <a:pt x="71" y="82"/>
                    <a:pt x="78" y="72"/>
                    <a:pt x="86" y="48"/>
                  </a:cubicBezTo>
                  <a:cubicBezTo>
                    <a:pt x="58" y="6"/>
                    <a:pt x="74" y="20"/>
                    <a:pt x="44" y="0"/>
                  </a:cubicBezTo>
                  <a:cubicBezTo>
                    <a:pt x="11" y="11"/>
                    <a:pt x="5" y="5"/>
                    <a:pt x="14" y="42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53240" y="3886200"/>
              <a:ext cx="390600" cy="209160"/>
            </a:xfrm>
            <a:custGeom>
              <a:avLst/>
              <a:gdLst/>
              <a:ahLst/>
              <a:rect l="l" t="t" r="r" b="b"/>
              <a:pathLst>
                <a:path w="246" h="132">
                  <a:moveTo>
                    <a:pt x="210" y="36"/>
                  </a:moveTo>
                  <a:cubicBezTo>
                    <a:pt x="188" y="22"/>
                    <a:pt x="163" y="8"/>
                    <a:pt x="138" y="0"/>
                  </a:cubicBezTo>
                  <a:cubicBezTo>
                    <a:pt x="92" y="15"/>
                    <a:pt x="48" y="28"/>
                    <a:pt x="0" y="36"/>
                  </a:cubicBezTo>
                  <a:cubicBezTo>
                    <a:pt x="11" y="68"/>
                    <a:pt x="27" y="66"/>
                    <a:pt x="60" y="72"/>
                  </a:cubicBezTo>
                  <a:cubicBezTo>
                    <a:pt x="71" y="106"/>
                    <a:pt x="57" y="80"/>
                    <a:pt x="102" y="96"/>
                  </a:cubicBezTo>
                  <a:cubicBezTo>
                    <a:pt x="131" y="106"/>
                    <a:pt x="145" y="117"/>
                    <a:pt x="168" y="132"/>
                  </a:cubicBezTo>
                  <a:cubicBezTo>
                    <a:pt x="204" y="120"/>
                    <a:pt x="174" y="108"/>
                    <a:pt x="210" y="96"/>
                  </a:cubicBezTo>
                  <a:cubicBezTo>
                    <a:pt x="218" y="84"/>
                    <a:pt x="246" y="68"/>
                    <a:pt x="234" y="60"/>
                  </a:cubicBezTo>
                  <a:cubicBezTo>
                    <a:pt x="195" y="34"/>
                    <a:pt x="184" y="36"/>
                    <a:pt x="210" y="36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5600" y="4133880"/>
              <a:ext cx="243000" cy="218520"/>
            </a:xfrm>
            <a:custGeom>
              <a:avLst/>
              <a:gdLst/>
              <a:ahLst/>
              <a:rect l="l" t="t" r="r" b="b"/>
              <a:pathLst>
                <a:path w="153" h="138">
                  <a:moveTo>
                    <a:pt x="117" y="0"/>
                  </a:moveTo>
                  <a:cubicBezTo>
                    <a:pt x="99" y="55"/>
                    <a:pt x="118" y="37"/>
                    <a:pt x="45" y="30"/>
                  </a:cubicBezTo>
                  <a:cubicBezTo>
                    <a:pt x="24" y="23"/>
                    <a:pt x="26" y="17"/>
                    <a:pt x="15" y="42"/>
                  </a:cubicBezTo>
                  <a:cubicBezTo>
                    <a:pt x="10" y="54"/>
                    <a:pt x="3" y="78"/>
                    <a:pt x="3" y="78"/>
                  </a:cubicBezTo>
                  <a:cubicBezTo>
                    <a:pt x="5" y="88"/>
                    <a:pt x="0" y="103"/>
                    <a:pt x="9" y="108"/>
                  </a:cubicBezTo>
                  <a:cubicBezTo>
                    <a:pt x="20" y="114"/>
                    <a:pt x="33" y="102"/>
                    <a:pt x="45" y="102"/>
                  </a:cubicBezTo>
                  <a:cubicBezTo>
                    <a:pt x="57" y="102"/>
                    <a:pt x="69" y="105"/>
                    <a:pt x="81" y="108"/>
                  </a:cubicBezTo>
                  <a:cubicBezTo>
                    <a:pt x="101" y="112"/>
                    <a:pt x="135" y="138"/>
                    <a:pt x="135" y="138"/>
                  </a:cubicBezTo>
                  <a:cubicBezTo>
                    <a:pt x="143" y="114"/>
                    <a:pt x="147" y="90"/>
                    <a:pt x="153" y="66"/>
                  </a:cubicBezTo>
                  <a:cubicBezTo>
                    <a:pt x="145" y="41"/>
                    <a:pt x="128" y="23"/>
                    <a:pt x="117" y="0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4320" y="3917880"/>
              <a:ext cx="128520" cy="26964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62" y="40"/>
                  </a:moveTo>
                  <a:cubicBezTo>
                    <a:pt x="56" y="36"/>
                    <a:pt x="49" y="34"/>
                    <a:pt x="44" y="28"/>
                  </a:cubicBezTo>
                  <a:cubicBezTo>
                    <a:pt x="30" y="11"/>
                    <a:pt x="48" y="0"/>
                    <a:pt x="26" y="22"/>
                  </a:cubicBezTo>
                  <a:cubicBezTo>
                    <a:pt x="17" y="170"/>
                    <a:pt x="0" y="99"/>
                    <a:pt x="74" y="148"/>
                  </a:cubicBezTo>
                  <a:cubicBezTo>
                    <a:pt x="81" y="126"/>
                    <a:pt x="73" y="116"/>
                    <a:pt x="80" y="94"/>
                  </a:cubicBezTo>
                  <a:cubicBezTo>
                    <a:pt x="74" y="85"/>
                    <a:pt x="36" y="40"/>
                    <a:pt x="62" y="40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173640" y="31082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10080" y="1131840"/>
            <a:ext cx="3247920" cy="1154160"/>
          </a:xfrm>
          <a:custGeom>
            <a:avLst/>
            <a:gdLst/>
            <a:ahLst/>
            <a:rect l="l" t="t" r="r" b="b"/>
            <a:pathLst>
              <a:path w="2046" h="727">
                <a:moveTo>
                  <a:pt x="2046" y="13"/>
                </a:moveTo>
                <a:cubicBezTo>
                  <a:pt x="2015" y="34"/>
                  <a:pt x="1992" y="58"/>
                  <a:pt x="1962" y="79"/>
                </a:cubicBezTo>
                <a:cubicBezTo>
                  <a:pt x="1918" y="110"/>
                  <a:pt x="1873" y="137"/>
                  <a:pt x="1830" y="169"/>
                </a:cubicBezTo>
                <a:cubicBezTo>
                  <a:pt x="1814" y="181"/>
                  <a:pt x="1810" y="205"/>
                  <a:pt x="1794" y="217"/>
                </a:cubicBezTo>
                <a:cubicBezTo>
                  <a:pt x="1786" y="223"/>
                  <a:pt x="1778" y="228"/>
                  <a:pt x="1770" y="235"/>
                </a:cubicBezTo>
                <a:cubicBezTo>
                  <a:pt x="1742" y="259"/>
                  <a:pt x="1717" y="276"/>
                  <a:pt x="1686" y="295"/>
                </a:cubicBezTo>
                <a:cubicBezTo>
                  <a:pt x="1674" y="302"/>
                  <a:pt x="1662" y="311"/>
                  <a:pt x="1650" y="319"/>
                </a:cubicBezTo>
                <a:cubicBezTo>
                  <a:pt x="1644" y="323"/>
                  <a:pt x="1632" y="331"/>
                  <a:pt x="1632" y="331"/>
                </a:cubicBezTo>
                <a:cubicBezTo>
                  <a:pt x="1620" y="327"/>
                  <a:pt x="1608" y="323"/>
                  <a:pt x="1596" y="319"/>
                </a:cubicBezTo>
                <a:cubicBezTo>
                  <a:pt x="1581" y="314"/>
                  <a:pt x="1547" y="361"/>
                  <a:pt x="1536" y="367"/>
                </a:cubicBezTo>
                <a:cubicBezTo>
                  <a:pt x="1525" y="374"/>
                  <a:pt x="1512" y="375"/>
                  <a:pt x="1500" y="379"/>
                </a:cubicBezTo>
                <a:cubicBezTo>
                  <a:pt x="1494" y="381"/>
                  <a:pt x="1482" y="385"/>
                  <a:pt x="1482" y="385"/>
                </a:cubicBezTo>
                <a:cubicBezTo>
                  <a:pt x="1413" y="440"/>
                  <a:pt x="1403" y="448"/>
                  <a:pt x="1314" y="457"/>
                </a:cubicBezTo>
                <a:cubicBezTo>
                  <a:pt x="1255" y="477"/>
                  <a:pt x="1213" y="533"/>
                  <a:pt x="1164" y="571"/>
                </a:cubicBezTo>
                <a:cubicBezTo>
                  <a:pt x="1147" y="585"/>
                  <a:pt x="1120" y="575"/>
                  <a:pt x="1098" y="577"/>
                </a:cubicBezTo>
                <a:cubicBezTo>
                  <a:pt x="1078" y="583"/>
                  <a:pt x="1056" y="585"/>
                  <a:pt x="1038" y="595"/>
                </a:cubicBezTo>
                <a:cubicBezTo>
                  <a:pt x="976" y="629"/>
                  <a:pt x="1025" y="611"/>
                  <a:pt x="984" y="625"/>
                </a:cubicBezTo>
                <a:cubicBezTo>
                  <a:pt x="956" y="653"/>
                  <a:pt x="920" y="659"/>
                  <a:pt x="882" y="667"/>
                </a:cubicBezTo>
                <a:cubicBezTo>
                  <a:pt x="852" y="687"/>
                  <a:pt x="821" y="695"/>
                  <a:pt x="792" y="715"/>
                </a:cubicBezTo>
                <a:cubicBezTo>
                  <a:pt x="712" y="704"/>
                  <a:pt x="626" y="722"/>
                  <a:pt x="546" y="727"/>
                </a:cubicBezTo>
                <a:cubicBezTo>
                  <a:pt x="489" y="708"/>
                  <a:pt x="501" y="702"/>
                  <a:pt x="468" y="661"/>
                </a:cubicBezTo>
                <a:cubicBezTo>
                  <a:pt x="430" y="613"/>
                  <a:pt x="379" y="572"/>
                  <a:pt x="336" y="529"/>
                </a:cubicBezTo>
                <a:cubicBezTo>
                  <a:pt x="309" y="502"/>
                  <a:pt x="290" y="470"/>
                  <a:pt x="252" y="457"/>
                </a:cubicBezTo>
                <a:cubicBezTo>
                  <a:pt x="234" y="439"/>
                  <a:pt x="228" y="423"/>
                  <a:pt x="204" y="415"/>
                </a:cubicBezTo>
                <a:cubicBezTo>
                  <a:pt x="193" y="404"/>
                  <a:pt x="179" y="396"/>
                  <a:pt x="168" y="385"/>
                </a:cubicBezTo>
                <a:cubicBezTo>
                  <a:pt x="154" y="371"/>
                  <a:pt x="150" y="349"/>
                  <a:pt x="144" y="331"/>
                </a:cubicBezTo>
                <a:cubicBezTo>
                  <a:pt x="132" y="295"/>
                  <a:pt x="117" y="266"/>
                  <a:pt x="108" y="229"/>
                </a:cubicBezTo>
                <a:cubicBezTo>
                  <a:pt x="101" y="200"/>
                  <a:pt x="105" y="219"/>
                  <a:pt x="84" y="193"/>
                </a:cubicBezTo>
                <a:cubicBezTo>
                  <a:pt x="75" y="182"/>
                  <a:pt x="60" y="157"/>
                  <a:pt x="60" y="157"/>
                </a:cubicBezTo>
                <a:cubicBezTo>
                  <a:pt x="58" y="145"/>
                  <a:pt x="57" y="133"/>
                  <a:pt x="54" y="121"/>
                </a:cubicBezTo>
                <a:cubicBezTo>
                  <a:pt x="51" y="109"/>
                  <a:pt x="42" y="85"/>
                  <a:pt x="42" y="85"/>
                </a:cubicBezTo>
                <a:cubicBezTo>
                  <a:pt x="44" y="79"/>
                  <a:pt x="48" y="73"/>
                  <a:pt x="48" y="67"/>
                </a:cubicBezTo>
                <a:cubicBezTo>
                  <a:pt x="48" y="61"/>
                  <a:pt x="41" y="55"/>
                  <a:pt x="42" y="49"/>
                </a:cubicBezTo>
                <a:cubicBezTo>
                  <a:pt x="43" y="36"/>
                  <a:pt x="54" y="0"/>
                  <a:pt x="54" y="13"/>
                </a:cubicBezTo>
                <a:cubicBezTo>
                  <a:pt x="54" y="19"/>
                  <a:pt x="54" y="25"/>
                  <a:pt x="54" y="31"/>
                </a:cubicBezTo>
                <a:lnTo>
                  <a:pt x="0" y="55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14840" y="1143000"/>
            <a:ext cx="743040" cy="50472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67080" y="1305000"/>
            <a:ext cx="1047600" cy="552240"/>
          </a:xfrm>
          <a:custGeom>
            <a:avLst/>
            <a:gdLst/>
            <a:ahLst/>
            <a:rect l="l" t="t" r="r" b="b"/>
            <a:pathLst>
              <a:path w="660" h="348">
                <a:moveTo>
                  <a:pt x="660" y="0"/>
                </a:moveTo>
                <a:cubicBezTo>
                  <a:pt x="631" y="10"/>
                  <a:pt x="632" y="37"/>
                  <a:pt x="612" y="60"/>
                </a:cubicBezTo>
                <a:cubicBezTo>
                  <a:pt x="581" y="95"/>
                  <a:pt x="537" y="130"/>
                  <a:pt x="498" y="156"/>
                </a:cubicBezTo>
                <a:cubicBezTo>
                  <a:pt x="462" y="210"/>
                  <a:pt x="395" y="301"/>
                  <a:pt x="336" y="330"/>
                </a:cubicBezTo>
                <a:cubicBezTo>
                  <a:pt x="300" y="348"/>
                  <a:pt x="238" y="345"/>
                  <a:pt x="204" y="348"/>
                </a:cubicBezTo>
                <a:cubicBezTo>
                  <a:pt x="161" y="334"/>
                  <a:pt x="175" y="347"/>
                  <a:pt x="156" y="318"/>
                </a:cubicBezTo>
                <a:cubicBezTo>
                  <a:pt x="152" y="300"/>
                  <a:pt x="153" y="280"/>
                  <a:pt x="144" y="264"/>
                </a:cubicBezTo>
                <a:cubicBezTo>
                  <a:pt x="137" y="251"/>
                  <a:pt x="93" y="225"/>
                  <a:pt x="78" y="210"/>
                </a:cubicBezTo>
                <a:cubicBezTo>
                  <a:pt x="66" y="175"/>
                  <a:pt x="94" y="164"/>
                  <a:pt x="54" y="138"/>
                </a:cubicBezTo>
                <a:cubicBezTo>
                  <a:pt x="30" y="103"/>
                  <a:pt x="12" y="49"/>
                  <a:pt x="12" y="6"/>
                </a:cubicBezTo>
                <a:lnTo>
                  <a:pt x="0" y="42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47800" y="1285920"/>
            <a:ext cx="667080" cy="50472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76760" y="1295280"/>
            <a:ext cx="666720" cy="50508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9880" y="1108080"/>
            <a:ext cx="14868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07960" y="171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1809720"/>
            <a:ext cx="152640" cy="152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8120" y="5029200"/>
            <a:ext cx="1828800" cy="395280"/>
            <a:chOff x="3048120" y="5029200"/>
            <a:chExt cx="1828800" cy="395280"/>
          </a:xfrm>
        </p:grpSpPr>
        <p:sp>
          <p:nvSpPr>
            <p:cNvPr id="190" name=""/>
            <p:cNvSpPr/>
            <p:nvPr/>
          </p:nvSpPr>
          <p:spPr>
            <a:xfrm>
              <a:off x="3048120" y="5043600"/>
              <a:ext cx="18288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6800" y="5029200"/>
              <a:ext cx="13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OMIST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028880" y="1066680"/>
            <a:ext cx="2286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066680"/>
            <a:ext cx="24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uring 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>
            <a:off x="456480" y="1219320"/>
            <a:ext cx="7620120" cy="4114800"/>
          </a:xfrm>
          <a:prstGeom prst="wedgeRectCallout">
            <a:avLst>
              <a:gd name="adj1" fmla="val 768"/>
              <a:gd name="adj2" fmla="val 6415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Common standard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371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Initial assessment</a:t>
            </a: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Assessments provide an understanding of the emergency situation and a clear analysis of threa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life, dignity, health and livelihoods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, in consultation with releva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ties whether an external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vention is required and, if so,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ure of the respo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”</a:t>
            </a: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171880" cy="30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457200" y="1219320"/>
            <a:ext cx="7848720" cy="3809880"/>
          </a:xfrm>
          <a:prstGeom prst="wedgeRectCallout">
            <a:avLst>
              <a:gd name="adj1" fmla="val 2203"/>
              <a:gd name="adj2" fmla="val 63995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Indica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3716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ignals’ that show whether a standar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has been attained. </a:t>
            </a:r>
            <a:br>
              <a:rPr sz="2400"/>
            </a:b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y provide a way of measuring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communicating both the impact, or resul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of programmes as well as the proces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or methods, used. </a:t>
            </a:r>
            <a:br>
              <a:rPr sz="2000"/>
            </a:b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indicators may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qualitative or quantit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65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Using Sphere to mitigate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29528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Wider community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215040" y="2209680"/>
            <a:ext cx="1862280" cy="1830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943600" y="4038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o a person with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a hammer in their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hand every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problem looks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like a nai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0880" y="1139760"/>
            <a:ext cx="5333760" cy="4578120"/>
            <a:chOff x="380880" y="1139760"/>
            <a:chExt cx="5333760" cy="4578120"/>
          </a:xfrm>
        </p:grpSpPr>
        <p:sp>
          <p:nvSpPr>
            <p:cNvPr id="208" name=""/>
            <p:cNvSpPr/>
            <p:nvPr/>
          </p:nvSpPr>
          <p:spPr>
            <a:xfrm>
              <a:off x="1350720" y="1139760"/>
              <a:ext cx="3297240" cy="3297240"/>
            </a:xfrm>
            <a:prstGeom prst="ellipse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2420640"/>
              <a:ext cx="3297240" cy="3297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7400" y="2400120"/>
              <a:ext cx="3297240" cy="32972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523880" y="16002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Organisational mandate or specialty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51936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BIAS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435780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Resources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434340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Humanitaria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7800" y="609480"/>
            <a:ext cx="8001000" cy="5029200"/>
          </a:xfrm>
          <a:prstGeom prst="flowChartExtract">
            <a:avLst/>
          </a:prstGeom>
          <a:gradFill rotWithShape="0">
            <a:gsLst>
              <a:gs pos="0">
                <a:srgbClr val="ff0000"/>
              </a:gs>
              <a:gs pos="100000">
                <a:srgbClr val="fe38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How to reduce b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441972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66"/>
                </a:solidFill>
                <a:latin typeface="Arial Black"/>
              </a:rPr>
              <a:t>Joint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981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66"/>
                </a:solidFill>
                <a:latin typeface="Arial Black"/>
              </a:rPr>
              <a:t>Triangulation</a:t>
            </a:r>
            <a:r>
              <a:rPr b="0" lang="fr-CH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varing techniques</a:t>
            </a:r>
            <a:br>
              <a:rPr sz="2000"/>
            </a:b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indicators of same event</a:t>
            </a:r>
            <a:br>
              <a:rPr sz="2000"/>
            </a:b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info sources</a:t>
            </a:r>
            <a:br>
              <a:rPr sz="2000"/>
            </a:b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team composition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809880"/>
            <a:ext cx="24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66"/>
                </a:solidFill>
                <a:latin typeface="Arial Black"/>
              </a:rPr>
              <a:t>Coordination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0292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66"/>
                </a:solidFill>
                <a:latin typeface="Arial Black"/>
              </a:rPr>
              <a:t>Adherence to baselin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5638680"/>
            <a:ext cx="180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/UNH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Assessment standards in 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mmon standard 2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itia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0574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ecklists for initial assess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590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ater supply, sanitation and hygiene promo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004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ood security, nutrition and food aid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8862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helter, settlement and non-food item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272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3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Using Sphere in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Context and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to use the Sphere handbo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 problem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the purpose of analysis and where i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happens in the project cycle.</a:t>
            </a:r>
            <a:br>
              <a:rPr sz="24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27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fine how the Sphere handbook can enh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he quality of analys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actical analysis techniques and tool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use with the Sphere hand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Monitor</a:t>
            </a:r>
            <a:br>
              <a:rPr sz="3200"/>
            </a:b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lan, design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41280"/>
            <a:ext cx="1904760" cy="6858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ss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3716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245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247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50640" y="1218960"/>
                <a:ext cx="135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 Black"/>
                  </a:rPr>
                  <a:t>Dis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Some analytical ‘lenses’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cial, political and 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ps in available resourc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d control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nd sec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es and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Capacity and vulnerability analysi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80010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81952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26708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Black"/>
              </a:rPr>
              <a:t>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1670040"/>
            <a:ext cx="8077320" cy="1225440"/>
            <a:chOff x="838080" y="1670040"/>
            <a:chExt cx="8077320" cy="1225440"/>
          </a:xfrm>
        </p:grpSpPr>
        <p:sp>
          <p:nvSpPr>
            <p:cNvPr id="270" name=""/>
            <p:cNvSpPr/>
            <p:nvPr/>
          </p:nvSpPr>
          <p:spPr>
            <a:xfrm>
              <a:off x="838080" y="1670040"/>
              <a:ext cx="1600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Physical/ Materi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352680" y="1676520"/>
              <a:ext cx="3048120" cy="1218960"/>
              <a:chOff x="3352680" y="1676520"/>
              <a:chExt cx="3048120" cy="1218960"/>
            </a:xfrm>
          </p:grpSpPr>
          <p:sp>
            <p:nvSpPr>
              <p:cNvPr id="272" name=""/>
              <p:cNvSpPr/>
              <p:nvPr/>
            </p:nvSpPr>
            <p:spPr>
              <a:xfrm>
                <a:off x="3352680" y="1676520"/>
                <a:ext cx="3048120" cy="12189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9000" y="1828800"/>
                <a:ext cx="27432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Elderly people and children - difficult to get food a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172200" y="1828800"/>
              <a:ext cx="2743200" cy="914400"/>
              <a:chOff x="6172200" y="1828800"/>
              <a:chExt cx="2743200" cy="914400"/>
            </a:xfrm>
          </p:grpSpPr>
          <p:sp>
            <p:nvSpPr>
              <p:cNvPr id="275" name=""/>
              <p:cNvSpPr/>
              <p:nvPr/>
            </p:nvSpPr>
            <p:spPr>
              <a:xfrm>
                <a:off x="6172200" y="1828800"/>
                <a:ext cx="2743200" cy="9144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00800" y="19051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Food and income from local farm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838080" y="2971800"/>
            <a:ext cx="8001000" cy="1267200"/>
            <a:chOff x="838080" y="2971800"/>
            <a:chExt cx="8001000" cy="1267200"/>
          </a:xfrm>
        </p:grpSpPr>
        <p:sp>
          <p:nvSpPr>
            <p:cNvPr id="278" name=""/>
            <p:cNvSpPr/>
            <p:nvPr/>
          </p:nvSpPr>
          <p:spPr>
            <a:xfrm>
              <a:off x="838080" y="3048120"/>
              <a:ext cx="2743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Social/ Organisation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200400" y="3048120"/>
              <a:ext cx="2895480" cy="1066680"/>
              <a:chOff x="3200400" y="3048120"/>
              <a:chExt cx="2895480" cy="1066680"/>
            </a:xfrm>
          </p:grpSpPr>
          <p:sp>
            <p:nvSpPr>
              <p:cNvPr id="280" name=""/>
              <p:cNvSpPr/>
              <p:nvPr/>
            </p:nvSpPr>
            <p:spPr>
              <a:xfrm>
                <a:off x="3200400" y="3048120"/>
                <a:ext cx="2895480" cy="10666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81280" y="312408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HIV / AIDS: demographic age shi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867280" y="2971800"/>
              <a:ext cx="2971800" cy="1143000"/>
              <a:chOff x="5867280" y="2971800"/>
              <a:chExt cx="2971800" cy="1143000"/>
            </a:xfrm>
          </p:grpSpPr>
          <p:sp>
            <p:nvSpPr>
              <p:cNvPr id="283" name=""/>
              <p:cNvSpPr/>
              <p:nvPr/>
            </p:nvSpPr>
            <p:spPr>
              <a:xfrm>
                <a:off x="5867280" y="2971800"/>
                <a:ext cx="297180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48520" y="320040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radition of 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family c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838080" y="4419720"/>
            <a:ext cx="7848720" cy="1143000"/>
            <a:chOff x="838080" y="4419720"/>
            <a:chExt cx="7848720" cy="1143000"/>
          </a:xfrm>
        </p:grpSpPr>
        <p:sp>
          <p:nvSpPr>
            <p:cNvPr id="286" name=""/>
            <p:cNvSpPr/>
            <p:nvPr/>
          </p:nvSpPr>
          <p:spPr>
            <a:xfrm>
              <a:off x="838080" y="44989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cc"/>
                  </a:solidFill>
                  <a:latin typeface="Arial Black"/>
                </a:rPr>
                <a:t>Motivational/ Attitudinal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048120" y="4495680"/>
              <a:ext cx="3200400" cy="1067040"/>
              <a:chOff x="3048120" y="4495680"/>
              <a:chExt cx="3200400" cy="1067040"/>
            </a:xfrm>
          </p:grpSpPr>
          <p:sp>
            <p:nvSpPr>
              <p:cNvPr id="288" name=""/>
              <p:cNvSpPr/>
              <p:nvPr/>
            </p:nvSpPr>
            <p:spPr>
              <a:xfrm>
                <a:off x="3048120" y="4495680"/>
                <a:ext cx="32004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0532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 bereav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5880" y="4419720"/>
              <a:ext cx="2590920" cy="1143000"/>
              <a:chOff x="6095880" y="4419720"/>
              <a:chExt cx="2590920" cy="1143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5880" y="4419720"/>
                <a:ext cx="259092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7220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ommitment to edu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64200" y="1120680"/>
            <a:ext cx="2819520" cy="685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1143000"/>
            <a:ext cx="1981080" cy="60948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828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04920" y="2308320"/>
            <a:ext cx="6095880" cy="815760"/>
            <a:chOff x="304920" y="2308320"/>
            <a:chExt cx="6095880" cy="815760"/>
          </a:xfrm>
        </p:grpSpPr>
        <p:grpSp>
          <p:nvGrpSpPr>
            <p:cNvPr id="298" name=""/>
            <p:cNvGrpSpPr/>
            <p:nvPr/>
          </p:nvGrpSpPr>
          <p:grpSpPr>
            <a:xfrm>
              <a:off x="2514600" y="2308320"/>
              <a:ext cx="3886200" cy="685800"/>
              <a:chOff x="2514600" y="2308320"/>
              <a:chExt cx="3886200" cy="68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81280" y="2308320"/>
                <a:ext cx="2819520" cy="6858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U5 mortali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2438280"/>
                <a:ext cx="762120" cy="457200"/>
              </a:xfrm>
              <a:prstGeom prst="rightArrow">
                <a:avLst>
                  <a:gd name="adj1" fmla="val 50000"/>
                  <a:gd name="adj2" fmla="val 41673"/>
                </a:avLst>
              </a:prstGeom>
              <a:solidFill>
                <a:srgbClr val="ffffff"/>
              </a:solidFill>
              <a:ln w="381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04920" y="2438280"/>
              <a:ext cx="2590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ocal problem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85800" y="30481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330560" y="3419280"/>
            <a:ext cx="7584840" cy="847800"/>
            <a:chOff x="1330560" y="3419280"/>
            <a:chExt cx="7584840" cy="847800"/>
          </a:xfrm>
        </p:grpSpPr>
        <p:sp>
          <p:nvSpPr>
            <p:cNvPr id="304" name=""/>
            <p:cNvSpPr/>
            <p:nvPr/>
          </p:nvSpPr>
          <p:spPr>
            <a:xfrm>
              <a:off x="4822920" y="3581280"/>
              <a:ext cx="190476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as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32000" y="3581280"/>
              <a:ext cx="236232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arrho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34320" y="3581280"/>
              <a:ext cx="198108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alar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37800">
              <a:off x="1393560" y="3581280"/>
              <a:ext cx="761760" cy="4572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ffff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 rot="19762200">
            <a:off x="1447920" y="12945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800600" y="4267080"/>
            <a:ext cx="1828800" cy="1295640"/>
            <a:chOff x="4800600" y="4267080"/>
            <a:chExt cx="1828800" cy="1295640"/>
          </a:xfrm>
        </p:grpSpPr>
        <p:sp>
          <p:nvSpPr>
            <p:cNvPr id="310" name=""/>
            <p:cNvSpPr/>
            <p:nvPr/>
          </p:nvSpPr>
          <p:spPr>
            <a:xfrm>
              <a:off x="4800600" y="487692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ow 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accination 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5000" y="426708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057400" y="4267080"/>
            <a:ext cx="2133720" cy="1676520"/>
            <a:chOff x="2057400" y="4267080"/>
            <a:chExt cx="2133720" cy="1676520"/>
          </a:xfrm>
        </p:grpSpPr>
        <p:sp>
          <p:nvSpPr>
            <p:cNvPr id="313" name=""/>
            <p:cNvSpPr/>
            <p:nvPr/>
          </p:nvSpPr>
          <p:spPr>
            <a:xfrm>
              <a:off x="2438280" y="4572000"/>
              <a:ext cx="1676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gien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7400" y="52578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ot enough water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42670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9528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086600" y="4267080"/>
            <a:ext cx="1828800" cy="1752840"/>
            <a:chOff x="7086600" y="4267080"/>
            <a:chExt cx="1828800" cy="1752840"/>
          </a:xfrm>
        </p:grpSpPr>
        <p:sp>
          <p:nvSpPr>
            <p:cNvPr id="318" name=""/>
            <p:cNvSpPr/>
            <p:nvPr/>
          </p:nvSpPr>
          <p:spPr>
            <a:xfrm>
              <a:off x="7086600" y="45720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squitoe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533412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o bed 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t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42670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0292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3809520" y="4343400"/>
            <a:ext cx="1295640" cy="457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920" y="4572000"/>
            <a:ext cx="2133360" cy="685800"/>
            <a:chOff x="304920" y="4572000"/>
            <a:chExt cx="2133360" cy="685800"/>
          </a:xfrm>
        </p:grpSpPr>
        <p:sp>
          <p:nvSpPr>
            <p:cNvPr id="324" name=""/>
            <p:cNvSpPr/>
            <p:nvPr/>
          </p:nvSpPr>
          <p:spPr>
            <a:xfrm>
              <a:off x="304920" y="4572000"/>
              <a:ext cx="1676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trine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0720" y="480060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343400" y="1600200"/>
            <a:ext cx="1600200" cy="533520"/>
            <a:chOff x="4343400" y="1600200"/>
            <a:chExt cx="1600200" cy="533520"/>
          </a:xfrm>
        </p:grpSpPr>
        <p:sp>
          <p:nvSpPr>
            <p:cNvPr id="327" name=""/>
            <p:cNvSpPr/>
            <p:nvPr/>
          </p:nvSpPr>
          <p:spPr>
            <a:xfrm flipH="1" flipV="1">
              <a:off x="4343400" y="1600200"/>
              <a:ext cx="45720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486400" y="1600200"/>
              <a:ext cx="45720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57600" y="2971800"/>
            <a:ext cx="4038480" cy="533520"/>
            <a:chOff x="3657600" y="2971800"/>
            <a:chExt cx="4038480" cy="533520"/>
          </a:xfrm>
        </p:grpSpPr>
        <p:sp>
          <p:nvSpPr>
            <p:cNvPr id="330" name=""/>
            <p:cNvSpPr/>
            <p:nvPr/>
          </p:nvSpPr>
          <p:spPr>
            <a:xfrm>
              <a:off x="5105520" y="2971800"/>
              <a:ext cx="3045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05520" y="3027240"/>
              <a:ext cx="259056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657600" y="3048120"/>
              <a:ext cx="1447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Sphere and programme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to use the Sphere handbo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- in project pla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- with a logical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list the key principles of project planning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identify where it happens in the project cyc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how to use a gap identif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hart in coordinating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Monitor</a:t>
            </a:r>
            <a:br>
              <a:rPr sz="3200"/>
            </a:b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lan, design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1241280"/>
            <a:ext cx="1904760" cy="6858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ss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13716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348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350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50640" y="1218960"/>
                <a:ext cx="135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 Black"/>
                  </a:rPr>
                  <a:t>Dis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35120" y="5486400"/>
            <a:ext cx="441972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Domistan ca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4572000"/>
            <a:ext cx="3047760" cy="685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ss mortality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fe without dig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2880" y="1219320"/>
            <a:ext cx="6127920" cy="45720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osable, non-portable assets being 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 rot="16170600">
            <a:off x="4267080" y="533304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586728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14400" y="1752120"/>
            <a:ext cx="4343400" cy="838440"/>
            <a:chOff x="914400" y="1752120"/>
            <a:chExt cx="4343400" cy="838440"/>
          </a:xfrm>
        </p:grpSpPr>
        <p:sp>
          <p:nvSpPr>
            <p:cNvPr id="363" name=""/>
            <p:cNvSpPr/>
            <p:nvPr/>
          </p:nvSpPr>
          <p:spPr>
            <a:xfrm flipH="1" flipV="1">
              <a:off x="4267080" y="1752480"/>
              <a:ext cx="9907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914400" y="1752120"/>
              <a:ext cx="220968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14040" y="3428640"/>
            <a:ext cx="6401160" cy="1371960"/>
            <a:chOff x="914040" y="3428640"/>
            <a:chExt cx="6401160" cy="1371960"/>
          </a:xfrm>
        </p:grpSpPr>
        <p:sp>
          <p:nvSpPr>
            <p:cNvPr id="366" name=""/>
            <p:cNvSpPr/>
            <p:nvPr/>
          </p:nvSpPr>
          <p:spPr>
            <a:xfrm flipV="1">
              <a:off x="6172200" y="3886200"/>
              <a:ext cx="11430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00600" y="3657600"/>
              <a:ext cx="6094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914040" y="35053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971800" y="3428640"/>
              <a:ext cx="129528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09480" y="3886200"/>
            <a:ext cx="7772400" cy="685800"/>
            <a:chOff x="609480" y="3886200"/>
            <a:chExt cx="7772400" cy="685800"/>
          </a:xfrm>
        </p:grpSpPr>
        <p:sp>
          <p:nvSpPr>
            <p:cNvPr id="371" name=""/>
            <p:cNvSpPr/>
            <p:nvPr/>
          </p:nvSpPr>
          <p:spPr>
            <a:xfrm>
              <a:off x="3505320" y="3886200"/>
              <a:ext cx="2133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Black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48520" y="3886200"/>
              <a:ext cx="2133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Black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480" y="38862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Black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8600" y="2133720"/>
            <a:ext cx="8534520" cy="1676160"/>
            <a:chOff x="228600" y="2133720"/>
            <a:chExt cx="8534520" cy="1676160"/>
          </a:xfrm>
        </p:grpSpPr>
        <p:sp>
          <p:nvSpPr>
            <p:cNvPr id="375" name=""/>
            <p:cNvSpPr/>
            <p:nvPr/>
          </p:nvSpPr>
          <p:spPr>
            <a:xfrm>
              <a:off x="1981080" y="2711520"/>
              <a:ext cx="205740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sychosomatic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ln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" y="2666880"/>
              <a:ext cx="1447920" cy="762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ut - mi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81680" y="2133720"/>
              <a:ext cx="1981440" cy="1676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litical statements by local leade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laming op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3400" y="2286000"/>
              <a:ext cx="2057400" cy="13716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ysteria, giving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way babies to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eign 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ater and sanitation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10080" y="14479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52280" y="1219320"/>
            <a:ext cx="8763120" cy="457200"/>
            <a:chOff x="152280" y="1219320"/>
            <a:chExt cx="8763120" cy="457200"/>
          </a:xfrm>
        </p:grpSpPr>
        <p:sp>
          <p:nvSpPr>
            <p:cNvPr id="382" name=""/>
            <p:cNvSpPr/>
            <p:nvPr/>
          </p:nvSpPr>
          <p:spPr>
            <a:xfrm>
              <a:off x="152280" y="1219320"/>
              <a:ext cx="521352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ck of dignity and High mort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4320" y="1219320"/>
              <a:ext cx="19810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lnutr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91960" y="3276360"/>
            <a:ext cx="8533080" cy="2133720"/>
            <a:chOff x="291960" y="3276360"/>
            <a:chExt cx="8533080" cy="2133720"/>
          </a:xfrm>
        </p:grpSpPr>
        <p:grpSp>
          <p:nvGrpSpPr>
            <p:cNvPr id="385" name=""/>
            <p:cNvGrpSpPr/>
            <p:nvPr/>
          </p:nvGrpSpPr>
          <p:grpSpPr>
            <a:xfrm>
              <a:off x="6019920" y="4295880"/>
              <a:ext cx="1218960" cy="428400"/>
              <a:chOff x="6019920" y="4295880"/>
              <a:chExt cx="1218960" cy="428400"/>
            </a:xfrm>
          </p:grpSpPr>
          <p:sp>
            <p:nvSpPr>
              <p:cNvPr id="386" name=""/>
              <p:cNvSpPr/>
              <p:nvPr/>
            </p:nvSpPr>
            <p:spPr>
              <a:xfrm>
                <a:off x="6019920" y="4295880"/>
                <a:ext cx="1218960" cy="4284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17480" y="4309920"/>
                <a:ext cx="105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Rubbi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505320" y="3757680"/>
              <a:ext cx="1218960" cy="433440"/>
              <a:chOff x="3505320" y="3757680"/>
              <a:chExt cx="1218960" cy="433440"/>
            </a:xfrm>
          </p:grpSpPr>
          <p:sp>
            <p:nvSpPr>
              <p:cNvPr id="389" name=""/>
              <p:cNvSpPr/>
              <p:nvPr/>
            </p:nvSpPr>
            <p:spPr>
              <a:xfrm>
                <a:off x="3505320" y="3762360"/>
                <a:ext cx="121896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8480" y="3757680"/>
                <a:ext cx="105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Uncle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91960" y="4648320"/>
              <a:ext cx="1828800" cy="457200"/>
              <a:chOff x="291960" y="4648320"/>
              <a:chExt cx="1828800" cy="457200"/>
            </a:xfrm>
          </p:grpSpPr>
          <p:sp>
            <p:nvSpPr>
              <p:cNvPr id="392" name=""/>
              <p:cNvSpPr/>
              <p:nvPr/>
            </p:nvSpPr>
            <p:spPr>
              <a:xfrm>
                <a:off x="291960" y="4676760"/>
                <a:ext cx="182880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6000" y="4648320"/>
                <a:ext cx="170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Overcrowd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377120" y="4295880"/>
              <a:ext cx="1447920" cy="428400"/>
              <a:chOff x="7377120" y="4295880"/>
              <a:chExt cx="1447920" cy="428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377120" y="4295880"/>
                <a:ext cx="1447920" cy="4284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64240" y="430992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 contr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flipH="1" flipV="1">
              <a:off x="6934320" y="3519000"/>
              <a:ext cx="12189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81680" y="3505320"/>
              <a:ext cx="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334120" y="3276720"/>
              <a:ext cx="761760" cy="213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952880" y="3276360"/>
              <a:ext cx="0" cy="1066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3352320" y="3476160"/>
              <a:ext cx="30492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3520" y="423864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590920" y="3505320"/>
              <a:ext cx="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2265480" y="4267080"/>
              <a:ext cx="1600200" cy="722520"/>
              <a:chOff x="2265480" y="4267080"/>
              <a:chExt cx="1600200" cy="722520"/>
            </a:xfrm>
          </p:grpSpPr>
          <p:sp>
            <p:nvSpPr>
              <p:cNvPr id="405" name=""/>
              <p:cNvSpPr/>
              <p:nvPr/>
            </p:nvSpPr>
            <p:spPr>
              <a:xfrm>
                <a:off x="2395800" y="4267080"/>
                <a:ext cx="145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nsuffici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quant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65480" y="4336920"/>
                <a:ext cx="160020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100400" y="4238640"/>
              <a:ext cx="1607040" cy="685800"/>
              <a:chOff x="4100400" y="4238640"/>
              <a:chExt cx="1607040" cy="685800"/>
            </a:xfrm>
          </p:grpSpPr>
          <p:sp>
            <p:nvSpPr>
              <p:cNvPr id="408" name=""/>
              <p:cNvSpPr/>
              <p:nvPr/>
            </p:nvSpPr>
            <p:spPr>
              <a:xfrm>
                <a:off x="4179600" y="4238640"/>
                <a:ext cx="1527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t enough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uni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100400" y="4324320"/>
                <a:ext cx="1538280" cy="6001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07800" y="4723920"/>
            <a:ext cx="7845480" cy="1338840"/>
            <a:chOff x="307800" y="4723920"/>
            <a:chExt cx="7845480" cy="1338840"/>
          </a:xfrm>
        </p:grpSpPr>
        <p:sp>
          <p:nvSpPr>
            <p:cNvPr id="411" name=""/>
            <p:cNvSpPr/>
            <p:nvPr/>
          </p:nvSpPr>
          <p:spPr>
            <a:xfrm flipV="1">
              <a:off x="6781680" y="472392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33520" y="51055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07800" y="5359320"/>
              <a:ext cx="5759640" cy="703440"/>
              <a:chOff x="307800" y="5359320"/>
              <a:chExt cx="5759640" cy="703440"/>
            </a:xfrm>
          </p:grpSpPr>
          <p:sp>
            <p:nvSpPr>
              <p:cNvPr id="414" name=""/>
              <p:cNvSpPr/>
              <p:nvPr/>
            </p:nvSpPr>
            <p:spPr>
              <a:xfrm>
                <a:off x="307800" y="5359320"/>
                <a:ext cx="575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olitical problems - keeping migran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away from host population in a small sp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07800" y="5410080"/>
                <a:ext cx="556272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019920" y="5391000"/>
              <a:ext cx="2133360" cy="447840"/>
              <a:chOff x="6019920" y="5391000"/>
              <a:chExt cx="2133360" cy="447840"/>
            </a:xfrm>
          </p:grpSpPr>
          <p:sp>
            <p:nvSpPr>
              <p:cNvPr id="417" name=""/>
              <p:cNvSpPr/>
              <p:nvPr/>
            </p:nvSpPr>
            <p:spPr>
              <a:xfrm>
                <a:off x="6136200" y="539100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 mainten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19920" y="5410080"/>
                <a:ext cx="213336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889280" y="1676160"/>
            <a:ext cx="5883120" cy="838440"/>
            <a:chOff x="1889280" y="1676160"/>
            <a:chExt cx="5883120" cy="838440"/>
          </a:xfrm>
        </p:grpSpPr>
        <p:sp>
          <p:nvSpPr>
            <p:cNvPr id="420" name=""/>
            <p:cNvSpPr/>
            <p:nvPr/>
          </p:nvSpPr>
          <p:spPr>
            <a:xfrm flipH="1" flipV="1">
              <a:off x="4495680" y="1676160"/>
              <a:ext cx="19051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889280" y="2049480"/>
              <a:ext cx="1523880" cy="465120"/>
              <a:chOff x="1889280" y="2049480"/>
              <a:chExt cx="1523880" cy="465120"/>
            </a:xfrm>
          </p:grpSpPr>
          <p:sp>
            <p:nvSpPr>
              <p:cNvPr id="422" name=""/>
              <p:cNvSpPr/>
              <p:nvPr/>
            </p:nvSpPr>
            <p:spPr>
              <a:xfrm>
                <a:off x="1889280" y="2057400"/>
                <a:ext cx="1523880" cy="4572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67400" y="2049480"/>
                <a:ext cx="13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 Black"/>
                  </a:rPr>
                  <a:t>Diarrho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400800" y="2028960"/>
              <a:ext cx="1371600" cy="465120"/>
              <a:chOff x="6400800" y="2028960"/>
              <a:chExt cx="1371600" cy="4651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00800" y="2036880"/>
                <a:ext cx="1371600" cy="4572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42640" y="2028960"/>
                <a:ext cx="107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 Black"/>
                  </a:rPr>
                  <a:t>Mala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 flipV="1">
              <a:off x="2590920" y="172368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91960" y="2286000"/>
            <a:ext cx="8623440" cy="1938240"/>
            <a:chOff x="291960" y="2286000"/>
            <a:chExt cx="8623440" cy="1938240"/>
          </a:xfrm>
        </p:grpSpPr>
        <p:grpSp>
          <p:nvGrpSpPr>
            <p:cNvPr id="429" name=""/>
            <p:cNvGrpSpPr/>
            <p:nvPr/>
          </p:nvGrpSpPr>
          <p:grpSpPr>
            <a:xfrm>
              <a:off x="7315200" y="3076560"/>
              <a:ext cx="1600200" cy="428760"/>
              <a:chOff x="7315200" y="3076560"/>
              <a:chExt cx="1600200" cy="428760"/>
            </a:xfrm>
          </p:grpSpPr>
          <p:sp>
            <p:nvSpPr>
              <p:cNvPr id="430" name=""/>
              <p:cNvSpPr/>
              <p:nvPr/>
            </p:nvSpPr>
            <p:spPr>
              <a:xfrm>
                <a:off x="7315200" y="3076560"/>
                <a:ext cx="160020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3090960"/>
                <a:ext cx="148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 bed ne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095880" y="3081240"/>
              <a:ext cx="1095480" cy="428760"/>
              <a:chOff x="6095880" y="3081240"/>
              <a:chExt cx="1095480" cy="428760"/>
            </a:xfrm>
          </p:grpSpPr>
          <p:sp>
            <p:nvSpPr>
              <p:cNvPr id="433" name=""/>
              <p:cNvSpPr/>
              <p:nvPr/>
            </p:nvSpPr>
            <p:spPr>
              <a:xfrm>
                <a:off x="6095880" y="3081240"/>
                <a:ext cx="109548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66440" y="3090960"/>
                <a:ext cx="98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Vecto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91960" y="2563920"/>
              <a:ext cx="1828800" cy="1660320"/>
              <a:chOff x="291960" y="2563920"/>
              <a:chExt cx="1828800" cy="1660320"/>
            </a:xfrm>
          </p:grpSpPr>
          <p:sp>
            <p:nvSpPr>
              <p:cNvPr id="436" name=""/>
              <p:cNvSpPr/>
              <p:nvPr/>
            </p:nvSpPr>
            <p:spPr>
              <a:xfrm>
                <a:off x="291960" y="2624040"/>
                <a:ext cx="1828800" cy="16002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8520" y="2563920"/>
                <a:ext cx="1680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Hygien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roble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slaughte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 so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no sp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024440" y="2819520"/>
              <a:ext cx="1600200" cy="457200"/>
              <a:chOff x="4024440" y="2819520"/>
              <a:chExt cx="1600200" cy="457200"/>
            </a:xfrm>
          </p:grpSpPr>
          <p:sp>
            <p:nvSpPr>
              <p:cNvPr id="439" name=""/>
              <p:cNvSpPr/>
              <p:nvPr/>
            </p:nvSpPr>
            <p:spPr>
              <a:xfrm>
                <a:off x="4024440" y="2847960"/>
                <a:ext cx="160020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116600" y="2819520"/>
                <a:ext cx="141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oor toile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265480" y="2819520"/>
              <a:ext cx="1600200" cy="685800"/>
              <a:chOff x="2265480" y="2819520"/>
              <a:chExt cx="1600200" cy="685800"/>
            </a:xfrm>
          </p:grpSpPr>
          <p:sp>
            <p:nvSpPr>
              <p:cNvPr id="442" name=""/>
              <p:cNvSpPr/>
              <p:nvPr/>
            </p:nvSpPr>
            <p:spPr>
              <a:xfrm>
                <a:off x="2265480" y="2852640"/>
                <a:ext cx="160020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74920" y="2819520"/>
                <a:ext cx="147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nadequat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wa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V="1">
              <a:off x="6781680" y="2507760"/>
              <a:ext cx="0" cy="56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219320" y="2286000"/>
              <a:ext cx="685800" cy="33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3373200" y="2471760"/>
              <a:ext cx="12747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3428640" y="2286000"/>
              <a:ext cx="3352680" cy="78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590920" y="252900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391520" y="2514240"/>
              <a:ext cx="0" cy="56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scribe the factors that influence analysis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humanitarian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73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monstrate how to use the Sphere handbook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to analyse the humanitarian context effective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scribe the steps in the project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Shelter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447920" y="1219320"/>
            <a:ext cx="7162560" cy="457200"/>
            <a:chOff x="1447920" y="1219320"/>
            <a:chExt cx="7162560" cy="457200"/>
          </a:xfrm>
        </p:grpSpPr>
        <p:sp>
          <p:nvSpPr>
            <p:cNvPr id="452" name=""/>
            <p:cNvSpPr/>
            <p:nvPr/>
          </p:nvSpPr>
          <p:spPr>
            <a:xfrm>
              <a:off x="1447920" y="1219320"/>
              <a:ext cx="228600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igh mort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2200" y="1219320"/>
              <a:ext cx="24382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ck of dig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1960" y="1696680"/>
            <a:ext cx="7896240" cy="3332520"/>
            <a:chOff x="291960" y="1696680"/>
            <a:chExt cx="7896240" cy="3332520"/>
          </a:xfrm>
        </p:grpSpPr>
        <p:grpSp>
          <p:nvGrpSpPr>
            <p:cNvPr id="455" name=""/>
            <p:cNvGrpSpPr/>
            <p:nvPr/>
          </p:nvGrpSpPr>
          <p:grpSpPr>
            <a:xfrm>
              <a:off x="291960" y="3284640"/>
              <a:ext cx="1689120" cy="1058760"/>
              <a:chOff x="291960" y="3284640"/>
              <a:chExt cx="1689120" cy="1058760"/>
            </a:xfrm>
          </p:grpSpPr>
          <p:sp>
            <p:nvSpPr>
              <p:cNvPr id="456" name=""/>
              <p:cNvSpPr/>
              <p:nvPr/>
            </p:nvSpPr>
            <p:spPr>
              <a:xfrm>
                <a:off x="291960" y="3305160"/>
                <a:ext cx="1689120" cy="103824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7760" y="3284640"/>
                <a:ext cx="1454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o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vaccinatio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cover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359400" y="3301920"/>
              <a:ext cx="1828800" cy="716040"/>
              <a:chOff x="6359400" y="3301920"/>
              <a:chExt cx="1828800" cy="716040"/>
            </a:xfrm>
          </p:grpSpPr>
          <p:sp>
            <p:nvSpPr>
              <p:cNvPr id="459" name=""/>
              <p:cNvSpPr/>
              <p:nvPr/>
            </p:nvSpPr>
            <p:spPr>
              <a:xfrm>
                <a:off x="6359400" y="3360600"/>
                <a:ext cx="1828800" cy="6573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35000" y="3301920"/>
                <a:ext cx="170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Overcrowd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n shel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819520" y="3124080"/>
              <a:ext cx="1600200" cy="685800"/>
              <a:chOff x="2819520" y="3124080"/>
              <a:chExt cx="1600200" cy="685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819520" y="3157200"/>
                <a:ext cx="160020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21760" y="3124080"/>
                <a:ext cx="14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Cold damp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weath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 flipV="1">
              <a:off x="7010280" y="289548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066680" y="2486160"/>
              <a:ext cx="914400" cy="7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3373200" y="2471400"/>
              <a:ext cx="2950920" cy="13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48280" y="2895120"/>
              <a:ext cx="0" cy="142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581280" y="2361960"/>
              <a:ext cx="1067040" cy="80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419720" y="4308480"/>
              <a:ext cx="1329840" cy="720720"/>
              <a:chOff x="4419720" y="4308480"/>
              <a:chExt cx="1329840" cy="7207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80560" y="4308480"/>
                <a:ext cx="126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mprope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drug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19720" y="4324320"/>
                <a:ext cx="1295280" cy="7048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7924680" y="1696680"/>
              <a:ext cx="0" cy="165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084760" y="1468440"/>
            <a:ext cx="5095440" cy="1264320"/>
            <a:chOff x="2084760" y="1468440"/>
            <a:chExt cx="5095440" cy="1264320"/>
          </a:xfrm>
        </p:grpSpPr>
        <p:sp>
          <p:nvSpPr>
            <p:cNvPr id="474" name=""/>
            <p:cNvSpPr/>
            <p:nvPr/>
          </p:nvSpPr>
          <p:spPr>
            <a:xfrm>
              <a:off x="2084760" y="1981080"/>
              <a:ext cx="1149840" cy="398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Meas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70440" y="2028960"/>
              <a:ext cx="2309760" cy="703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Acute respirato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90920" y="1724040"/>
              <a:ext cx="0" cy="257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3754440" y="1468440"/>
              <a:ext cx="129528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98520" y="3830760"/>
            <a:ext cx="7540560" cy="2341440"/>
            <a:chOff x="1298520" y="3830760"/>
            <a:chExt cx="7540560" cy="2341440"/>
          </a:xfrm>
        </p:grpSpPr>
        <p:sp>
          <p:nvSpPr>
            <p:cNvPr id="479" name=""/>
            <p:cNvSpPr/>
            <p:nvPr/>
          </p:nvSpPr>
          <p:spPr>
            <a:xfrm flipV="1">
              <a:off x="3352680" y="3830760"/>
              <a:ext cx="0" cy="51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298520" y="4038120"/>
              <a:ext cx="7540560" cy="2134080"/>
              <a:chOff x="1298520" y="4038120"/>
              <a:chExt cx="7540560" cy="213408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6858000" y="4368960"/>
                <a:ext cx="1981080" cy="695160"/>
                <a:chOff x="6858000" y="4368960"/>
                <a:chExt cx="1981080" cy="6951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858000" y="4378320"/>
                  <a:ext cx="198108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010640" y="4368960"/>
                  <a:ext cx="1675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Hard shel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contamin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1298520" y="5359320"/>
                <a:ext cx="4797360" cy="703440"/>
                <a:chOff x="1298520" y="5359320"/>
                <a:chExt cx="4797360" cy="7034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98520" y="5359320"/>
                  <a:ext cx="4797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Politics of keeping displaced peo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away from host popul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98520" y="5410080"/>
                  <a:ext cx="472140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324480" y="5391000"/>
                <a:ext cx="2133360" cy="781200"/>
                <a:chOff x="6324480" y="5391000"/>
                <a:chExt cx="2133360" cy="781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75320" y="5391000"/>
                  <a:ext cx="1866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Few temporary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shel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324480" y="5410080"/>
                  <a:ext cx="2133360" cy="76212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2265480" y="4343400"/>
                <a:ext cx="1600200" cy="687240"/>
                <a:chOff x="2265480" y="4343400"/>
                <a:chExt cx="1600200" cy="6872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265480" y="4378320"/>
                  <a:ext cx="1600200" cy="65232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346840" y="4343400"/>
                  <a:ext cx="1269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Improp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cloth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 flipV="1">
                <a:off x="6019920" y="4038480"/>
                <a:ext cx="457200" cy="1371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705720" y="4038480"/>
                <a:ext cx="0" cy="1371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7924680" y="403812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Health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447920" y="1219320"/>
            <a:ext cx="7162560" cy="457200"/>
            <a:chOff x="1447920" y="1219320"/>
            <a:chExt cx="7162560" cy="457200"/>
          </a:xfrm>
        </p:grpSpPr>
        <p:sp>
          <p:nvSpPr>
            <p:cNvPr id="498" name=""/>
            <p:cNvSpPr/>
            <p:nvPr/>
          </p:nvSpPr>
          <p:spPr>
            <a:xfrm>
              <a:off x="1447920" y="1219320"/>
              <a:ext cx="228600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igh mort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43600" y="1219320"/>
              <a:ext cx="26668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raumatic inj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754080" y="1447920"/>
              <a:ext cx="213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320" y="2361960"/>
            <a:ext cx="8762760" cy="4115160"/>
            <a:chOff x="76320" y="2361960"/>
            <a:chExt cx="8762760" cy="4115160"/>
          </a:xfrm>
        </p:grpSpPr>
        <p:sp>
          <p:nvSpPr>
            <p:cNvPr id="502" name=""/>
            <p:cNvSpPr/>
            <p:nvPr/>
          </p:nvSpPr>
          <p:spPr>
            <a:xfrm>
              <a:off x="914400" y="4282920"/>
              <a:ext cx="1143000" cy="7048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0880" y="5181480"/>
              <a:ext cx="1295640" cy="6526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0" y="5253120"/>
              <a:ext cx="1298520" cy="9190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91520" y="3919680"/>
              <a:ext cx="1447560" cy="6094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67480" y="4778280"/>
              <a:ext cx="1371600" cy="86040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8880" y="5867280"/>
              <a:ext cx="1600200" cy="60984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6320" y="2361960"/>
              <a:ext cx="8762760" cy="4115160"/>
              <a:chOff x="76320" y="2361960"/>
              <a:chExt cx="8762760" cy="4115160"/>
            </a:xfrm>
          </p:grpSpPr>
          <p:sp>
            <p:nvSpPr>
              <p:cNvPr id="509" name=""/>
              <p:cNvSpPr/>
              <p:nvPr/>
            </p:nvSpPr>
            <p:spPr>
              <a:xfrm>
                <a:off x="76320" y="2895480"/>
                <a:ext cx="1447560" cy="9144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171360" y="2361960"/>
                <a:ext cx="8667720" cy="4115160"/>
                <a:chOff x="171360" y="2361960"/>
                <a:chExt cx="8667720" cy="41151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969480" y="4294080"/>
                  <a:ext cx="1145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Improp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dru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8001000" y="3033720"/>
                  <a:ext cx="838080" cy="685800"/>
                  <a:chOff x="8001000" y="3033720"/>
                  <a:chExt cx="838080" cy="685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8001000" y="3033720"/>
                    <a:ext cx="838080" cy="685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8051400" y="3051360"/>
                    <a:ext cx="73692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Poor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drug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>
                  <a:off x="171360" y="2855880"/>
                  <a:ext cx="13100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Po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vaccinati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cover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80880" y="5181480"/>
                  <a:ext cx="13716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Fuel woo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far awa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380880" y="236196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919920" y="2382480"/>
                  <a:ext cx="276120" cy="284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7620120" y="2804760"/>
                  <a:ext cx="0" cy="1143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1828800" y="2895480"/>
                  <a:ext cx="0" cy="1386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943600" y="2362320"/>
                  <a:ext cx="1018080" cy="685800"/>
                  <a:chOff x="5943600" y="2362320"/>
                  <a:chExt cx="1018080" cy="685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5943600" y="2362320"/>
                    <a:ext cx="961920" cy="685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973120" y="2379960"/>
                    <a:ext cx="98856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Too few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doctor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2286000" y="5243400"/>
                  <a:ext cx="144792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Communal wash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far awa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1676520" y="4916160"/>
                  <a:ext cx="1218960" cy="30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3048120" y="4897080"/>
                  <a:ext cx="0" cy="360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466400" y="3886200"/>
                  <a:ext cx="1372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Not enough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clinic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8305920" y="2784600"/>
                  <a:ext cx="0" cy="263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65040" y="4724280"/>
                  <a:ext cx="12657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Populati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double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in tow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7620120" y="454320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07640" y="5824440"/>
                  <a:ext cx="1459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Populati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displac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181480" y="4767120"/>
                  <a:ext cx="108108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Politic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cr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09880" y="4767120"/>
                  <a:ext cx="114300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W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econom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5791320"/>
                  <a:ext cx="274320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Historical situati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of poor wealth shar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7620120" y="563832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48520" y="3962520"/>
                  <a:ext cx="91440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Lan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tenu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5638680" y="4411440"/>
                  <a:ext cx="0" cy="360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648320" y="4419360"/>
                  <a:ext cx="0" cy="360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5866920" y="4191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4648320" y="5463720"/>
                  <a:ext cx="0" cy="360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5638680" y="5471640"/>
                  <a:ext cx="0" cy="360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6705720" y="4647960"/>
                  <a:ext cx="0" cy="1143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51640" y="1565280"/>
            <a:ext cx="8398080" cy="3144960"/>
            <a:chOff x="251640" y="1565280"/>
            <a:chExt cx="8398080" cy="3144960"/>
          </a:xfrm>
        </p:grpSpPr>
        <p:sp>
          <p:nvSpPr>
            <p:cNvPr id="544" name=""/>
            <p:cNvSpPr/>
            <p:nvPr/>
          </p:nvSpPr>
          <p:spPr>
            <a:xfrm flipH="1" flipV="1">
              <a:off x="3200400" y="1676520"/>
              <a:ext cx="5335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1640" y="1925640"/>
              <a:ext cx="95508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Meas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600" y="1676520"/>
              <a:ext cx="2286000" cy="220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543800" y="169668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90280" y="2471760"/>
              <a:ext cx="50544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A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02560" y="3200400"/>
              <a:ext cx="113796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Diarrho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86800" y="2535120"/>
              <a:ext cx="89532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Mal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04760" y="3408480"/>
              <a:ext cx="1140840" cy="824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Viol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again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minor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5800" y="3886200"/>
              <a:ext cx="1032480" cy="824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Viol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agains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wo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17000" y="2057400"/>
              <a:ext cx="1332720" cy="580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nadequ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lin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981080" y="1690200"/>
              <a:ext cx="0" cy="747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838080" y="1565280"/>
              <a:ext cx="582840" cy="331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105520" y="1696680"/>
              <a:ext cx="1143000" cy="173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743200" y="1676160"/>
              <a:ext cx="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Nutrition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324480" y="3580920"/>
            <a:ext cx="2666880" cy="1605600"/>
            <a:chOff x="6324480" y="3580920"/>
            <a:chExt cx="2666880" cy="1605600"/>
          </a:xfrm>
        </p:grpSpPr>
        <p:grpSp>
          <p:nvGrpSpPr>
            <p:cNvPr id="560" name=""/>
            <p:cNvGrpSpPr/>
            <p:nvPr/>
          </p:nvGrpSpPr>
          <p:grpSpPr>
            <a:xfrm>
              <a:off x="7696080" y="3886200"/>
              <a:ext cx="1295280" cy="1294560"/>
              <a:chOff x="7696080" y="3886200"/>
              <a:chExt cx="1295280" cy="1294560"/>
            </a:xfrm>
          </p:grpSpPr>
          <p:sp>
            <p:nvSpPr>
              <p:cNvPr id="561" name=""/>
              <p:cNvSpPr/>
              <p:nvPr/>
            </p:nvSpPr>
            <p:spPr>
              <a:xfrm>
                <a:off x="7696080" y="3940920"/>
                <a:ext cx="1207440" cy="123984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05800" y="3886200"/>
                <a:ext cx="12855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Wash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faciliti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too fa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aw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324480" y="4267080"/>
              <a:ext cx="1143000" cy="919440"/>
              <a:chOff x="6324480" y="4267080"/>
              <a:chExt cx="1143000" cy="919440"/>
            </a:xfrm>
          </p:grpSpPr>
          <p:sp>
            <p:nvSpPr>
              <p:cNvPr id="564" name=""/>
              <p:cNvSpPr/>
              <p:nvPr/>
            </p:nvSpPr>
            <p:spPr>
              <a:xfrm>
                <a:off x="6402600" y="4267080"/>
                <a:ext cx="106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Fuel is i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distan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lowlan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24480" y="4309920"/>
                <a:ext cx="1143000" cy="8766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V="1">
              <a:off x="8305920" y="363816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934320" y="396216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91520" y="3580920"/>
              <a:ext cx="38088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52280" y="1085760"/>
            <a:ext cx="8839440" cy="457200"/>
            <a:chOff x="152280" y="1085760"/>
            <a:chExt cx="8839440" cy="457200"/>
          </a:xfrm>
        </p:grpSpPr>
        <p:sp>
          <p:nvSpPr>
            <p:cNvPr id="570" name=""/>
            <p:cNvSpPr/>
            <p:nvPr/>
          </p:nvSpPr>
          <p:spPr>
            <a:xfrm>
              <a:off x="152280" y="1085760"/>
              <a:ext cx="259092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ease bur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77120" y="1085760"/>
              <a:ext cx="251460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ck of dig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800080" y="13143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57600" y="1085760"/>
              <a:ext cx="19810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lnutr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752800" y="13143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26880" y="1523520"/>
            <a:ext cx="8498520" cy="1906200"/>
            <a:chOff x="326880" y="1523520"/>
            <a:chExt cx="8498520" cy="1906200"/>
          </a:xfrm>
        </p:grpSpPr>
        <p:sp>
          <p:nvSpPr>
            <p:cNvPr id="576" name=""/>
            <p:cNvSpPr/>
            <p:nvPr/>
          </p:nvSpPr>
          <p:spPr>
            <a:xfrm flipV="1">
              <a:off x="3809880" y="1542960"/>
              <a:ext cx="53352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4648320" y="1561680"/>
              <a:ext cx="380880" cy="55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4800240" y="1542600"/>
              <a:ext cx="2133720" cy="514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743200" y="1523520"/>
              <a:ext cx="1371600" cy="484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87880" y="2133720"/>
              <a:ext cx="1433520" cy="580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nability 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prepare f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6880" y="1676520"/>
              <a:ext cx="2270160" cy="885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mproper food bas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600" spc="-1" strike="noStrike">
                  <a:solidFill>
                    <a:srgbClr val="0066cc"/>
                  </a:solidFill>
                  <a:latin typeface="Times New Roman"/>
                </a:rPr>
                <a:t>•</a:t>
              </a: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alo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600" spc="-1" strike="noStrike">
                  <a:solidFill>
                    <a:srgbClr val="0066cc"/>
                  </a:solidFill>
                  <a:latin typeface="Times New Roman"/>
                </a:rPr>
                <a:t>•</a:t>
              </a: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 Black"/>
                </a:rPr>
                <a:t>pala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46720" y="1676520"/>
              <a:ext cx="1678680" cy="580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hanged soci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90880" y="2362320"/>
              <a:ext cx="1657440" cy="1067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Micro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nutr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Deficienci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(pellagr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52280" y="4114800"/>
            <a:ext cx="1981440" cy="2057400"/>
            <a:chOff x="152280" y="4114800"/>
            <a:chExt cx="1981440" cy="2057400"/>
          </a:xfrm>
        </p:grpSpPr>
        <p:grpSp>
          <p:nvGrpSpPr>
            <p:cNvPr id="585" name=""/>
            <p:cNvGrpSpPr/>
            <p:nvPr/>
          </p:nvGrpSpPr>
          <p:grpSpPr>
            <a:xfrm>
              <a:off x="152280" y="5029200"/>
              <a:ext cx="1981440" cy="628560"/>
              <a:chOff x="152280" y="5029200"/>
              <a:chExt cx="1981440" cy="628560"/>
            </a:xfrm>
          </p:grpSpPr>
          <p:sp>
            <p:nvSpPr>
              <p:cNvPr id="586" name=""/>
              <p:cNvSpPr/>
              <p:nvPr/>
            </p:nvSpPr>
            <p:spPr>
              <a:xfrm>
                <a:off x="152280" y="5048280"/>
                <a:ext cx="1752840" cy="6094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2280" y="5029200"/>
                <a:ext cx="1981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Theft en rou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to c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152280" y="4267080"/>
              <a:ext cx="1295640" cy="652680"/>
              <a:chOff x="152280" y="4267080"/>
              <a:chExt cx="1295640" cy="652680"/>
            </a:xfrm>
          </p:grpSpPr>
          <p:sp>
            <p:nvSpPr>
              <p:cNvPr id="589" name=""/>
              <p:cNvSpPr/>
              <p:nvPr/>
            </p:nvSpPr>
            <p:spPr>
              <a:xfrm>
                <a:off x="244080" y="4275000"/>
                <a:ext cx="118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Few oth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ass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2280" y="4267080"/>
                <a:ext cx="129564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52280" y="5791320"/>
              <a:ext cx="1777680" cy="380880"/>
              <a:chOff x="152280" y="5791320"/>
              <a:chExt cx="1777680" cy="380880"/>
            </a:xfrm>
          </p:grpSpPr>
          <p:sp>
            <p:nvSpPr>
              <p:cNvPr id="592" name=""/>
              <p:cNvSpPr/>
              <p:nvPr/>
            </p:nvSpPr>
            <p:spPr>
              <a:xfrm>
                <a:off x="246240" y="5797800"/>
                <a:ext cx="149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War econom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52280" y="5791320"/>
                <a:ext cx="1777680" cy="3808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flipV="1">
              <a:off x="838080" y="4114800"/>
              <a:ext cx="0" cy="20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838080" y="4896000"/>
              <a:ext cx="0" cy="20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838080" y="5657760"/>
              <a:ext cx="0" cy="20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47600" y="2362320"/>
            <a:ext cx="8749080" cy="3790800"/>
            <a:chOff x="147600" y="2362320"/>
            <a:chExt cx="8749080" cy="3790800"/>
          </a:xfrm>
        </p:grpSpPr>
        <p:sp>
          <p:nvSpPr>
            <p:cNvPr id="598" name=""/>
            <p:cNvSpPr/>
            <p:nvPr/>
          </p:nvSpPr>
          <p:spPr>
            <a:xfrm flipH="1">
              <a:off x="3428640" y="4724280"/>
              <a:ext cx="152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147600" y="2362320"/>
              <a:ext cx="8749080" cy="3790800"/>
              <a:chOff x="147600" y="2362320"/>
              <a:chExt cx="8749080" cy="37908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3504960" y="4176720"/>
                <a:ext cx="228600" cy="171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105520" y="4343400"/>
                <a:ext cx="1066680" cy="8380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blende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fo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19920" y="5562720"/>
                <a:ext cx="2743200" cy="5904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Donor politics, fatigu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low strategic va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095880" y="5181120"/>
                <a:ext cx="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3581280" y="4362480"/>
                <a:ext cx="1524240" cy="652320"/>
                <a:chOff x="3581280" y="4362480"/>
                <a:chExt cx="1524240" cy="6523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581280" y="4362480"/>
                  <a:ext cx="1524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 Black"/>
                    </a:rPr>
                    <a:t>Insecurity in lowland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581280" y="4362480"/>
                  <a:ext cx="1371600" cy="65232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47600" y="2362320"/>
                <a:ext cx="8749080" cy="2664000"/>
                <a:chOff x="147600" y="2362320"/>
                <a:chExt cx="8749080" cy="2664000"/>
              </a:xfrm>
            </p:grpSpPr>
            <p:sp>
              <p:nvSpPr>
                <p:cNvPr id="608" name=""/>
                <p:cNvSpPr/>
                <p:nvPr/>
              </p:nvSpPr>
              <p:spPr>
                <a:xfrm flipH="1" flipV="1">
                  <a:off x="4647960" y="3657240"/>
                  <a:ext cx="685800" cy="685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147600" y="2895480"/>
                  <a:ext cx="1904760" cy="1241280"/>
                  <a:chOff x="147600" y="2895480"/>
                  <a:chExt cx="1904760" cy="124128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147600" y="2917800"/>
                    <a:ext cx="1904760" cy="121896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55600" y="2895480"/>
                    <a:ext cx="1746000" cy="106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Low purchasing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power, low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income for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sold r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2" name=""/>
                <p:cNvSpPr/>
                <p:nvPr/>
              </p:nvSpPr>
              <p:spPr>
                <a:xfrm flipV="1">
                  <a:off x="8305920" y="2362320"/>
                  <a:ext cx="0" cy="380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3" name=""/>
                <p:cNvGrpSpPr/>
                <p:nvPr/>
              </p:nvGrpSpPr>
              <p:grpSpPr>
                <a:xfrm>
                  <a:off x="4910040" y="3048120"/>
                  <a:ext cx="866880" cy="685800"/>
                  <a:chOff x="4910040" y="3048120"/>
                  <a:chExt cx="866880" cy="6858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4910040" y="3048120"/>
                    <a:ext cx="866880" cy="685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938840" y="3065400"/>
                    <a:ext cx="78876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N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stove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772400" y="2703600"/>
                  <a:ext cx="1124280" cy="920520"/>
                  <a:chOff x="7772400" y="2703600"/>
                  <a:chExt cx="1124280" cy="92052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772400" y="2743200"/>
                    <a:ext cx="1066680" cy="880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864200" y="2703600"/>
                    <a:ext cx="103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Violence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again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wom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5889240" y="3048120"/>
                  <a:ext cx="1704600" cy="914400"/>
                  <a:chOff x="5889240" y="3048120"/>
                  <a:chExt cx="1704600" cy="9144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5889240" y="3048120"/>
                    <a:ext cx="1704600" cy="914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957640" y="3065400"/>
                    <a:ext cx="16225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Women take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too much time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collecting fue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2704320" y="3809880"/>
                  <a:ext cx="2324160" cy="354960"/>
                  <a:chOff x="2704320" y="3809880"/>
                  <a:chExt cx="2324160" cy="3549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2704320" y="3817440"/>
                    <a:ext cx="2324160" cy="347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808720" y="3809880"/>
                    <a:ext cx="2034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No local purchase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5" name=""/>
                <p:cNvSpPr/>
                <p:nvPr/>
              </p:nvSpPr>
              <p:spPr>
                <a:xfrm flipV="1">
                  <a:off x="5994360" y="2831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5537160" y="2831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838080" y="2762280"/>
                  <a:ext cx="0" cy="209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8" name=""/>
                <p:cNvGrpSpPr/>
                <p:nvPr/>
              </p:nvGrpSpPr>
              <p:grpSpPr>
                <a:xfrm>
                  <a:off x="2362320" y="4373640"/>
                  <a:ext cx="1066680" cy="652680"/>
                  <a:chOff x="2362320" y="4373640"/>
                  <a:chExt cx="1066680" cy="65268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2438640" y="438156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Pipeline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delay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62320" y="4373640"/>
                    <a:ext cx="1066680" cy="65268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 flipH="1" flipV="1">
                  <a:off x="2438280" y="2742840"/>
                  <a:ext cx="457200" cy="1066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2438280" y="2742840"/>
                  <a:ext cx="0" cy="1676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3" name=""/>
          <p:cNvGrpSpPr/>
          <p:nvPr/>
        </p:nvGrpSpPr>
        <p:grpSpPr>
          <a:xfrm>
            <a:off x="1752480" y="4129200"/>
            <a:ext cx="3886200" cy="2043000"/>
            <a:chOff x="1752480" y="4129200"/>
            <a:chExt cx="3886200" cy="2043000"/>
          </a:xfrm>
        </p:grpSpPr>
        <p:grpSp>
          <p:nvGrpSpPr>
            <p:cNvPr id="634" name=""/>
            <p:cNvGrpSpPr/>
            <p:nvPr/>
          </p:nvGrpSpPr>
          <p:grpSpPr>
            <a:xfrm>
              <a:off x="2743200" y="5562720"/>
              <a:ext cx="2895480" cy="609480"/>
              <a:chOff x="2743200" y="5562720"/>
              <a:chExt cx="2895480" cy="609480"/>
            </a:xfrm>
          </p:grpSpPr>
          <p:sp>
            <p:nvSpPr>
              <p:cNvPr id="635" name=""/>
              <p:cNvSpPr/>
              <p:nvPr/>
            </p:nvSpPr>
            <p:spPr>
              <a:xfrm>
                <a:off x="2743200" y="5562720"/>
                <a:ext cx="2895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Rapid growth, Too much debt, devalued currenc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43200" y="5562720"/>
                <a:ext cx="2895480" cy="6094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033640" y="5140440"/>
              <a:ext cx="1828440" cy="357120"/>
              <a:chOff x="2033640" y="5140440"/>
              <a:chExt cx="1828440" cy="357120"/>
            </a:xfrm>
          </p:grpSpPr>
          <p:sp>
            <p:nvSpPr>
              <p:cNvPr id="638" name=""/>
              <p:cNvSpPr/>
              <p:nvPr/>
            </p:nvSpPr>
            <p:spPr>
              <a:xfrm>
                <a:off x="2145600" y="5143680"/>
                <a:ext cx="1596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 Black"/>
                  </a:rPr>
                  <a:t>Hyper infl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33640" y="5140440"/>
                <a:ext cx="1828440" cy="3571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 flipV="1">
              <a:off x="1752480" y="4129200"/>
              <a:ext cx="457200" cy="1014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362320" y="548640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2362320" y="586728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ood security problem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676160" y="3809880"/>
            <a:ext cx="1371960" cy="1185840"/>
            <a:chOff x="1676160" y="3809880"/>
            <a:chExt cx="1371960" cy="1185840"/>
          </a:xfrm>
        </p:grpSpPr>
        <p:grpSp>
          <p:nvGrpSpPr>
            <p:cNvPr id="645" name=""/>
            <p:cNvGrpSpPr/>
            <p:nvPr/>
          </p:nvGrpSpPr>
          <p:grpSpPr>
            <a:xfrm>
              <a:off x="1828800" y="4343400"/>
              <a:ext cx="1219320" cy="652320"/>
              <a:chOff x="1828800" y="4343400"/>
              <a:chExt cx="1219320" cy="65232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4343400"/>
                <a:ext cx="1219320" cy="6523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900440" y="4395600"/>
                <a:ext cx="1069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Hype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nfl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 flipH="1" flipV="1">
              <a:off x="1676160" y="38098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2520" y="1371600"/>
            <a:ext cx="7967520" cy="1465920"/>
            <a:chOff x="362520" y="1371600"/>
            <a:chExt cx="7967520" cy="1465920"/>
          </a:xfrm>
        </p:grpSpPr>
        <p:sp>
          <p:nvSpPr>
            <p:cNvPr id="650" name=""/>
            <p:cNvSpPr/>
            <p:nvPr/>
          </p:nvSpPr>
          <p:spPr>
            <a:xfrm flipV="1">
              <a:off x="1793880" y="1447920"/>
              <a:ext cx="0" cy="366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7920" y="1371600"/>
              <a:ext cx="1752120" cy="703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Inability 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prepare f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2520" y="1828800"/>
              <a:ext cx="2801880" cy="1008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Improper food bas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600" spc="-1" strike="noStrike">
                  <a:solidFill>
                    <a:srgbClr val="0066cc"/>
                  </a:solidFill>
                  <a:latin typeface="Times New Roman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calorific 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600" spc="-1" strike="noStrike">
                  <a:solidFill>
                    <a:srgbClr val="0066cc"/>
                  </a:solidFill>
                  <a:latin typeface="Times New Roman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palat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110200" y="1523880"/>
              <a:ext cx="1316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172200" y="2246040"/>
            <a:ext cx="2761920" cy="3670200"/>
            <a:chOff x="6172200" y="2246040"/>
            <a:chExt cx="2761920" cy="3670200"/>
          </a:xfrm>
        </p:grpSpPr>
        <p:grpSp>
          <p:nvGrpSpPr>
            <p:cNvPr id="655" name=""/>
            <p:cNvGrpSpPr/>
            <p:nvPr/>
          </p:nvGrpSpPr>
          <p:grpSpPr>
            <a:xfrm>
              <a:off x="7461360" y="2567160"/>
              <a:ext cx="1447920" cy="1647360"/>
              <a:chOff x="7461360" y="2567160"/>
              <a:chExt cx="1447920" cy="1647360"/>
            </a:xfrm>
          </p:grpSpPr>
          <p:sp>
            <p:nvSpPr>
              <p:cNvPr id="656" name=""/>
              <p:cNvSpPr/>
              <p:nvPr/>
            </p:nvSpPr>
            <p:spPr>
              <a:xfrm>
                <a:off x="7461360" y="2567160"/>
                <a:ext cx="1447920" cy="16473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03560" y="2585880"/>
                <a:ext cx="1270440" cy="14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Wome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spending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too much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tim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collecting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firewo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V="1">
              <a:off x="6858000" y="2246040"/>
              <a:ext cx="0" cy="33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7105680" y="5029200"/>
              <a:ext cx="1828440" cy="887040"/>
              <a:chOff x="7105680" y="5029200"/>
              <a:chExt cx="1828440" cy="887040"/>
            </a:xfrm>
          </p:grpSpPr>
          <p:sp>
            <p:nvSpPr>
              <p:cNvPr id="660" name=""/>
              <p:cNvSpPr/>
              <p:nvPr/>
            </p:nvSpPr>
            <p:spPr>
              <a:xfrm>
                <a:off x="7260480" y="5049720"/>
                <a:ext cx="166356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Fuel far away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in insecur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farmla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5680" y="5029200"/>
                <a:ext cx="1828440" cy="88704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8001000" y="226008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172200" y="2568600"/>
              <a:ext cx="1066680" cy="415440"/>
              <a:chOff x="6172200" y="2568600"/>
              <a:chExt cx="1066680" cy="415440"/>
            </a:xfrm>
          </p:grpSpPr>
          <p:sp>
            <p:nvSpPr>
              <p:cNvPr id="664" name=""/>
              <p:cNvSpPr/>
              <p:nvPr/>
            </p:nvSpPr>
            <p:spPr>
              <a:xfrm>
                <a:off x="6172200" y="2584080"/>
                <a:ext cx="1066680" cy="3999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80560" y="2568600"/>
                <a:ext cx="88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Sto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V="1">
              <a:off x="8001000" y="4238640"/>
              <a:ext cx="0" cy="78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52280" y="3068280"/>
            <a:ext cx="1828800" cy="3007080"/>
            <a:chOff x="152280" y="3068280"/>
            <a:chExt cx="1828800" cy="3007080"/>
          </a:xfrm>
        </p:grpSpPr>
        <p:sp>
          <p:nvSpPr>
            <p:cNvPr id="668" name=""/>
            <p:cNvSpPr/>
            <p:nvPr/>
          </p:nvSpPr>
          <p:spPr>
            <a:xfrm>
              <a:off x="152280" y="5205240"/>
              <a:ext cx="1828800" cy="33660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152280" y="3068280"/>
              <a:ext cx="1828800" cy="3007080"/>
              <a:chOff x="152280" y="3068280"/>
              <a:chExt cx="1828800" cy="3007080"/>
            </a:xfrm>
          </p:grpSpPr>
          <p:sp>
            <p:nvSpPr>
              <p:cNvPr id="670" name=""/>
              <p:cNvSpPr/>
              <p:nvPr/>
            </p:nvSpPr>
            <p:spPr>
              <a:xfrm>
                <a:off x="152280" y="5738760"/>
                <a:ext cx="1828800" cy="3366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1" name=""/>
              <p:cNvGrpSpPr/>
              <p:nvPr/>
            </p:nvGrpSpPr>
            <p:grpSpPr>
              <a:xfrm>
                <a:off x="152280" y="3068280"/>
                <a:ext cx="1777680" cy="2991600"/>
                <a:chOff x="152280" y="3068280"/>
                <a:chExt cx="1777680" cy="299160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152280" y="3281400"/>
                  <a:ext cx="1545840" cy="861840"/>
                  <a:chOff x="152280" y="3281400"/>
                  <a:chExt cx="1545840" cy="86184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152280" y="3281400"/>
                    <a:ext cx="1543320" cy="86184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50920" y="3281400"/>
                    <a:ext cx="1447200" cy="75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66cc"/>
                        </a:solidFill>
                        <a:latin typeface="Arial Black"/>
                      </a:rPr>
                      <a:t>Low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66cc"/>
                        </a:solidFill>
                        <a:latin typeface="Arial Black"/>
                      </a:rPr>
                      <a:t>purchasing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66cc"/>
                        </a:solidFill>
                        <a:latin typeface="Arial Black"/>
                      </a:rPr>
                      <a:t>powe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5" name=""/>
                <p:cNvSpPr/>
                <p:nvPr/>
              </p:nvSpPr>
              <p:spPr>
                <a:xfrm>
                  <a:off x="213120" y="5213520"/>
                  <a:ext cx="17168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Theft en rou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35800" y="5746680"/>
                  <a:ext cx="166500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War econom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173160" y="4343400"/>
                  <a:ext cx="1395360" cy="652320"/>
                  <a:chOff x="173160" y="4343400"/>
                  <a:chExt cx="1395360" cy="6523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253800" y="4422600"/>
                    <a:ext cx="1314720" cy="53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66cc"/>
                        </a:solidFill>
                        <a:latin typeface="Arial Black"/>
                      </a:rPr>
                      <a:t>Few other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66cc"/>
                        </a:solidFill>
                        <a:latin typeface="Arial Black"/>
                      </a:rPr>
                      <a:t>asset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173160" y="4343400"/>
                    <a:ext cx="1392120" cy="65232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 flipV="1">
                  <a:off x="838080" y="30682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838080" y="41320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838080" y="499392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838080" y="55479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4" name=""/>
          <p:cNvGrpSpPr/>
          <p:nvPr/>
        </p:nvGrpSpPr>
        <p:grpSpPr>
          <a:xfrm>
            <a:off x="2819160" y="2471760"/>
            <a:ext cx="4343760" cy="3600000"/>
            <a:chOff x="2819160" y="2471760"/>
            <a:chExt cx="4343760" cy="3600000"/>
          </a:xfrm>
        </p:grpSpPr>
        <p:grpSp>
          <p:nvGrpSpPr>
            <p:cNvPr id="685" name=""/>
            <p:cNvGrpSpPr/>
            <p:nvPr/>
          </p:nvGrpSpPr>
          <p:grpSpPr>
            <a:xfrm>
              <a:off x="4726080" y="2819520"/>
              <a:ext cx="1184400" cy="664560"/>
              <a:chOff x="4726080" y="2819520"/>
              <a:chExt cx="1184400" cy="664560"/>
            </a:xfrm>
          </p:grpSpPr>
          <p:sp>
            <p:nvSpPr>
              <p:cNvPr id="686" name=""/>
              <p:cNvSpPr/>
              <p:nvPr/>
            </p:nvSpPr>
            <p:spPr>
              <a:xfrm>
                <a:off x="4726080" y="2827080"/>
                <a:ext cx="1184400" cy="6570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94480" y="2819520"/>
                <a:ext cx="10980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ipelin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delay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 flipV="1">
              <a:off x="3373560" y="2471760"/>
              <a:ext cx="1350720" cy="65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4724280" y="4245120"/>
              <a:ext cx="2438640" cy="1718280"/>
              <a:chOff x="4724280" y="4245120"/>
              <a:chExt cx="2438640" cy="1718280"/>
            </a:xfrm>
          </p:grpSpPr>
          <p:sp>
            <p:nvSpPr>
              <p:cNvPr id="690" name=""/>
              <p:cNvSpPr/>
              <p:nvPr/>
            </p:nvSpPr>
            <p:spPr>
              <a:xfrm>
                <a:off x="4724280" y="4276440"/>
                <a:ext cx="2438640" cy="168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Transporte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contractu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proble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lost paper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auditor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1600" spc="-1" strike="noStrike">
                    <a:solidFill>
                      <a:srgbClr val="ff0000"/>
                    </a:solidFill>
                    <a:latin typeface="Times New Roman"/>
                  </a:rPr>
                  <a:t>• 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 Black"/>
                  </a:rPr>
                  <a:t>unpaid invo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0840" y="4245120"/>
                <a:ext cx="2221560" cy="17182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 flipV="1">
              <a:off x="5334120" y="347940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2819160" y="3068640"/>
              <a:ext cx="1635840" cy="3003120"/>
              <a:chOff x="2819160" y="3068640"/>
              <a:chExt cx="1635840" cy="300312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2819520" y="3535200"/>
                <a:ext cx="1447920" cy="652680"/>
                <a:chOff x="2819520" y="3535200"/>
                <a:chExt cx="1447920" cy="6526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2819520" y="3535200"/>
                  <a:ext cx="144792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928960" y="3552840"/>
                  <a:ext cx="12855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No loca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purch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992320" y="5443560"/>
                <a:ext cx="1462680" cy="628200"/>
                <a:chOff x="2992320" y="5443560"/>
                <a:chExt cx="1462680" cy="6282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094560" y="5478120"/>
                  <a:ext cx="136044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Security i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cc"/>
                      </a:solidFill>
                      <a:latin typeface="Arial Black"/>
                    </a:rPr>
                    <a:t>lowland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992320" y="5443560"/>
                  <a:ext cx="1447920" cy="6282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 flipH="1" flipV="1">
                <a:off x="2819160" y="3068640"/>
                <a:ext cx="5331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505320" y="4185720"/>
                <a:ext cx="0" cy="1274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 flipV="1">
              <a:off x="3886200" y="3471480"/>
              <a:ext cx="858960" cy="200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52280" y="1143000"/>
            <a:ext cx="4918320" cy="45720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dignity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Programme plann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gramme planning should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be a </a:t>
            </a:r>
            <a:r>
              <a:rPr b="0" lang="en-GB" sz="3600" spc="-1" strike="noStrike">
                <a:solidFill>
                  <a:srgbClr val="0066cc"/>
                </a:solidFill>
                <a:latin typeface="Arial Black"/>
                <a:ea typeface="Times New Roman"/>
              </a:rPr>
              <a:t>coordinated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effort to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ulfil a strategy resulting in  desired impacts – a life with dignity for all programme participant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A coordination tool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1981080"/>
            <a:ext cx="1600200" cy="411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00200" y="1981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munity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34920" y="21337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 Black"/>
              </a:rPr>
              <a:t>RESOURCES</a:t>
            </a:r>
            <a:r>
              <a:rPr b="0" lang="en-US" sz="2400" spc="-1" strike="noStrike">
                <a:solidFill>
                  <a:srgbClr val="0066cc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0200" y="265284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Government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0200" y="32767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00200" y="39625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.O.O.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4572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d Cros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1055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omistani Sist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00200" y="54864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onor 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174840" y="2590920"/>
            <a:ext cx="5651640" cy="3530520"/>
            <a:chOff x="3174840" y="2590920"/>
            <a:chExt cx="5651640" cy="3530520"/>
          </a:xfrm>
        </p:grpSpPr>
        <p:pic>
          <p:nvPicPr>
            <p:cNvPr id="717" name="" descr=""/>
            <p:cNvPicPr/>
            <p:nvPr/>
          </p:nvPicPr>
          <p:blipFill>
            <a:blip r:embed="rId1"/>
            <a:stretch/>
          </p:blipFill>
          <p:spPr>
            <a:xfrm>
              <a:off x="4673520" y="25909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"/>
            <a:stretch/>
          </p:blipFill>
          <p:spPr>
            <a:xfrm>
              <a:off x="5359320" y="31878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3"/>
            <a:stretch/>
          </p:blipFill>
          <p:spPr>
            <a:xfrm>
              <a:off x="6730920" y="25909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4"/>
            <a:stretch/>
          </p:blipFill>
          <p:spPr>
            <a:xfrm>
              <a:off x="3174840" y="26035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5"/>
            <a:stretch/>
          </p:blipFill>
          <p:spPr>
            <a:xfrm>
              <a:off x="3174840" y="379728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6"/>
            <a:stretch/>
          </p:blipFill>
          <p:spPr>
            <a:xfrm>
              <a:off x="3174840" y="54864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7"/>
            <a:stretch/>
          </p:blipFill>
          <p:spPr>
            <a:xfrm>
              <a:off x="3936960" y="54864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8"/>
            <a:stretch/>
          </p:blipFill>
          <p:spPr>
            <a:xfrm>
              <a:off x="4660920" y="50292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9"/>
            <a:stretch/>
          </p:blipFill>
          <p:spPr>
            <a:xfrm>
              <a:off x="7429680" y="50292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0"/>
            <a:stretch/>
          </p:blipFill>
          <p:spPr>
            <a:xfrm>
              <a:off x="7442280" y="443232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11"/>
            <a:stretch/>
          </p:blipFill>
          <p:spPr>
            <a:xfrm>
              <a:off x="8166240" y="4432320"/>
              <a:ext cx="66024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8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12880" y="114300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 Black"/>
              </a:rPr>
              <a:t>Gap Identification Worksheet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2408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3880" y="1981080"/>
            <a:ext cx="7315200" cy="41148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341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57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15328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8132600">
            <a:off x="2971800" y="99036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oads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8034800">
            <a:off x="3733920" y="94716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o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8063600">
            <a:off x="4495680" y="94716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Water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18004800">
            <a:off x="5181480" y="990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Security</a:t>
            </a:r>
            <a:br>
              <a:rPr sz="1600"/>
            </a:b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8004200">
            <a:off x="5867280" y="990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She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7844000">
            <a:off x="6553440" y="990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7769000">
            <a:off x="7314840" y="99000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Black"/>
              </a:rPr>
              <a:t>Medic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7720400">
            <a:off x="8055720" y="1245240"/>
            <a:ext cx="10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25909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238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523880" y="38098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23880" y="441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50292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56386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00200" y="3352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NHCR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1143000"/>
            <a:ext cx="10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EE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Logic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762120" y="2209680"/>
            <a:ext cx="2895480" cy="3886200"/>
            <a:chOff x="762120" y="2209680"/>
            <a:chExt cx="2895480" cy="3886200"/>
          </a:xfrm>
        </p:grpSpPr>
        <p:sp>
          <p:nvSpPr>
            <p:cNvPr id="757" name=""/>
            <p:cNvSpPr/>
            <p:nvPr/>
          </p:nvSpPr>
          <p:spPr>
            <a:xfrm>
              <a:off x="762120" y="220968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cc"/>
                  </a:solidFill>
                  <a:latin typeface="Arial Black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274320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Effect, </a:t>
              </a:r>
              <a:br>
                <a:rPr sz="1600"/>
              </a:b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or outcome, </a:t>
              </a:r>
              <a:br>
                <a:rPr sz="1600"/>
              </a:b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or 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120" y="358128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cc"/>
                  </a:solidFill>
                  <a:latin typeface="Arial Black"/>
                </a:rPr>
                <a:t>Expected </a:t>
              </a:r>
              <a:br>
                <a:rPr sz="2000"/>
              </a:br>
              <a:r>
                <a:rPr b="0" lang="en-US" sz="2000" spc="-1" strike="noStrike">
                  <a:solidFill>
                    <a:srgbClr val="0066cc"/>
                  </a:solidFill>
                  <a:latin typeface="Arial Black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2120" y="449568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cc"/>
                  </a:solidFill>
                  <a:latin typeface="Arial Black"/>
                </a:rPr>
                <a:t>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2120" y="5257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cc"/>
                  </a:solidFill>
                  <a:latin typeface="Arial Black"/>
                </a:rPr>
                <a:t>Inpu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438280" y="1219320"/>
            <a:ext cx="6096240" cy="1295280"/>
            <a:chOff x="2438280" y="1219320"/>
            <a:chExt cx="6096240" cy="1295280"/>
          </a:xfrm>
        </p:grpSpPr>
        <p:sp>
          <p:nvSpPr>
            <p:cNvPr id="763" name=""/>
            <p:cNvSpPr/>
            <p:nvPr/>
          </p:nvSpPr>
          <p:spPr>
            <a:xfrm>
              <a:off x="3962520" y="121932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Objectively </a:t>
              </a:r>
              <a:br>
                <a:rPr sz="1600"/>
              </a:b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verifiable </a:t>
              </a:r>
              <a:br>
                <a:rPr sz="1600"/>
              </a:b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indi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934320" y="121932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Risks, hypothesis, assum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38280" y="1371600"/>
              <a:ext cx="1447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Narrative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10080" y="1371600"/>
              <a:ext cx="1524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 Black"/>
                </a:rPr>
                <a:t>Sources of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62120" y="1295280"/>
            <a:ext cx="7772400" cy="4572000"/>
            <a:chOff x="762120" y="1295280"/>
            <a:chExt cx="7772400" cy="4572000"/>
          </a:xfrm>
        </p:grpSpPr>
        <p:grpSp>
          <p:nvGrpSpPr>
            <p:cNvPr id="768" name=""/>
            <p:cNvGrpSpPr/>
            <p:nvPr/>
          </p:nvGrpSpPr>
          <p:grpSpPr>
            <a:xfrm>
              <a:off x="762120" y="1295280"/>
              <a:ext cx="7772400" cy="4572000"/>
              <a:chOff x="762120" y="1295280"/>
              <a:chExt cx="7772400" cy="4572000"/>
            </a:xfrm>
          </p:grpSpPr>
          <p:sp>
            <p:nvSpPr>
              <p:cNvPr id="769" name=""/>
              <p:cNvSpPr/>
              <p:nvPr/>
            </p:nvSpPr>
            <p:spPr>
              <a:xfrm>
                <a:off x="2505240" y="2133720"/>
                <a:ext cx="6019560" cy="3733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762120" y="1295280"/>
                <a:ext cx="7772400" cy="4572000"/>
                <a:chOff x="762120" y="1295280"/>
                <a:chExt cx="7772400" cy="45720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762120" y="2111400"/>
                  <a:ext cx="7772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62120" y="1295280"/>
                  <a:ext cx="7772400" cy="45720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62120" y="3648240"/>
                  <a:ext cx="7772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62120" y="4419720"/>
                  <a:ext cx="7772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62120" y="5159520"/>
                  <a:ext cx="7772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62120" y="2841480"/>
                  <a:ext cx="7772400" cy="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2482920" y="1295280"/>
              <a:ext cx="0" cy="457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86200" y="1295280"/>
              <a:ext cx="0" cy="457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10080" y="1295280"/>
              <a:ext cx="0" cy="457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34320" y="1295280"/>
              <a:ext cx="0" cy="457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934360" y="1996920"/>
            <a:ext cx="5828760" cy="3821400"/>
            <a:chOff x="2934360" y="1996920"/>
            <a:chExt cx="5828760" cy="3821400"/>
          </a:xfrm>
        </p:grpSpPr>
        <p:grpSp>
          <p:nvGrpSpPr>
            <p:cNvPr id="782" name=""/>
            <p:cNvGrpSpPr/>
            <p:nvPr/>
          </p:nvGrpSpPr>
          <p:grpSpPr>
            <a:xfrm>
              <a:off x="2934360" y="1996920"/>
              <a:ext cx="5828760" cy="3821400"/>
              <a:chOff x="2934360" y="1996920"/>
              <a:chExt cx="5828760" cy="382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5410080" y="3902040"/>
                <a:ext cx="33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cc"/>
                    </a:solidFill>
                    <a:latin typeface="Arial Black"/>
                  </a:rPr>
                  <a:t>Key indicator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10080" y="31399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cc"/>
                    </a:solidFill>
                    <a:latin typeface="Arial Black"/>
                  </a:rPr>
                  <a:t>Standard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72000" y="1996920"/>
                <a:ext cx="24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cc"/>
                    </a:solidFill>
                    <a:latin typeface="Arial Black"/>
                  </a:rPr>
                  <a:t>Chart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90760" y="2133720"/>
                <a:ext cx="1204920" cy="407880"/>
              </a:xfrm>
              <a:prstGeom prst="leftArrow">
                <a:avLst>
                  <a:gd name="adj1" fmla="val 50000"/>
                  <a:gd name="adj2" fmla="val 73853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09880" y="3173400"/>
                <a:ext cx="1106640" cy="407880"/>
              </a:xfrm>
              <a:prstGeom prst="leftArrow">
                <a:avLst>
                  <a:gd name="adj1" fmla="val 50000"/>
                  <a:gd name="adj2" fmla="val 6782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 rot="8977800">
                <a:off x="5826960" y="4722840"/>
                <a:ext cx="802080" cy="451080"/>
              </a:xfrm>
              <a:prstGeom prst="leftArrow">
                <a:avLst>
                  <a:gd name="adj1" fmla="val 50000"/>
                  <a:gd name="adj2" fmla="val 44453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00400" y="5410080"/>
                <a:ext cx="990720" cy="408240"/>
              </a:xfrm>
              <a:prstGeom prst="leftArrow">
                <a:avLst>
                  <a:gd name="adj1" fmla="val 50000"/>
                  <a:gd name="adj2" fmla="val 6067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08160" y="3809880"/>
                <a:ext cx="1106640" cy="408240"/>
              </a:xfrm>
              <a:prstGeom prst="leftArrow">
                <a:avLst>
                  <a:gd name="adj1" fmla="val 50000"/>
                  <a:gd name="adj2" fmla="val 6776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379760" y="3782880"/>
                <a:ext cx="1106640" cy="408240"/>
              </a:xfrm>
              <a:prstGeom prst="leftArrow">
                <a:avLst>
                  <a:gd name="adj1" fmla="val 50000"/>
                  <a:gd name="adj2" fmla="val 6776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51800">
                <a:off x="3047760" y="4876560"/>
                <a:ext cx="990360" cy="407880"/>
              </a:xfrm>
              <a:prstGeom prst="leftArrow">
                <a:avLst>
                  <a:gd name="adj1" fmla="val 50000"/>
                  <a:gd name="adj2" fmla="val 60702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51800">
                <a:off x="3749400" y="2636640"/>
                <a:ext cx="1371600" cy="457200"/>
              </a:xfrm>
              <a:prstGeom prst="leftArrow">
                <a:avLst>
                  <a:gd name="adj1" fmla="val 50000"/>
                  <a:gd name="adj2" fmla="val 7500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51800">
                <a:off x="4952520" y="3505320"/>
                <a:ext cx="990720" cy="407880"/>
              </a:xfrm>
              <a:prstGeom prst="leftArrow">
                <a:avLst>
                  <a:gd name="adj1" fmla="val 50000"/>
                  <a:gd name="adj2" fmla="val 60724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 rot="20454600">
                <a:off x="2971440" y="4191120"/>
                <a:ext cx="1371600" cy="457200"/>
              </a:xfrm>
              <a:prstGeom prst="leftArrow">
                <a:avLst>
                  <a:gd name="adj1" fmla="val 50000"/>
                  <a:gd name="adj2" fmla="val 7500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62520" y="50292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cc"/>
                  </a:solidFill>
                  <a:latin typeface="Arial Black"/>
                </a:rPr>
                <a:t>Guidance no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Summary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indicator and justif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 levels of response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 what programmes can achiev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 common language to enable 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Sphere and Monitoring </a:t>
            </a:r>
            <a:br>
              <a:rPr sz="36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and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lect and apply priority key indicator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he Sphere handbook to a specific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iscuss and contrast key elements of monitor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327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how to set up a monitoring system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 humanitaria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lect, adapt and `operationalise’ indicator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 specific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how emergency situations constr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onitoring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itch ca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1800" y="13716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0066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814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816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50640" y="1218960"/>
                <a:ext cx="135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 Black"/>
                  </a:rPr>
                  <a:t>Dis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1523880" y="1241280"/>
            <a:ext cx="7010640" cy="4016520"/>
            <a:chOff x="1523880" y="1241280"/>
            <a:chExt cx="7010640" cy="4016520"/>
          </a:xfrm>
        </p:grpSpPr>
        <p:sp>
          <p:nvSpPr>
            <p:cNvPr id="819" name=""/>
            <p:cNvSpPr/>
            <p:nvPr/>
          </p:nvSpPr>
          <p:spPr>
            <a:xfrm>
              <a:off x="1523880" y="2133720"/>
              <a:ext cx="2362320" cy="11430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Monitor</a:t>
              </a:r>
              <a:br>
                <a:rPr sz="3200"/>
              </a:b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cc99"/>
                  </a:solidFill>
                  <a:latin typeface="Arial"/>
                </a:rPr>
                <a:t>Evalu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34120" y="4114800"/>
              <a:ext cx="2666880" cy="11430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Plan, design</a:t>
              </a:r>
              <a:br>
                <a:rPr sz="3200"/>
              </a:br>
              <a:r>
                <a:rPr b="1" lang="en-US" sz="3200" spc="-1" strike="noStrike">
                  <a:solidFill>
                    <a:srgbClr val="00cc99"/>
                  </a:solidFill>
                  <a:latin typeface="Arial"/>
                </a:rPr>
                <a:t>Redesig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4800" y="4343400"/>
              <a:ext cx="1143000" cy="533520"/>
            </a:xfrm>
            <a:prstGeom prst="leftArrow">
              <a:avLst>
                <a:gd name="adj1" fmla="val 50000"/>
                <a:gd name="adj2" fmla="val 535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Ass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6520" y="4267080"/>
              <a:ext cx="2361960" cy="76212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3080" y="2514600"/>
              <a:ext cx="1981440" cy="76212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Analy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400000">
              <a:off x="1562040" y="3467160"/>
              <a:ext cx="914400" cy="533520"/>
            </a:xfrm>
            <a:prstGeom prst="leftArrow">
              <a:avLst>
                <a:gd name="adj1" fmla="val 50000"/>
                <a:gd name="adj2" fmla="val 428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rot="10800000">
              <a:off x="6628320" y="1523880"/>
              <a:ext cx="1143000" cy="914400"/>
            </a:xfrm>
            <a:custGeom>
              <a:avLst/>
              <a:gdLst>
                <a:gd name="textAreaLeft" fmla="*/ 380520 w 1143000"/>
                <a:gd name="textAreaRight" fmla="*/ 978840 w 1143000"/>
                <a:gd name="textAreaTop" fmla="*/ 526680 h 914400"/>
                <a:gd name="textAreaBottom" fmla="*/ 7833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8178800">
              <a:off x="6781680" y="3504600"/>
              <a:ext cx="685800" cy="533520"/>
            </a:xfrm>
            <a:prstGeom prst="leftArrow">
              <a:avLst>
                <a:gd name="adj1" fmla="val 50000"/>
                <a:gd name="adj2" fmla="val 3213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0800000">
              <a:off x="4114800" y="2438280"/>
              <a:ext cx="2362320" cy="533520"/>
            </a:xfrm>
            <a:prstGeom prst="leftArrow">
              <a:avLst>
                <a:gd name="adj1" fmla="val 50000"/>
                <a:gd name="adj2" fmla="val 11069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6800" y="33526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7200" spc="-1" strike="noStrike">
                <a:solidFill>
                  <a:srgbClr val="0066cc"/>
                </a:solidFill>
                <a:latin typeface="Arial"/>
              </a:rPr>
              <a:t>inform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 continuous and systematic process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of recording, collecting, measuring, analysing and 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609480" y="1219320"/>
            <a:ext cx="7925040" cy="1447560"/>
            <a:chOff x="609480" y="1219320"/>
            <a:chExt cx="7925040" cy="1447560"/>
          </a:xfrm>
        </p:grpSpPr>
        <p:sp>
          <p:nvSpPr>
            <p:cNvPr id="834" name=""/>
            <p:cNvSpPr/>
            <p:nvPr/>
          </p:nvSpPr>
          <p:spPr>
            <a:xfrm>
              <a:off x="609480" y="1219320"/>
              <a:ext cx="3886200" cy="1447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48320" y="1219320"/>
              <a:ext cx="3886200" cy="1447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523880"/>
            <a:ext cx="7696080" cy="609840"/>
            <a:chOff x="762120" y="1523880"/>
            <a:chExt cx="7696080" cy="609840"/>
          </a:xfrm>
        </p:grpSpPr>
        <p:sp>
          <p:nvSpPr>
            <p:cNvPr id="838" name=""/>
            <p:cNvSpPr/>
            <p:nvPr/>
          </p:nvSpPr>
          <p:spPr>
            <a:xfrm>
              <a:off x="762120" y="1523880"/>
              <a:ext cx="3733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rogress of project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24280" y="1523880"/>
              <a:ext cx="3733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velopments in the project enviro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85800" y="4419720"/>
            <a:ext cx="7772400" cy="1600200"/>
            <a:chOff x="685800" y="4419720"/>
            <a:chExt cx="7772400" cy="1600200"/>
          </a:xfrm>
        </p:grpSpPr>
        <p:sp>
          <p:nvSpPr>
            <p:cNvPr id="841" name=""/>
            <p:cNvSpPr/>
            <p:nvPr/>
          </p:nvSpPr>
          <p:spPr>
            <a:xfrm>
              <a:off x="838080" y="45720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800" spc="-1" strike="noStrike">
                  <a:solidFill>
                    <a:srgbClr val="0066cc"/>
                  </a:solidFill>
                  <a:latin typeface="Arial"/>
                </a:rPr>
                <a:t>Analysis of interaction between:</a:t>
              </a:r>
              <a:br>
                <a:rPr sz="2800"/>
              </a:br>
              <a:r>
                <a:rPr b="1" lang="en-GB" sz="4800" spc="-1" strike="noStrike">
                  <a:solidFill>
                    <a:srgbClr val="0066cc"/>
                  </a:solidFill>
                  <a:latin typeface="Arial"/>
                </a:rPr>
                <a:t>project   </a:t>
              </a:r>
              <a:r>
                <a:rPr b="1" lang="en-GB" sz="2800" spc="-1" strike="noStrike">
                  <a:solidFill>
                    <a:srgbClr val="0066cc"/>
                  </a:solidFill>
                  <a:latin typeface="Arial"/>
                </a:rPr>
                <a:t>and     </a:t>
              </a:r>
              <a:r>
                <a:rPr b="1" lang="en-GB" sz="4800" spc="-1" strike="noStrike">
                  <a:solidFill>
                    <a:srgbClr val="0066cc"/>
                  </a:solidFill>
                  <a:latin typeface="Arial"/>
                </a:rPr>
                <a:t>environmen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5800" y="4419720"/>
              <a:ext cx="7772400" cy="16002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 flipV="1">
            <a:off x="609480" y="2742120"/>
            <a:ext cx="792504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Guiding principles for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6800" y="1523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es on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minimal inform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quired fo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each level of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6800" y="2666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l forms of commun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verbal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written, formal, 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6800" y="3809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participatory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680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s an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obligation to a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operationa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and strategic implications of inform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Evalua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66800" y="274320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policy and practice</a:t>
            </a:r>
            <a:br>
              <a:rPr sz="32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hance 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ystematic and impartial examination of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itarian action intended to draw lessons to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difference between M&amp;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66800" y="297180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no universal agreement as to what ground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the terms monitoring, review and evaluation shoul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cover (…). The important thing is to gain agree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on basic principles and definitions with those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agencies and individuals you work with directly.”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. Broughton &amp; J. Hampshire)</a:t>
            </a:r>
            <a:br>
              <a:rPr sz="24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Monitoring and evaluation are different processes but can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“ …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a small set of data,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 ... usually easy or cost-effective to collect,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highly correlated with other data, 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and from which much useful and trustworthy conclusions can be derived quickly.”  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(UND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perationalise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will the data be collected from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will collect i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ill it be collected, and how frequentl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the data be collected and stor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3657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will analyse the dat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" y="4267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it be report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" y="4876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ill management decisions be mad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based on the monitoring repor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Sphere says about M&amp;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66800" y="17524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mmon standard 5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2120" y="281952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mmon standard 6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59320" y="1676520"/>
            <a:ext cx="302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Arial Black"/>
              </a:rPr>
              <a:t>Monitoring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51400" y="2743200"/>
            <a:ext cx="304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Arial Black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6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Beyond the project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Context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800" y="1371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conomic, social, pol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6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limate and 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6800" y="2743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Organis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6800" y="3429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ultural, psych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6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6800" y="4800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5486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etal norms and local coping capa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identify which of those issues could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addressed by using the Sphere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list 10 critical issues facing th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humanitaria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2002 ALNAP 10 performanc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1219320"/>
            <a:ext cx="350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7432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35812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ion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480060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genous cop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strateg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0" y="1219320"/>
            <a:ext cx="350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274320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ief to development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0" y="35812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9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19720" y="480060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0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-bas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plann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Barriers to coordination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reat to aut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 for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measures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accountabi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“ </a:t>
            </a: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The responsibility to demonstrate 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    to stakeholders, foremost of whom 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    are disaster-affected people, that 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    humanitarian assistance complies 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    with agreed standards.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Spher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Rwanda ca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152280" y="968400"/>
          <a:ext cx="617220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68400"/>
                    <a:ext cx="617220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BREA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Information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828800"/>
            <a:ext cx="2209680" cy="3581280"/>
            <a:chOff x="0" y="1828800"/>
            <a:chExt cx="2209680" cy="3581280"/>
          </a:xfrm>
        </p:grpSpPr>
        <p:sp>
          <p:nvSpPr>
            <p:cNvPr id="61" name=""/>
            <p:cNvSpPr/>
            <p:nvPr/>
          </p:nvSpPr>
          <p:spPr>
            <a:xfrm>
              <a:off x="152280" y="2819520"/>
              <a:ext cx="16765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000" spc="-1" strike="noStrike">
                  <a:solidFill>
                    <a:srgbClr val="0066cc"/>
                  </a:solidFill>
                  <a:latin typeface="Arial"/>
                </a:rPr>
                <a:t>Attempts to gather and manage data and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28800"/>
              <a:ext cx="2209680" cy="35812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514600" y="1098720"/>
            <a:ext cx="6248520" cy="914400"/>
            <a:chOff x="2514600" y="1098720"/>
            <a:chExt cx="6248520" cy="914400"/>
          </a:xfrm>
        </p:grpSpPr>
        <p:sp>
          <p:nvSpPr>
            <p:cNvPr id="64" name=""/>
            <p:cNvSpPr/>
            <p:nvPr/>
          </p:nvSpPr>
          <p:spPr>
            <a:xfrm>
              <a:off x="2514600" y="109872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52680" y="1349640"/>
              <a:ext cx="5410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w priority for information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514600" y="5149800"/>
            <a:ext cx="6858000" cy="914400"/>
            <a:chOff x="2514600" y="5149800"/>
            <a:chExt cx="6858000" cy="914400"/>
          </a:xfrm>
        </p:grpSpPr>
        <p:sp>
          <p:nvSpPr>
            <p:cNvPr id="67" name=""/>
            <p:cNvSpPr/>
            <p:nvPr/>
          </p:nvSpPr>
          <p:spPr>
            <a:xfrm>
              <a:off x="2514600" y="514980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5378400"/>
              <a:ext cx="601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ck of skill and 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514600" y="4137120"/>
            <a:ext cx="6858000" cy="914400"/>
            <a:chOff x="2514600" y="4137120"/>
            <a:chExt cx="6858000" cy="914400"/>
          </a:xfrm>
        </p:grpSpPr>
        <p:sp>
          <p:nvSpPr>
            <p:cNvPr id="70" name=""/>
            <p:cNvSpPr/>
            <p:nvPr/>
          </p:nvSpPr>
          <p:spPr>
            <a:xfrm>
              <a:off x="2514600" y="413712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4365720"/>
              <a:ext cx="601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antitative b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514600" y="3124080"/>
            <a:ext cx="6248520" cy="914400"/>
            <a:chOff x="2514600" y="3124080"/>
            <a:chExt cx="6248520" cy="914400"/>
          </a:xfrm>
        </p:grpSpPr>
        <p:sp>
          <p:nvSpPr>
            <p:cNvPr id="73" name=""/>
            <p:cNvSpPr/>
            <p:nvPr/>
          </p:nvSpPr>
          <p:spPr>
            <a:xfrm>
              <a:off x="2514600" y="312408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3375000"/>
              <a:ext cx="5334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or feedback to collector and commun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14600" y="2111400"/>
            <a:ext cx="6248520" cy="914400"/>
            <a:chOff x="2514600" y="2111400"/>
            <a:chExt cx="6248520" cy="914400"/>
          </a:xfrm>
        </p:grpSpPr>
        <p:sp>
          <p:nvSpPr>
            <p:cNvPr id="76" name=""/>
            <p:cNvSpPr/>
            <p:nvPr/>
          </p:nvSpPr>
          <p:spPr>
            <a:xfrm>
              <a:off x="2514600" y="211140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361960"/>
              <a:ext cx="3048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w involv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The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Monitor</a:t>
            </a:r>
            <a:br>
              <a:rPr sz="3200"/>
            </a:b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lan, design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83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Ass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88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90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50640" y="1218960"/>
                <a:ext cx="135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 Black"/>
                  </a:rPr>
                  <a:t>Dis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3</a:t>
            </a:r>
            <a:br>
              <a:rPr sz="4400"/>
            </a:br>
            <a:br>
              <a:rPr sz="36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2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Using Sphere in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where assessment happens in the project cy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cribe what bias is and how it migh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influence assess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defin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rpose of assessment in th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humanitarian respon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scribe how standards and checklists c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enhance assessment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scribe the role of key indicators in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cognise that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- the project cycle is iterati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- assessment is a first stag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3-09-22T08:34:47Z</dcterms:modified>
  <cp:revision>286</cp:revision>
  <dc:subject/>
  <dc:title>No Slide Title</dc:title>
</cp:coreProperties>
</file>